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42E0-6E9C-4D91-97FD-D57B8B5B0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lanif séquentiell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séquence qui optimise le throughput est différentedu besoin cl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syst gère prio puis capa --&gt;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F20-40C2-4AFC-B458-7F1F7CE6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90360" y="376992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D55-FECE-47FE-967B-7B89B5E0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90360" y="37699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51160" y="37699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7AD-AA84-4FBE-B0AC-1FC103D4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69840" y="11430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49680" y="11430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90360" y="37699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69840" y="37699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49680" y="37699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DD1-2A4E-454A-8A6B-23F61F52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224-86AC-4913-8A6D-7C7B3C97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162-5453-457F-B045-3A1D25DC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A6F-B615-4565-960C-FF746FE5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0A9-2138-46C5-941C-7A8E5C3B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624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900-99A0-4A52-BF09-D9368D82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360" y="37699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524-B66C-4276-BC5B-F4688225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51160" y="37699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8BE-B161-4299-BAED-AEC06933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1160" y="11430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376992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AF9-65C1-469F-886D-CB557EC1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324480"/>
            <a:ext cx="8381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0"/>
            <a:ext cx="647676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762120" cy="579132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82400" y="6400800"/>
            <a:ext cx="2739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G JOSSEAU, CP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c0c0c0"/>
                </a:solidFill>
                <a:latin typeface="Arial"/>
              </a:rPr>
              <a:t>&lt;footer&gt;</a:t>
            </a:r>
            <a:r>
              <a:rPr b="0" lang="fr-FR" sz="1200" spc="-1" strike="noStrike">
                <a:solidFill>
                  <a:srgbClr val="c0c0c0"/>
                </a:solidFill>
                <a:latin typeface="Arial"/>
              </a:rPr>
              <a:t>SEE – Forum Batch Franco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Slide </a:t>
            </a:r>
            <a:fld id="{5564EF0C-2F57-4A58-B23F-9EFFD8A2BBDC}" type="slidenum">
              <a:rPr b="0" lang="en-US" sz="1200" spc="-1" strike="noStrike">
                <a:solidFill>
                  <a:srgbClr val="c0c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6324480"/>
            <a:ext cx="815328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915400" y="1066680"/>
            <a:ext cx="231840" cy="578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762120" cy="1066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904240" y="1076400"/>
            <a:ext cx="0" cy="525780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6800" y="1085760"/>
            <a:ext cx="8153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74720" y="1081080"/>
            <a:ext cx="3240" cy="5265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5400000">
            <a:off x="-114480" y="266400"/>
            <a:ext cx="914400" cy="6858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 txBox="1"/>
          <p:nvPr/>
        </p:nvSpPr>
        <p:spPr>
          <a:xfrm>
            <a:off x="7605720" y="128520"/>
            <a:ext cx="12794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B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</a:rPr>
              <a:t>Quels outils pour accroître la réactivité ?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ilbert JOSS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PIM de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oissy, le 20 janvier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575-1021-492A-BC14-3750227CA7F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janvi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ERP et Procédé Batch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29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blématique du PIC en bat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besoins globaux en ressources sont calcul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ppel : process en général en trois é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capacité des ressources amont est modélisable en utilisant une macro-gamme, m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synchronisation ne peut pas être représent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iculté à gérer financièrement les sous-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iculté à gérer la synchronisation des co-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iculté à gérer le multi-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97280" y="68580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352-B849-460A-9821-A45499EEA3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janvi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ERP et Procédé Batch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29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blématique des PIC/PDP en bat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anning multi-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anning avec multi-sou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anification séquentielle optimis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illes de 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raintes de sto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stion des co-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oix des procédés d ’ob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97280" y="68580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545-20E6-450B-A4A6-88F80579A3F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janvi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ERP et Procédé Batch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29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de Problématique du PDP en b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besoins identifiés portent sur les produits fi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cul classique appli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système sait positionner le besoin en composant d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a des difficultés à définir les affectations du lot de dé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97280" y="68580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22480" y="5753160"/>
            <a:ext cx="666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135080" y="4645080"/>
            <a:ext cx="0" cy="11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865160" y="5203800"/>
            <a:ext cx="432000" cy="522360"/>
          </a:xfrm>
          <a:prstGeom prst="downArrow">
            <a:avLst>
              <a:gd name="adj1" fmla="val 50000"/>
              <a:gd name="adj2" fmla="val 302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87640" y="4983120"/>
            <a:ext cx="42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89920" y="548640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89640" y="548640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62720" y="548640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97640" y="548640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37440" y="548640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15160" y="548640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7720" y="4800600"/>
            <a:ext cx="0" cy="9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35920" y="5297400"/>
            <a:ext cx="128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A B       A         C   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4C2-B16C-4B86-AB55-4844392331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janvi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ERP et Procédé Batch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au niveau mrp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procédé Batch individualise les produits via les lots et doit gérer sur caractéristiques et non sur données géné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28640" y="4292640"/>
            <a:ext cx="1525680" cy="74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4289400"/>
            <a:ext cx="1525680" cy="74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rticle-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13400" y="4275000"/>
            <a:ext cx="1525680" cy="741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divi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 flipV="1">
            <a:off x="3162240" y="4660200"/>
            <a:ext cx="869040" cy="39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2" idx="3"/>
            <a:endCxn id="163" idx="1"/>
          </p:cNvCxnSpPr>
          <p:nvPr/>
        </p:nvCxnSpPr>
        <p:spPr>
          <a:xfrm flipV="1">
            <a:off x="5571720" y="4646160"/>
            <a:ext cx="834120" cy="151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1" idx="0"/>
            <a:endCxn id="163" idx="0"/>
          </p:cNvCxnSpPr>
          <p:nvPr/>
        </p:nvCxnSpPr>
        <p:spPr>
          <a:xfrm flipH="1" flipV="1" rot="5400000">
            <a:off x="4775400" y="1882800"/>
            <a:ext cx="18360" cy="4785480"/>
          </a:xfrm>
          <a:prstGeom prst="bentConnector3">
            <a:avLst>
              <a:gd name="adj1" fmla="val 1362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4F1-D511-408E-9389-EA38381FEE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janvi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ERP et Procédé Batch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 niveau mrp (su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donné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mple les un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B67E-D926-4DA2-B309-E18E322A30B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janvi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ERP et Procédé Batch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RP + 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-commun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314-3E1B-4AAB-B6AD-D9F44A9468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janvi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a réactivité industrielle 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757160"/>
            <a:ext cx="79246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marL="30600" indent="-30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grand futur exposé par Michael FFF. SAU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ne meilleure réactivité industrielle 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6640" y="456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52680" y="3130560"/>
            <a:ext cx="1787400" cy="1631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jourd ’h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00440" y="3125880"/>
            <a:ext cx="1787400" cy="1631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54760" y="3174840"/>
            <a:ext cx="1787400" cy="1632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rès-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1A9-C514-4AF4-ACF3-6D57CF8C84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janvi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a réactivité industrielle 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757160"/>
            <a:ext cx="79246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éponse au marché s ’analyse selon différents horiz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61960" y="3117960"/>
            <a:ext cx="6627960" cy="326880"/>
          </a:xfrm>
          <a:prstGeom prst="rightArrow">
            <a:avLst>
              <a:gd name="adj1" fmla="val 50000"/>
              <a:gd name="adj2" fmla="val 5069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461960" y="2440080"/>
            <a:ext cx="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429240" y="2514600"/>
            <a:ext cx="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61960" y="2712960"/>
            <a:ext cx="4970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41760" y="4156200"/>
            <a:ext cx="52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activité = Réduction d ’un lead-time 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6640" y="456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15880" y="4610160"/>
            <a:ext cx="4526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léments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lai de mise sur le mar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mps opérationnel de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mps de changement de 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209000" y="2652840"/>
            <a:ext cx="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81880" y="2666520"/>
            <a:ext cx="0" cy="8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75400" y="2882880"/>
            <a:ext cx="65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90160" y="2897280"/>
            <a:ext cx="308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onception, Ingénierie PRODUIT, Ingénierie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2400" y="356544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25400" y="34560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E56-9C27-468F-BD84-BC89C98A22F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janvi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770280" y="2517840"/>
            <a:ext cx="24526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a réactivité industrielle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ditionnellement, deux axes d ’obten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réduc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 temps élémentair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synchronis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 éléments de la chaîne logist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 ’est le rôle des outils de plan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Aujourd ’hu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problématique est la même, mais la chaîne logistique se complique  :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 ’outsourcing devient une donnée du problème et un nouvel élément de la réa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44A-ACCA-456F-BA26-AF4E934B77A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janvi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es outils de planification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ôle des outils de planification est de préparer l ’activité : contrôler les capacités et synchroniser les opé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concepts mis en oeuvre s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r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i (total enterprise integration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s outils (majorité ERP) sont-ils adap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x typologies de procédé batch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À la nouvelle complexité de la chaîne logistiqu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BCD-628F-4565-8B36-F9D1A5FCFB6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janvi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61960" y="1095480"/>
            <a:ext cx="6927840" cy="547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Préambule 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activité = adaptation rapide aux chang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égrer les changement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structu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ructure d ’entreprise : fusions, acqui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uveaux partenaires : externalisation de lignes d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nsions logistiques : platefor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ôles logistiques : consig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usieurs exigenc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apacité de modélisation des er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ltiniveaux : groupe, société, division, site, entrepôt, em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facilité de modé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nsfert du know-how de l ’intégr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D81-2CED-436B-AB60-C471F35223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janvi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83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es outils d ’ERP et le pilotage industri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uverture fonctionnelle éten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ux niveau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nsact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cis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25800" y="3121200"/>
            <a:ext cx="6621120" cy="2995560"/>
            <a:chOff x="1225800" y="3121200"/>
            <a:chExt cx="6621120" cy="2995560"/>
          </a:xfrm>
        </p:grpSpPr>
        <p:sp>
          <p:nvSpPr>
            <p:cNvPr id="93" name=""/>
            <p:cNvSpPr/>
            <p:nvPr/>
          </p:nvSpPr>
          <p:spPr>
            <a:xfrm>
              <a:off x="1765440" y="5486400"/>
              <a:ext cx="6081480" cy="630360"/>
            </a:xfrm>
            <a:prstGeom prst="rightArrow">
              <a:avLst>
                <a:gd name="adj1" fmla="val 75009"/>
                <a:gd name="adj2" fmla="val 482426"/>
              </a:avLst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63080" y="5651640"/>
              <a:ext cx="470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SYSTEME OPERANT : RESSOURCES ET FL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49600" y="3121200"/>
              <a:ext cx="3576600" cy="1887480"/>
            </a:xfrm>
            <a:prstGeom prst="roundRect">
              <a:avLst>
                <a:gd name="adj" fmla="val 12495"/>
              </a:avLst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64200" y="4840200"/>
              <a:ext cx="757080" cy="70020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50000" y="5099040"/>
              <a:ext cx="950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signa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29280" y="5091120"/>
              <a:ext cx="81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ord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34800" y="3156120"/>
              <a:ext cx="2842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SYSTEME de PILO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74960" y="4413240"/>
              <a:ext cx="1066680" cy="365040"/>
            </a:xfrm>
            <a:prstGeom prst="rightArrow">
              <a:avLst>
                <a:gd name="adj1" fmla="val 50000"/>
                <a:gd name="adj2" fmla="val 146118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25800" y="4178160"/>
              <a:ext cx="950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signa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73320" y="3537000"/>
              <a:ext cx="2787840" cy="433440"/>
            </a:xfrm>
            <a:prstGeom prst="roundRect">
              <a:avLst>
                <a:gd name="adj" fmla="val 12495"/>
              </a:avLst>
            </a:prstGeom>
            <a:solidFill>
              <a:srgbClr val="0033cc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51000" y="4392720"/>
              <a:ext cx="2786400" cy="434880"/>
            </a:xfrm>
            <a:prstGeom prst="roundRect">
              <a:avLst>
                <a:gd name="adj" fmla="val 12495"/>
              </a:avLst>
            </a:prstGeom>
            <a:solidFill>
              <a:srgbClr val="0033cc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06800" y="4460760"/>
              <a:ext cx="2637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00"/>
                  </a:solidFill>
                  <a:latin typeface="Arial"/>
                </a:rPr>
                <a:t>SYSTEME D’INFORM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83480" y="3600360"/>
              <a:ext cx="2362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00"/>
                  </a:solidFill>
                  <a:latin typeface="Arial"/>
                </a:rPr>
                <a:t>SYSTEME DE DECIS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5080" y="3951360"/>
              <a:ext cx="611280" cy="425520"/>
            </a:xfrm>
            <a:prstGeom prst="upArrow">
              <a:avLst>
                <a:gd name="adj1" fmla="val 50000"/>
                <a:gd name="adj2" fmla="val 49995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42040" y="3978360"/>
              <a:ext cx="541080" cy="46512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14800" y="4805280"/>
              <a:ext cx="757080" cy="746280"/>
            </a:xfrm>
            <a:prstGeom prst="upArrow">
              <a:avLst>
                <a:gd name="adj1" fmla="val 50000"/>
                <a:gd name="adj2" fmla="val 49995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29040" y="4054320"/>
              <a:ext cx="98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IM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5080" y="4048200"/>
              <a:ext cx="1300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DECI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54680" y="4416480"/>
              <a:ext cx="1066680" cy="365040"/>
            </a:xfrm>
            <a:prstGeom prst="rightArrow">
              <a:avLst>
                <a:gd name="adj1" fmla="val 50000"/>
                <a:gd name="adj2" fmla="val 146118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D5C-E333-45CC-ACF8-688004627F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janvi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La réactivité industrielle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85600" y="1104840"/>
            <a:ext cx="79246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grands principes de fonct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76440" y="1623960"/>
            <a:ext cx="4978440" cy="39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Plan industriel et commercial (P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73200" y="2651040"/>
            <a:ext cx="5025240" cy="39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Programme Directeur de Production (P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60840" y="3179880"/>
            <a:ext cx="577800" cy="212760"/>
          </a:xfrm>
          <a:custGeom>
            <a:avLst/>
            <a:gdLst/>
            <a:ahLst/>
            <a:rect l="l" t="t" r="r" b="b"/>
            <a:pathLst>
              <a:path w="385" h="145">
                <a:moveTo>
                  <a:pt x="192" y="0"/>
                </a:moveTo>
                <a:lnTo>
                  <a:pt x="0" y="72"/>
                </a:lnTo>
                <a:lnTo>
                  <a:pt x="192" y="144"/>
                </a:lnTo>
                <a:lnTo>
                  <a:pt x="384" y="72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8600" y="3567240"/>
            <a:ext cx="2352240" cy="39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Calcul des Beso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15000" y="4621320"/>
            <a:ext cx="2364480" cy="39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Programme Ach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848120" y="30380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48120" y="3390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54480" y="2897280"/>
            <a:ext cx="2600280" cy="380880"/>
          </a:xfrm>
          <a:custGeom>
            <a:avLst/>
            <a:gdLst/>
            <a:ahLst/>
            <a:rect l="l" t="t" r="r" b="b"/>
            <a:pathLst>
              <a:path w="1732" h="260">
                <a:moveTo>
                  <a:pt x="0" y="259"/>
                </a:moveTo>
                <a:lnTo>
                  <a:pt x="1731" y="259"/>
                </a:lnTo>
                <a:lnTo>
                  <a:pt x="1731" y="0"/>
                </a:lnTo>
                <a:lnTo>
                  <a:pt x="147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60840" y="4095720"/>
            <a:ext cx="577800" cy="212760"/>
          </a:xfrm>
          <a:custGeom>
            <a:avLst/>
            <a:gdLst/>
            <a:ahLst/>
            <a:rect l="l" t="t" r="r" b="b"/>
            <a:pathLst>
              <a:path w="385" h="145">
                <a:moveTo>
                  <a:pt x="192" y="0"/>
                </a:moveTo>
                <a:lnTo>
                  <a:pt x="0" y="72"/>
                </a:lnTo>
                <a:lnTo>
                  <a:pt x="192" y="144"/>
                </a:lnTo>
                <a:lnTo>
                  <a:pt x="384" y="72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48120" y="395460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00800" y="4621320"/>
            <a:ext cx="2803320" cy="39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Programme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64480" y="5324400"/>
            <a:ext cx="1445400" cy="39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Lan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33600" y="5891040"/>
            <a:ext cx="1303560" cy="39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48120" y="571500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63760" y="4307040"/>
            <a:ext cx="1586160" cy="322200"/>
          </a:xfrm>
          <a:custGeom>
            <a:avLst/>
            <a:gdLst/>
            <a:ahLst/>
            <a:rect l="l" t="t" r="r" b="b"/>
            <a:pathLst>
              <a:path w="1057" h="220">
                <a:moveTo>
                  <a:pt x="1056" y="0"/>
                </a:moveTo>
                <a:lnTo>
                  <a:pt x="1056" y="43"/>
                </a:lnTo>
                <a:lnTo>
                  <a:pt x="0" y="43"/>
                </a:lnTo>
                <a:lnTo>
                  <a:pt x="0" y="21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48120" y="4307040"/>
            <a:ext cx="1587600" cy="322200"/>
          </a:xfrm>
          <a:custGeom>
            <a:avLst/>
            <a:gdLst/>
            <a:ahLst/>
            <a:rect l="l" t="t" r="r" b="b"/>
            <a:pathLst>
              <a:path w="1057" h="220">
                <a:moveTo>
                  <a:pt x="0" y="0"/>
                </a:moveTo>
                <a:lnTo>
                  <a:pt x="0" y="43"/>
                </a:lnTo>
                <a:lnTo>
                  <a:pt x="1056" y="43"/>
                </a:lnTo>
                <a:lnTo>
                  <a:pt x="1056" y="21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79760" y="5081760"/>
            <a:ext cx="936720" cy="14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316120" y="5081760"/>
            <a:ext cx="1117800" cy="14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61000" y="3087720"/>
            <a:ext cx="289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Calcul de Charges : RC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60280" y="3862440"/>
            <a:ext cx="256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Calcul de Charges : c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54480" y="2757600"/>
            <a:ext cx="2793960" cy="1436400"/>
          </a:xfrm>
          <a:custGeom>
            <a:avLst/>
            <a:gdLst/>
            <a:ahLst/>
            <a:rect l="l" t="t" r="r" b="b"/>
            <a:pathLst>
              <a:path w="1861" h="980">
                <a:moveTo>
                  <a:pt x="0" y="979"/>
                </a:moveTo>
                <a:lnTo>
                  <a:pt x="1860" y="979"/>
                </a:lnTo>
                <a:lnTo>
                  <a:pt x="1860" y="0"/>
                </a:lnTo>
                <a:lnTo>
                  <a:pt x="147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5960" y="2157480"/>
            <a:ext cx="273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Calcul de Charges : R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CEB-E1F6-4234-8243-3D9BC9792A5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janvi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48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Arial"/>
              </a:rPr>
              <a:t>ERP et Procédé Batch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plan industriel et com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 ’appuie sur les prévisions de v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rôle la disponibilité des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pervise les politiques de stocks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utilise des données agrégées et des unités financiè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 ’éclatement du plan commercial en plan industriel s ’appuie sur des données statis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4D7-8CEA-44A6-BF98-A7A1DAA44EC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janvi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9:22:07Z</dcterms:created>
  <dc:creator>Gregory A. Noll</dc:creator>
  <dc:description/>
  <dc:language>en-US</dc:language>
  <cp:lastModifiedBy>GIJOSSEAU</cp:lastModifiedBy>
  <cp:lastPrinted>1999-12-20T11:23:14Z</cp:lastPrinted>
  <dcterms:modified xsi:type="dcterms:W3CDTF">2000-01-20T06:04:17Z</dcterms:modified>
  <cp:revision>39</cp:revision>
  <dc:subject/>
  <dc:title>No Slide Title</dc:title>
</cp:coreProperties>
</file>