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00E-9F9E-4A3D-A3A5-9860332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760-B239-431B-8E8D-F7A64F9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CB7-E6AE-4988-B12A-5EFECBCA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984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4968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9036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984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4968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106-CFCD-4652-BF29-127A456E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034-3717-4CDF-B72F-ACC2B6A4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1A6-4566-475E-A7CE-CA027CD5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F74-994B-4465-874A-A9851B1D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1B8-9F1B-488A-8935-49AEA47B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0E5-898D-4F64-9F96-65C0B583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1FD-289D-4829-9C1F-369A2D8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35E-0308-4942-AC5E-18A77D2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B3D-193B-40CB-BA8F-4FE49ED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324480"/>
            <a:ext cx="8381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0"/>
            <a:ext cx="647676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762120" cy="57913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0c0c0"/>
                </a:solidFill>
                <a:latin typeface="Arial"/>
              </a:rPr>
              <a:t>Jean Vie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0c0c0"/>
                </a:solidFill>
                <a:latin typeface="Arial"/>
              </a:rPr>
              <a:t>SEE – Forum Batch Franc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lide </a:t>
            </a:r>
            <a:fld id="{88AD69DC-6F8A-4440-A987-C18D389006F1}" type="slidenum">
              <a:rPr b="0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324480"/>
            <a:ext cx="815328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915400" y="1066680"/>
            <a:ext cx="231840" cy="578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762120" cy="1066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04240" y="1076400"/>
            <a:ext cx="0" cy="525780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6800" y="108576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74720" y="1081080"/>
            <a:ext cx="3240" cy="5265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-114480" y="2664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7605720" y="128520"/>
            <a:ext cx="1279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B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REAGARDS S88/S95 SUR LES CYCLES DE VIE DU SYSTEME DE PRODUC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ean Vieille, 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férence SEE/FB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issy, le 20 Janvier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6BB-9C5C-4717-965D-D7EE2976E2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S88 et les cycles de la produc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143000"/>
            <a:ext cx="2057400" cy="1676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21120" y="2286000"/>
            <a:ext cx="19461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8 : 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3505320"/>
            <a:ext cx="20224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8 : Res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4495680"/>
            <a:ext cx="2057400" cy="1676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4495680"/>
            <a:ext cx="2057400" cy="167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Ressources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8" idx="3"/>
            <a:endCxn id="229" idx="0"/>
          </p:cNvCxnSpPr>
          <p:nvPr/>
        </p:nvCxnSpPr>
        <p:spPr>
          <a:xfrm>
            <a:off x="5866920" y="2629080"/>
            <a:ext cx="192636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133720" y="3657600"/>
            <a:ext cx="194616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8 : Rec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8" idx="1"/>
            <a:endCxn id="233" idx="0"/>
          </p:cNvCxnSpPr>
          <p:nvPr/>
        </p:nvCxnSpPr>
        <p:spPr>
          <a:xfrm flipV="1" rot="10800000">
            <a:off x="3106080" y="2627640"/>
            <a:ext cx="815040" cy="102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0" idx="0"/>
            <a:endCxn id="233" idx="1"/>
          </p:cNvCxnSpPr>
          <p:nvPr/>
        </p:nvCxnSpPr>
        <p:spPr>
          <a:xfrm flipH="1" flipV="1" rot="5400000">
            <a:off x="1752120" y="4114440"/>
            <a:ext cx="49572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1" idx="0"/>
            <a:endCxn id="229" idx="2"/>
          </p:cNvCxnSpPr>
          <p:nvPr/>
        </p:nvCxnSpPr>
        <p:spPr>
          <a:xfrm flipV="1" rot="16200000">
            <a:off x="7648920" y="4334040"/>
            <a:ext cx="305280" cy="183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572000" y="4267080"/>
            <a:ext cx="194616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8 : Éléments Procéduraux d’Équi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3" idx="2"/>
            <a:endCxn id="237" idx="1"/>
          </p:cNvCxnSpPr>
          <p:nvPr/>
        </p:nvCxnSpPr>
        <p:spPr>
          <a:xfrm flipH="1" rot="16200000">
            <a:off x="3667680" y="3781800"/>
            <a:ext cx="343800" cy="14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1"/>
            <a:endCxn id="237" idx="0"/>
          </p:cNvCxnSpPr>
          <p:nvPr/>
        </p:nvCxnSpPr>
        <p:spPr>
          <a:xfrm flipV="1" rot="10800000">
            <a:off x="5544360" y="3847680"/>
            <a:ext cx="1236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7" idx="6"/>
            <a:endCxn id="228" idx="0"/>
          </p:cNvCxnSpPr>
          <p:nvPr/>
        </p:nvCxnSpPr>
        <p:spPr>
          <a:xfrm>
            <a:off x="2895480" y="1980720"/>
            <a:ext cx="199944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1" idx="2"/>
            <a:endCxn id="237" idx="2"/>
          </p:cNvCxnSpPr>
          <p:nvPr/>
        </p:nvCxnSpPr>
        <p:spPr>
          <a:xfrm rot="10800000">
            <a:off x="5544360" y="5104800"/>
            <a:ext cx="12369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E7E-E71D-4880-8C32-BB88BB2801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S95 et les cycles de la produc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143000"/>
            <a:ext cx="2057400" cy="1447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 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7440" y="1523880"/>
            <a:ext cx="19461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 : 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3505320"/>
            <a:ext cx="1981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 : Capabilités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4724280"/>
            <a:ext cx="2057400" cy="1447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9440" y="4726080"/>
            <a:ext cx="1979640" cy="1446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505320"/>
            <a:ext cx="1752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 : Définition du prod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0"/>
            <a:endCxn id="248" idx="2"/>
          </p:cNvCxnSpPr>
          <p:nvPr/>
        </p:nvCxnSpPr>
        <p:spPr>
          <a:xfrm flipV="1">
            <a:off x="1714320" y="4190400"/>
            <a:ext cx="10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7" idx="0"/>
            <a:endCxn id="245" idx="2"/>
          </p:cNvCxnSpPr>
          <p:nvPr/>
        </p:nvCxnSpPr>
        <p:spPr>
          <a:xfrm flipV="1" rot="16200000">
            <a:off x="7581600" y="4457160"/>
            <a:ext cx="535680" cy="216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8" idx="3"/>
            <a:endCxn id="252" idx="1"/>
          </p:cNvCxnSpPr>
          <p:nvPr/>
        </p:nvCxnSpPr>
        <p:spPr>
          <a:xfrm>
            <a:off x="2590920" y="3847680"/>
            <a:ext cx="381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3" idx="6"/>
            <a:endCxn id="244" idx="1"/>
          </p:cNvCxnSpPr>
          <p:nvPr/>
        </p:nvCxnSpPr>
        <p:spPr>
          <a:xfrm>
            <a:off x="2971440" y="1866600"/>
            <a:ext cx="1026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997440" y="5105520"/>
            <a:ext cx="19461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: Res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92720" y="3429000"/>
            <a:ext cx="12603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 : Segments Procéd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429000"/>
            <a:ext cx="129528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 : Segments Prod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2" idx="2"/>
            <a:endCxn id="254" idx="0"/>
          </p:cNvCxnSpPr>
          <p:nvPr/>
        </p:nvCxnSpPr>
        <p:spPr>
          <a:xfrm flipH="1" rot="16200000">
            <a:off x="3874680" y="4010400"/>
            <a:ext cx="839160" cy="135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5" idx="2"/>
            <a:endCxn id="254" idx="0"/>
          </p:cNvCxnSpPr>
          <p:nvPr/>
        </p:nvCxnSpPr>
        <p:spPr>
          <a:xfrm rot="5400000">
            <a:off x="5027040" y="4209840"/>
            <a:ext cx="839160" cy="953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2" idx="3"/>
            <a:endCxn id="255" idx="1"/>
          </p:cNvCxnSpPr>
          <p:nvPr/>
        </p:nvCxnSpPr>
        <p:spPr>
          <a:xfrm>
            <a:off x="4266720" y="3847680"/>
            <a:ext cx="10263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9" name=""/>
          <p:cNvCxnSpPr>
            <a:stCxn id="245" idx="1"/>
            <a:endCxn id="255" idx="3"/>
          </p:cNvCxnSpPr>
          <p:nvPr/>
        </p:nvCxnSpPr>
        <p:spPr>
          <a:xfrm rot="10800000">
            <a:off x="6552360" y="38473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997440" y="2514600"/>
            <a:ext cx="19461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 : Exigences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0"/>
            <a:endCxn id="260" idx="1"/>
          </p:cNvCxnSpPr>
          <p:nvPr/>
        </p:nvCxnSpPr>
        <p:spPr>
          <a:xfrm flipH="1" flipV="1" rot="5400000">
            <a:off x="3522600" y="2953800"/>
            <a:ext cx="572040" cy="378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44" idx="2"/>
            <a:endCxn id="260" idx="0"/>
          </p:cNvCxnSpPr>
          <p:nvPr/>
        </p:nvCxnSpPr>
        <p:spPr>
          <a:xfrm flipV="1" rot="10800000">
            <a:off x="4969800" y="2209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60" idx="2"/>
            <a:endCxn id="254" idx="0"/>
          </p:cNvCxnSpPr>
          <p:nvPr/>
        </p:nvCxnSpPr>
        <p:spPr>
          <a:xfrm flipV="1" rot="10800000">
            <a:off x="4969800" y="3200040"/>
            <a:ext cx="108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47" idx="2"/>
            <a:endCxn id="254" idx="3"/>
          </p:cNvCxnSpPr>
          <p:nvPr/>
        </p:nvCxnSpPr>
        <p:spPr>
          <a:xfrm rot="10800000">
            <a:off x="5942880" y="5447520"/>
            <a:ext cx="916560" cy="2520"/>
          </a:xfrm>
          <a:prstGeom prst="bentConnector3">
            <a:avLst>
              <a:gd name="adj1" fmla="val 499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792-0418-41AF-8913-1E5750E23F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S88 et S95 : une consolidation nécessair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1143000"/>
            <a:ext cx="160020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epris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Produi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4800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3733920"/>
            <a:ext cx="2666880" cy="2514600"/>
            <a:chOff x="838080" y="3733920"/>
            <a:chExt cx="2666880" cy="2514600"/>
          </a:xfrm>
        </p:grpSpPr>
        <p:sp>
          <p:nvSpPr>
            <p:cNvPr id="269" name=""/>
            <p:cNvSpPr/>
            <p:nvPr/>
          </p:nvSpPr>
          <p:spPr>
            <a:xfrm>
              <a:off x="838080" y="3733920"/>
              <a:ext cx="2666880" cy="2514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ntreprise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« Production 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94680" y="4419720"/>
              <a:ext cx="9410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6560" y="4912920"/>
              <a:ext cx="1098000" cy="916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llule de production X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28480" y="4419720"/>
              <a:ext cx="9410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50000" y="4912920"/>
              <a:ext cx="1098000" cy="916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llule de production X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8485400">
            <a:off x="3466800" y="19425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rot="3114600">
            <a:off x="5828400" y="1942560"/>
            <a:ext cx="305280" cy="838080"/>
          </a:xfrm>
          <a:prstGeom prst="upDownArrow">
            <a:avLst>
              <a:gd name="adj1" fmla="val 50000"/>
              <a:gd name="adj2" fmla="val 5465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3114600">
            <a:off x="3467160" y="2781360"/>
            <a:ext cx="304560" cy="838080"/>
          </a:xfrm>
          <a:prstGeom prst="upDownArrow">
            <a:avLst>
              <a:gd name="adj1" fmla="val 50000"/>
              <a:gd name="adj2" fmla="val 5478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 rot="18485400">
            <a:off x="5829480" y="2781360"/>
            <a:ext cx="304560" cy="838080"/>
          </a:xfrm>
          <a:prstGeom prst="upDownArrow">
            <a:avLst>
              <a:gd name="adj1" fmla="val 50000"/>
              <a:gd name="adj2" fmla="val 5478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172200" y="3733920"/>
            <a:ext cx="2666520" cy="2514600"/>
            <a:chOff x="6172200" y="3733920"/>
            <a:chExt cx="2666520" cy="2514600"/>
          </a:xfrm>
        </p:grpSpPr>
        <p:sp>
          <p:nvSpPr>
            <p:cNvPr id="279" name=""/>
            <p:cNvSpPr/>
            <p:nvPr/>
          </p:nvSpPr>
          <p:spPr>
            <a:xfrm>
              <a:off x="6172200" y="3733920"/>
              <a:ext cx="2666520" cy="2514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ntreprise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« Production 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8800" y="4419720"/>
              <a:ext cx="9410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50680" y="4912920"/>
              <a:ext cx="1097640" cy="916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llule de production Y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62240" y="4419720"/>
              <a:ext cx="9410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83760" y="4912920"/>
              <a:ext cx="1097640" cy="916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llule de production Y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676520" y="19051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1143000"/>
            <a:ext cx="160020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epris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Produi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9051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3733920"/>
            <a:ext cx="1447920" cy="457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5791320"/>
            <a:ext cx="1447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4648320"/>
            <a:ext cx="609480" cy="304560"/>
          </a:xfrm>
          <a:prstGeom prst="leftRightArrow">
            <a:avLst>
              <a:gd name="adj1" fmla="val 50000"/>
              <a:gd name="adj2" fmla="val 398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4641840" y="4346640"/>
            <a:ext cx="463680" cy="304560"/>
          </a:xfrm>
          <a:prstGeom prst="leftRightArrow">
            <a:avLst>
              <a:gd name="adj1" fmla="val 50000"/>
              <a:gd name="adj2" fmla="val 30308"/>
            </a:avLst>
          </a:prstGeom>
          <a:gradFill rotWithShape="0">
            <a:gsLst>
              <a:gs pos="0">
                <a:srgbClr val="ccffcc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480060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495288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25909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641840" y="5327280"/>
            <a:ext cx="463320" cy="304560"/>
          </a:xfrm>
          <a:prstGeom prst="leftRightArrow">
            <a:avLst>
              <a:gd name="adj1" fmla="val 50000"/>
              <a:gd name="adj2" fmla="val 30284"/>
            </a:avLst>
          </a:prstGeom>
          <a:gradFill rotWithShape="0">
            <a:gsLst>
              <a:gs pos="0">
                <a:srgbClr val="ccffcc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4648320"/>
            <a:ext cx="609480" cy="304560"/>
          </a:xfrm>
          <a:prstGeom prst="leftRightArrow">
            <a:avLst>
              <a:gd name="adj1" fmla="val 50000"/>
              <a:gd name="adj2" fmla="val 398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480060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95288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AFB-6895-4BF0-A4E3-B3241905A9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s réactives et coopér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vaux de standardis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A,ISO,CEN,IEC,CIMOSA,OAG,WFM, W3C, OP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</a:rPr>
              <a:t>Ingénierie Produi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hérence Conception/Planification/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3333cc"/>
                </a:solidFill>
                <a:uFillTx/>
                <a:latin typeface="Arial"/>
              </a:rPr>
              <a:t>Ingénierie Ressourc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olution S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rmonisation des proprié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u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timisation logi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duit / Production : une forme de C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unication plutôt qu’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8AA-C1AC-46A0-B9D8-D8CED1ED5C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Sommair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757160"/>
            <a:ext cx="7924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génierie du système de production Tra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3 cycles de vie du système d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Entreprise Réactive - 3 types d’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nouveaux cycles de développement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88/S95 et les cycles de la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F11-4C26-4E88-8655-728B72DC5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Ingénierie du système de production traditionn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677960"/>
            <a:ext cx="547560" cy="24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77960"/>
            <a:ext cx="547560" cy="24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677960"/>
            <a:ext cx="547560" cy="24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440080"/>
            <a:ext cx="547560" cy="24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440080"/>
            <a:ext cx="547920" cy="24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201840"/>
            <a:ext cx="547920" cy="24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201840"/>
            <a:ext cx="547560" cy="24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840" y="2440080"/>
            <a:ext cx="547560" cy="249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7" idx="3"/>
            <a:endCxn id="58" idx="1"/>
          </p:cNvCxnSpPr>
          <p:nvPr/>
        </p:nvCxnSpPr>
        <p:spPr>
          <a:xfrm>
            <a:off x="1537920" y="1802880"/>
            <a:ext cx="291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6" name=""/>
          <p:cNvCxnSpPr>
            <a:stCxn id="58" idx="2"/>
            <a:endCxn id="60" idx="0"/>
          </p:cNvCxnSpPr>
          <p:nvPr/>
        </p:nvCxnSpPr>
        <p:spPr>
          <a:xfrm>
            <a:off x="2103120" y="1926720"/>
            <a:ext cx="1080" cy="51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7" name=""/>
          <p:cNvCxnSpPr>
            <a:stCxn id="61" idx="2"/>
            <a:endCxn id="62" idx="0"/>
          </p:cNvCxnSpPr>
          <p:nvPr/>
        </p:nvCxnSpPr>
        <p:spPr>
          <a:xfrm>
            <a:off x="2941200" y="2689200"/>
            <a:ext cx="1080" cy="51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8" name=""/>
          <p:cNvSpPr/>
          <p:nvPr/>
        </p:nvSpPr>
        <p:spPr>
          <a:xfrm>
            <a:off x="2666880" y="3735360"/>
            <a:ext cx="22100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sources du Système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0" idx="3"/>
            <a:endCxn id="61" idx="1"/>
          </p:cNvCxnSpPr>
          <p:nvPr/>
        </p:nvCxnSpPr>
        <p:spPr>
          <a:xfrm>
            <a:off x="2376000" y="2565000"/>
            <a:ext cx="291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0" name=""/>
          <p:cNvCxnSpPr>
            <a:stCxn id="62" idx="3"/>
            <a:endCxn id="63" idx="1"/>
          </p:cNvCxnSpPr>
          <p:nvPr/>
        </p:nvCxnSpPr>
        <p:spPr>
          <a:xfrm>
            <a:off x="3214440" y="3327120"/>
            <a:ext cx="291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1" name=""/>
          <p:cNvSpPr/>
          <p:nvPr/>
        </p:nvSpPr>
        <p:spPr>
          <a:xfrm>
            <a:off x="4330800" y="3201840"/>
            <a:ext cx="547560" cy="24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1" idx="0"/>
            <a:endCxn id="64" idx="2"/>
          </p:cNvCxnSpPr>
          <p:nvPr/>
        </p:nvCxnSpPr>
        <p:spPr>
          <a:xfrm flipV="1">
            <a:off x="4605480" y="2688840"/>
            <a:ext cx="473760" cy="51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3" name=""/>
          <p:cNvCxnSpPr>
            <a:stCxn id="64" idx="0"/>
            <a:endCxn id="59" idx="2"/>
          </p:cNvCxnSpPr>
          <p:nvPr/>
        </p:nvCxnSpPr>
        <p:spPr>
          <a:xfrm flipV="1">
            <a:off x="5078160" y="1926360"/>
            <a:ext cx="531000" cy="51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4" name=""/>
          <p:cNvSpPr/>
          <p:nvPr/>
        </p:nvSpPr>
        <p:spPr>
          <a:xfrm>
            <a:off x="5945040" y="2360520"/>
            <a:ext cx="166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 = Proce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 = Fo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 = 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4880" y="1295280"/>
            <a:ext cx="26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 = Spé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 = Conception (Desig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 = Qua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876920"/>
            <a:ext cx="4724640" cy="685800"/>
          </a:xfrm>
          <a:custGeom>
            <a:avLst/>
            <a:gdLst>
              <a:gd name="textAreaLeft" fmla="*/ 738000 w 4724640"/>
              <a:gd name="textAreaRight" fmla="*/ 4134240 w 47246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génierie/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4876920"/>
            <a:ext cx="2895480" cy="6858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4D2-BDA9-49D8-92B6-1A4C4474D2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3200" y="2286000"/>
            <a:ext cx="6095880" cy="39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es 3 cycles de vie du système de produc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4114800"/>
            <a:ext cx="2057400" cy="1676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114800"/>
            <a:ext cx="2057400" cy="167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438280"/>
            <a:ext cx="2057400" cy="1676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 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143000"/>
            <a:ext cx="20574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8" idx="1"/>
            <a:endCxn id="83" idx="6"/>
          </p:cNvCxnSpPr>
          <p:nvPr/>
        </p:nvCxnSpPr>
        <p:spPr>
          <a:xfrm flipV="1" rot="16200000">
            <a:off x="2821680" y="2053440"/>
            <a:ext cx="886680" cy="740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A6C-C798-4DD8-8D7D-9BD9F161B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Pilotage Marché/Cli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191120"/>
            <a:ext cx="2057400" cy="1676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191120"/>
            <a:ext cx="2057400" cy="167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819520"/>
            <a:ext cx="2057400" cy="1676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143000"/>
            <a:ext cx="20574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99"/>
                </a:solidFill>
                <a:latin typeface="Arial"/>
              </a:rPr>
              <a:t>Demande Marché /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2"/>
            <a:endCxn id="86" idx="2"/>
          </p:cNvCxnSpPr>
          <p:nvPr/>
        </p:nvCxnSpPr>
        <p:spPr>
          <a:xfrm flipH="1" flipV="1" rot="10800000">
            <a:off x="1218240" y="1980000"/>
            <a:ext cx="533880" cy="3048840"/>
          </a:xfrm>
          <a:prstGeom prst="curvedConnector5">
            <a:avLst>
              <a:gd name="adj1" fmla="val -42847"/>
              <a:gd name="adj2" fmla="val 50000"/>
              <a:gd name="adj3" fmla="val -4284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1" name=""/>
          <p:cNvCxnSpPr>
            <a:stCxn id="89" idx="6"/>
            <a:endCxn id="88" idx="0"/>
          </p:cNvCxnSpPr>
          <p:nvPr/>
        </p:nvCxnSpPr>
        <p:spPr>
          <a:xfrm>
            <a:off x="3276360" y="1980720"/>
            <a:ext cx="1562760" cy="8391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2" name=""/>
          <p:cNvCxnSpPr>
            <a:stCxn id="86" idx="6"/>
            <a:endCxn id="88" idx="4"/>
          </p:cNvCxnSpPr>
          <p:nvPr/>
        </p:nvCxnSpPr>
        <p:spPr>
          <a:xfrm flipV="1">
            <a:off x="3809880" y="4495320"/>
            <a:ext cx="1029600" cy="5342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3" name=""/>
          <p:cNvCxnSpPr>
            <a:stCxn id="86" idx="4"/>
            <a:endCxn id="87" idx="4"/>
          </p:cNvCxnSpPr>
          <p:nvPr/>
        </p:nvCxnSpPr>
        <p:spPr>
          <a:xfrm flipH="1" rot="16200000">
            <a:off x="4837680" y="3810240"/>
            <a:ext cx="2520" cy="4115520"/>
          </a:xfrm>
          <a:prstGeom prst="curvedConnector5">
            <a:avLst>
              <a:gd name="adj1" fmla="val 14400000"/>
              <a:gd name="adj2" fmla="val 49995"/>
              <a:gd name="adj3" fmla="val 144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4" name=""/>
          <p:cNvCxnSpPr>
            <a:stCxn id="87" idx="0"/>
            <a:endCxn id="88" idx="6"/>
          </p:cNvCxnSpPr>
          <p:nvPr/>
        </p:nvCxnSpPr>
        <p:spPr>
          <a:xfrm flipV="1" rot="16200000">
            <a:off x="6114600" y="3409200"/>
            <a:ext cx="534240" cy="10296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5" name=""/>
          <p:cNvCxnSpPr>
            <a:stCxn id="88" idx="2"/>
            <a:endCxn id="89" idx="4"/>
          </p:cNvCxnSpPr>
          <p:nvPr/>
        </p:nvCxnSpPr>
        <p:spPr>
          <a:xfrm rot="10800000">
            <a:off x="2247120" y="2818800"/>
            <a:ext cx="1562760" cy="838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96" name=""/>
          <p:cNvSpPr/>
          <p:nvPr/>
        </p:nvSpPr>
        <p:spPr>
          <a:xfrm>
            <a:off x="4775040" y="129528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 de l’entreprise intégrée clas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62C-0C76-420F-8460-7741A39DC4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09680" y="1371600"/>
            <a:ext cx="632484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666880"/>
            <a:ext cx="632484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es cycles asynchrones dépendant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95480"/>
            <a:ext cx="990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895480"/>
            <a:ext cx="3733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5360" y="28954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Ingénie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Res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09680" y="10666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0"/>
          </p:cNvCxnSpPr>
          <p:nvPr/>
        </p:nvCxnSpPr>
        <p:spPr>
          <a:xfrm>
            <a:off x="2209320" y="5266800"/>
            <a:ext cx="6630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5" name=""/>
          <p:cNvSpPr/>
          <p:nvPr/>
        </p:nvSpPr>
        <p:spPr>
          <a:xfrm>
            <a:off x="5715000" y="5486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Création / 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99"/>
                </a:solidFill>
                <a:latin typeface="Arial"/>
              </a:rPr>
              <a:t>Exploitation / 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429000"/>
            <a:ext cx="685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429000"/>
            <a:ext cx="3276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1752480"/>
            <a:ext cx="990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752480"/>
            <a:ext cx="5105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840" y="164448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99"/>
                </a:solidFill>
                <a:latin typeface="Arial"/>
              </a:rPr>
              <a:t>Ingénie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99"/>
                </a:solidFill>
                <a:latin typeface="Arial"/>
              </a:rPr>
              <a:t>Prod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962520"/>
            <a:ext cx="632484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4640" y="423540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2133720"/>
            <a:ext cx="16765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133720"/>
            <a:ext cx="33526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4038480"/>
            <a:ext cx="68580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4724280"/>
            <a:ext cx="99072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038480"/>
            <a:ext cx="99072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12193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2193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038480"/>
            <a:ext cx="45720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724280"/>
            <a:ext cx="99036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4038480"/>
            <a:ext cx="1524240" cy="381240"/>
          </a:xfrm>
          <a:prstGeom prst="leftRightArrow">
            <a:avLst>
              <a:gd name="adj1" fmla="val 50000"/>
              <a:gd name="adj2" fmla="val 79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724280"/>
            <a:ext cx="2819520" cy="304920"/>
          </a:xfrm>
          <a:prstGeom prst="leftRightArrow">
            <a:avLst>
              <a:gd name="adj1" fmla="val 50000"/>
              <a:gd name="adj2" fmla="val 1840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se sur le March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683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mande straté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2096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5715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mande tac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809520" y="434340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50288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3" idx="3"/>
            <a:endCxn id="106" idx="1"/>
          </p:cNvCxnSpPr>
          <p:nvPr/>
        </p:nvCxnSpPr>
        <p:spPr>
          <a:xfrm>
            <a:off x="3886200" y="2286000"/>
            <a:ext cx="457920" cy="1296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08" idx="3"/>
            <a:endCxn id="100" idx="1"/>
          </p:cNvCxnSpPr>
          <p:nvPr/>
        </p:nvCxnSpPr>
        <p:spPr>
          <a:xfrm flipH="1">
            <a:off x="2742840" y="1904760"/>
            <a:ext cx="457920" cy="1143720"/>
          </a:xfrm>
          <a:prstGeom prst="bentConnector5">
            <a:avLst>
              <a:gd name="adj1" fmla="val -49960"/>
              <a:gd name="adj2" fmla="val 50000"/>
              <a:gd name="adj3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238880" y="12193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5920" y="12193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4038480"/>
            <a:ext cx="68580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4038480"/>
            <a:ext cx="68580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4038480"/>
            <a:ext cx="609480" cy="304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12193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F5B-0319-4EC8-9EAD-D69BC63E6D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’Entreprise Réactiv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29480" y="2138400"/>
            <a:ext cx="2628720" cy="297828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758960"/>
            <a:ext cx="4264200" cy="3467160"/>
          </a:xfrm>
          <a:prstGeom prst="ellips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9160" y="3925800"/>
            <a:ext cx="1919520" cy="119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3360" y="3762360"/>
            <a:ext cx="1919160" cy="1192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génierie 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1520" y="2949480"/>
            <a:ext cx="1917720" cy="1192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 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19160" y="1866960"/>
            <a:ext cx="1919520" cy="1190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99"/>
                </a:solidFill>
                <a:latin typeface="Arial"/>
              </a:rPr>
              <a:t>Demande Marché -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40" idx="2"/>
          </p:cNvCxnSpPr>
          <p:nvPr/>
        </p:nvCxnSpPr>
        <p:spPr>
          <a:xfrm flipH="1" flipV="1" rot="10800000">
            <a:off x="1918080" y="2461680"/>
            <a:ext cx="2520" cy="2059920"/>
          </a:xfrm>
          <a:prstGeom prst="curvedConnector5">
            <a:avLst>
              <a:gd name="adj1" fmla="val -40200000"/>
              <a:gd name="adj2" fmla="val 49991"/>
              <a:gd name="adj3" fmla="val -40200000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5" name=""/>
          <p:cNvCxnSpPr>
            <a:stCxn id="143" idx="6"/>
            <a:endCxn id="142" idx="0"/>
          </p:cNvCxnSpPr>
          <p:nvPr/>
        </p:nvCxnSpPr>
        <p:spPr>
          <a:xfrm>
            <a:off x="3838320" y="2462040"/>
            <a:ext cx="462600" cy="4881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6" name=""/>
          <p:cNvCxnSpPr>
            <a:stCxn id="140" idx="6"/>
            <a:endCxn id="142" idx="4"/>
          </p:cNvCxnSpPr>
          <p:nvPr/>
        </p:nvCxnSpPr>
        <p:spPr>
          <a:xfrm flipV="1">
            <a:off x="3838320" y="4141440"/>
            <a:ext cx="462600" cy="3801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7" name=""/>
          <p:cNvCxnSpPr>
            <a:stCxn id="141" idx="2"/>
            <a:endCxn id="142" idx="5"/>
          </p:cNvCxnSpPr>
          <p:nvPr/>
        </p:nvCxnSpPr>
        <p:spPr>
          <a:xfrm rot="10800000">
            <a:off x="4977720" y="3966480"/>
            <a:ext cx="1205640" cy="3913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8" name=""/>
          <p:cNvCxnSpPr>
            <a:stCxn id="142" idx="2"/>
            <a:endCxn id="143" idx="4"/>
          </p:cNvCxnSpPr>
          <p:nvPr/>
        </p:nvCxnSpPr>
        <p:spPr>
          <a:xfrm rot="10800000">
            <a:off x="2878920" y="3056760"/>
            <a:ext cx="462600" cy="4896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9" name=""/>
          <p:cNvSpPr/>
          <p:nvPr/>
        </p:nvSpPr>
        <p:spPr>
          <a:xfrm>
            <a:off x="6183360" y="2300400"/>
            <a:ext cx="1919160" cy="1191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 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2" idx="7"/>
            <a:endCxn id="149" idx="2"/>
          </p:cNvCxnSpPr>
          <p:nvPr/>
        </p:nvCxnSpPr>
        <p:spPr>
          <a:xfrm flipH="1" flipV="1" rot="5400000">
            <a:off x="5466240" y="2408400"/>
            <a:ext cx="229320" cy="1205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1" name=""/>
          <p:cNvCxnSpPr>
            <a:stCxn id="141" idx="0"/>
            <a:endCxn id="149" idx="4"/>
          </p:cNvCxnSpPr>
          <p:nvPr/>
        </p:nvCxnSpPr>
        <p:spPr>
          <a:xfrm flipV="1">
            <a:off x="7143480" y="3492000"/>
            <a:ext cx="1080" cy="27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0" idx="6"/>
            <a:endCxn id="149" idx="3"/>
          </p:cNvCxnSpPr>
          <p:nvPr/>
        </p:nvCxnSpPr>
        <p:spPr>
          <a:xfrm flipV="1">
            <a:off x="3838680" y="3315600"/>
            <a:ext cx="2627640" cy="120564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</p:cxnSp>
      <p:cxnSp>
        <p:nvCxnSpPr>
          <p:cNvPr id="153" name=""/>
          <p:cNvCxnSpPr>
            <a:stCxn id="138" idx="5"/>
          </p:cNvCxnSpPr>
          <p:nvPr/>
        </p:nvCxnSpPr>
        <p:spPr>
          <a:xfrm>
            <a:off x="8074080" y="4680000"/>
            <a:ext cx="689760" cy="730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"/>
          <p:cNvCxnSpPr>
            <a:endCxn id="138" idx="7"/>
          </p:cNvCxnSpPr>
          <p:nvPr/>
        </p:nvCxnSpPr>
        <p:spPr>
          <a:xfrm flipH="1">
            <a:off x="8074080" y="1676520"/>
            <a:ext cx="536760" cy="899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"/>
          <p:cNvCxnSpPr>
            <a:endCxn id="139" idx="7"/>
          </p:cNvCxnSpPr>
          <p:nvPr/>
        </p:nvCxnSpPr>
        <p:spPr>
          <a:xfrm flipH="1">
            <a:off x="4706280" y="1449000"/>
            <a:ext cx="624600" cy="8182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"/>
          <p:cNvCxnSpPr>
            <a:endCxn id="139" idx="5"/>
          </p:cNvCxnSpPr>
          <p:nvPr/>
        </p:nvCxnSpPr>
        <p:spPr>
          <a:xfrm flipH="1" flipV="1">
            <a:off x="4706280" y="4717800"/>
            <a:ext cx="624600" cy="8452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B14-AFCF-40CB-A9CB-3B2BEFD5B7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3 types d’Entrepris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1447920"/>
          <a:ext cx="7848360" cy="44956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76160"/>
                <a:gridCol w="2971800"/>
              </a:tblGrid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pr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oins du March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inves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RO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ccff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ccff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e Prod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ur ajoutée / P*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ccffcc"/>
                        </a:gs>
                      </a:gsLst>
                      <a:lin ang="10800000"/>
                    </a:gra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e du Prod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ur ajoutée / P*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s Proces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 Res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ur ajoutée / R*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207-5CF2-4DF5-9DAE-5EF97FC673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es nouveau Cycles de développement des Processu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61" idx="2"/>
            <a:endCxn id="162" idx="0"/>
          </p:cNvCxnSpPr>
          <p:nvPr/>
        </p:nvCxnSpPr>
        <p:spPr>
          <a:xfrm flipH="1" flipV="1" rot="5400000">
            <a:off x="2658960" y="1456920"/>
            <a:ext cx="160920" cy="1799280"/>
          </a:xfrm>
          <a:prstGeom prst="curvedConnector5">
            <a:avLst>
              <a:gd name="adj1" fmla="val -142376"/>
              <a:gd name="adj2" fmla="val 23554"/>
              <a:gd name="adj3" fmla="val -1423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1066680" y="3125880"/>
            <a:ext cx="2115720" cy="1369800"/>
            <a:chOff x="1066680" y="3125880"/>
            <a:chExt cx="2115720" cy="1369800"/>
          </a:xfrm>
        </p:grpSpPr>
        <p:sp>
          <p:nvSpPr>
            <p:cNvPr id="164" name=""/>
            <p:cNvSpPr/>
            <p:nvPr/>
          </p:nvSpPr>
          <p:spPr>
            <a:xfrm>
              <a:off x="1066680" y="312588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09360" y="419112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4" idx="2"/>
              <a:endCxn id="165" idx="1"/>
            </p:cNvCxnSpPr>
            <p:nvPr/>
          </p:nvCxnSpPr>
          <p:spPr>
            <a:xfrm flipH="1" rot="16200000">
              <a:off x="1148760" y="3682800"/>
              <a:ext cx="913680" cy="408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2512440" y="383544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440" y="3478680"/>
              <a:ext cx="6703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5" idx="3"/>
              <a:endCxn id="167" idx="2"/>
            </p:cNvCxnSpPr>
            <p:nvPr/>
          </p:nvCxnSpPr>
          <p:spPr>
            <a:xfrm flipV="1">
              <a:off x="2479320" y="4139640"/>
              <a:ext cx="368640" cy="2037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7" idx="0"/>
              <a:endCxn id="168" idx="3"/>
            </p:cNvCxnSpPr>
            <p:nvPr/>
          </p:nvCxnSpPr>
          <p:spPr>
            <a:xfrm flipV="1" rot="16200000">
              <a:off x="2548080" y="3535560"/>
              <a:ext cx="204840" cy="3942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68" idx="0"/>
              <a:endCxn id="164" idx="3"/>
            </p:cNvCxnSpPr>
            <p:nvPr/>
          </p:nvCxnSpPr>
          <p:spPr>
            <a:xfrm flipV="1" rot="16200000">
              <a:off x="1826640" y="3186720"/>
              <a:ext cx="201240" cy="382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2552760" y="4649760"/>
            <a:ext cx="2115720" cy="1369800"/>
            <a:chOff x="2552760" y="4649760"/>
            <a:chExt cx="2115720" cy="1369800"/>
          </a:xfrm>
        </p:grpSpPr>
        <p:sp>
          <p:nvSpPr>
            <p:cNvPr id="173" name=""/>
            <p:cNvSpPr/>
            <p:nvPr/>
          </p:nvSpPr>
          <p:spPr>
            <a:xfrm>
              <a:off x="2552760" y="464976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5440" y="571500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73" idx="2"/>
              <a:endCxn id="174" idx="1"/>
            </p:cNvCxnSpPr>
            <p:nvPr/>
          </p:nvCxnSpPr>
          <p:spPr>
            <a:xfrm flipH="1" rot="16200000">
              <a:off x="2634840" y="5206680"/>
              <a:ext cx="913680" cy="408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3998520" y="535932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9520" y="5002560"/>
              <a:ext cx="6703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>
              <a:stCxn id="174" idx="3"/>
              <a:endCxn id="176" idx="2"/>
            </p:cNvCxnSpPr>
            <p:nvPr/>
          </p:nvCxnSpPr>
          <p:spPr>
            <a:xfrm flipV="1">
              <a:off x="3965400" y="5663880"/>
              <a:ext cx="368640" cy="2037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76" idx="0"/>
              <a:endCxn id="177" idx="3"/>
            </p:cNvCxnSpPr>
            <p:nvPr/>
          </p:nvCxnSpPr>
          <p:spPr>
            <a:xfrm flipV="1" rot="16200000">
              <a:off x="4034160" y="5059440"/>
              <a:ext cx="204840" cy="3942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7" idx="0"/>
              <a:endCxn id="173" idx="3"/>
            </p:cNvCxnSpPr>
            <p:nvPr/>
          </p:nvCxnSpPr>
          <p:spPr>
            <a:xfrm flipV="1" rot="16200000">
              <a:off x="3312720" y="4710600"/>
              <a:ext cx="201240" cy="382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1" name=""/>
          <p:cNvCxnSpPr>
            <a:stCxn id="165" idx="2"/>
            <a:endCxn id="173" idx="1"/>
          </p:cNvCxnSpPr>
          <p:nvPr/>
        </p:nvCxnSpPr>
        <p:spPr>
          <a:xfrm flipH="1" rot="16200000">
            <a:off x="2194920" y="4444200"/>
            <a:ext cx="306720" cy="408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4" idx="2"/>
            <a:endCxn id="164" idx="1"/>
          </p:cNvCxnSpPr>
          <p:nvPr/>
        </p:nvCxnSpPr>
        <p:spPr>
          <a:xfrm flipV="1" rot="16200000">
            <a:off x="977400" y="3366360"/>
            <a:ext cx="2742480" cy="2564640"/>
          </a:xfrm>
          <a:prstGeom prst="curvedConnector5">
            <a:avLst>
              <a:gd name="adj1" fmla="val -8336"/>
              <a:gd name="adj2" fmla="val 54457"/>
              <a:gd name="adj3" fmla="val -8336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6518160" y="1219320"/>
            <a:ext cx="224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ngénierie des Processus 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2666880"/>
            <a:ext cx="20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ngénierie des Fonctions Processus / Equi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49520" y="4327560"/>
            <a:ext cx="20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286000"/>
            <a:ext cx="876240" cy="3650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876920" y="3125880"/>
            <a:ext cx="2115720" cy="1369800"/>
            <a:chOff x="4876920" y="3125880"/>
            <a:chExt cx="2115720" cy="1369800"/>
          </a:xfrm>
        </p:grpSpPr>
        <p:sp>
          <p:nvSpPr>
            <p:cNvPr id="187" name=""/>
            <p:cNvSpPr/>
            <p:nvPr/>
          </p:nvSpPr>
          <p:spPr>
            <a:xfrm>
              <a:off x="4876920" y="312588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19600" y="419112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7" idx="2"/>
              <a:endCxn id="188" idx="1"/>
            </p:cNvCxnSpPr>
            <p:nvPr/>
          </p:nvCxnSpPr>
          <p:spPr>
            <a:xfrm flipH="1" rot="16200000">
              <a:off x="4959000" y="3682800"/>
              <a:ext cx="913680" cy="408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" name=""/>
            <p:cNvSpPr/>
            <p:nvPr/>
          </p:nvSpPr>
          <p:spPr>
            <a:xfrm>
              <a:off x="6322680" y="383544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93680" y="3478680"/>
              <a:ext cx="6703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88" idx="3"/>
              <a:endCxn id="190" idx="2"/>
            </p:cNvCxnSpPr>
            <p:nvPr/>
          </p:nvCxnSpPr>
          <p:spPr>
            <a:xfrm flipV="1">
              <a:off x="6289560" y="4139640"/>
              <a:ext cx="368640" cy="2037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90" idx="0"/>
              <a:endCxn id="191" idx="3"/>
            </p:cNvCxnSpPr>
            <p:nvPr/>
          </p:nvCxnSpPr>
          <p:spPr>
            <a:xfrm flipV="1" rot="16200000">
              <a:off x="6358320" y="3535560"/>
              <a:ext cx="204840" cy="3942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1" idx="0"/>
              <a:endCxn id="187" idx="3"/>
            </p:cNvCxnSpPr>
            <p:nvPr/>
          </p:nvCxnSpPr>
          <p:spPr>
            <a:xfrm flipV="1" rot="16200000">
              <a:off x="5636880" y="3186720"/>
              <a:ext cx="201240" cy="382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6362640" y="4649760"/>
            <a:ext cx="2115720" cy="1369800"/>
            <a:chOff x="6362640" y="4649760"/>
            <a:chExt cx="2115720" cy="1369800"/>
          </a:xfrm>
        </p:grpSpPr>
        <p:sp>
          <p:nvSpPr>
            <p:cNvPr id="196" name=""/>
            <p:cNvSpPr/>
            <p:nvPr/>
          </p:nvSpPr>
          <p:spPr>
            <a:xfrm>
              <a:off x="6362640" y="464976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05320" y="571500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>
              <a:stCxn id="196" idx="2"/>
              <a:endCxn id="197" idx="1"/>
            </p:cNvCxnSpPr>
            <p:nvPr/>
          </p:nvCxnSpPr>
          <p:spPr>
            <a:xfrm flipH="1" rot="16200000">
              <a:off x="6444720" y="5206680"/>
              <a:ext cx="913680" cy="408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7808400" y="5359320"/>
              <a:ext cx="6699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9400" y="5002560"/>
              <a:ext cx="6703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197" idx="3"/>
              <a:endCxn id="199" idx="2"/>
            </p:cNvCxnSpPr>
            <p:nvPr/>
          </p:nvCxnSpPr>
          <p:spPr>
            <a:xfrm flipV="1">
              <a:off x="7775280" y="5663880"/>
              <a:ext cx="368640" cy="2037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199" idx="0"/>
              <a:endCxn id="200" idx="3"/>
            </p:cNvCxnSpPr>
            <p:nvPr/>
          </p:nvCxnSpPr>
          <p:spPr>
            <a:xfrm flipV="1" rot="16200000">
              <a:off x="7844040" y="5059440"/>
              <a:ext cx="204840" cy="3942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200" idx="0"/>
              <a:endCxn id="196" idx="3"/>
            </p:cNvCxnSpPr>
            <p:nvPr/>
          </p:nvCxnSpPr>
          <p:spPr>
            <a:xfrm flipV="1" rot="16200000">
              <a:off x="7122600" y="4710600"/>
              <a:ext cx="201240" cy="382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04" name=""/>
          <p:cNvCxnSpPr>
            <a:stCxn id="188" idx="2"/>
            <a:endCxn id="196" idx="1"/>
          </p:cNvCxnSpPr>
          <p:nvPr/>
        </p:nvCxnSpPr>
        <p:spPr>
          <a:xfrm flipH="1" rot="16200000">
            <a:off x="6004800" y="4444200"/>
            <a:ext cx="306720" cy="408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7" idx="2"/>
            <a:endCxn id="187" idx="1"/>
          </p:cNvCxnSpPr>
          <p:nvPr/>
        </p:nvCxnSpPr>
        <p:spPr>
          <a:xfrm flipV="1" rot="16200000">
            <a:off x="4787280" y="3366720"/>
            <a:ext cx="2742480" cy="2564280"/>
          </a:xfrm>
          <a:prstGeom prst="curvedConnector5">
            <a:avLst>
              <a:gd name="adj1" fmla="val -8336"/>
              <a:gd name="adj2" fmla="val 54450"/>
              <a:gd name="adj3" fmla="val -8336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6" name=""/>
          <p:cNvCxnSpPr>
            <a:stCxn id="162" idx="2"/>
            <a:endCxn id="164" idx="0"/>
          </p:cNvCxnSpPr>
          <p:nvPr/>
        </p:nvCxnSpPr>
        <p:spPr>
          <a:xfrm rot="5400000">
            <a:off x="2286720" y="1774800"/>
            <a:ext cx="465840" cy="2237400"/>
          </a:xfrm>
          <a:prstGeom prst="curvedConnector5">
            <a:avLst>
              <a:gd name="adj1" fmla="val 48801"/>
              <a:gd name="adj2" fmla="val 50000"/>
              <a:gd name="adj3" fmla="val 488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62" idx="2"/>
            <a:endCxn id="187" idx="0"/>
          </p:cNvCxnSpPr>
          <p:nvPr/>
        </p:nvCxnSpPr>
        <p:spPr>
          <a:xfrm flipH="1" rot="16200000">
            <a:off x="4192560" y="2106360"/>
            <a:ext cx="465840" cy="1573920"/>
          </a:xfrm>
          <a:prstGeom prst="curvedConnector5">
            <a:avLst>
              <a:gd name="adj1" fmla="val 48801"/>
              <a:gd name="adj2" fmla="val 49988"/>
              <a:gd name="adj3" fmla="val 488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8" name=""/>
          <p:cNvGrpSpPr/>
          <p:nvPr/>
        </p:nvGrpSpPr>
        <p:grpSpPr>
          <a:xfrm>
            <a:off x="762120" y="1066680"/>
            <a:ext cx="2116080" cy="1370160"/>
            <a:chOff x="762120" y="1066680"/>
            <a:chExt cx="2116080" cy="1370160"/>
          </a:xfrm>
        </p:grpSpPr>
        <p:sp>
          <p:nvSpPr>
            <p:cNvPr id="209" name=""/>
            <p:cNvSpPr/>
            <p:nvPr/>
          </p:nvSpPr>
          <p:spPr>
            <a:xfrm>
              <a:off x="762120" y="106668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4800" y="213192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9" idx="2"/>
              <a:endCxn id="161" idx="1"/>
            </p:cNvCxnSpPr>
            <p:nvPr/>
          </p:nvCxnSpPr>
          <p:spPr>
            <a:xfrm flipH="1" rot="16200000">
              <a:off x="843480" y="1623960"/>
              <a:ext cx="913680" cy="408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2208240" y="177624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79600" y="141912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>
              <a:stCxn id="161" idx="3"/>
              <a:endCxn id="211" idx="2"/>
            </p:cNvCxnSpPr>
            <p:nvPr/>
          </p:nvCxnSpPr>
          <p:spPr>
            <a:xfrm flipV="1">
              <a:off x="2174400" y="2080440"/>
              <a:ext cx="369000" cy="204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12" idx="0"/>
              <a:endCxn id="209" idx="3"/>
            </p:cNvCxnSpPr>
            <p:nvPr/>
          </p:nvCxnSpPr>
          <p:spPr>
            <a:xfrm flipV="1" rot="16200000">
              <a:off x="1522800" y="1127160"/>
              <a:ext cx="200520" cy="383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11" idx="0"/>
              <a:endCxn id="212" idx="3"/>
            </p:cNvCxnSpPr>
            <p:nvPr/>
          </p:nvCxnSpPr>
          <p:spPr>
            <a:xfrm flipV="1" rot="16200000">
              <a:off x="2243520" y="1476720"/>
              <a:ext cx="205200" cy="394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" name=""/>
          <p:cNvGrpSpPr/>
          <p:nvPr/>
        </p:nvGrpSpPr>
        <p:grpSpPr>
          <a:xfrm>
            <a:off x="4267080" y="1066680"/>
            <a:ext cx="2116080" cy="1370160"/>
            <a:chOff x="4267080" y="1066680"/>
            <a:chExt cx="2116080" cy="1370160"/>
          </a:xfrm>
        </p:grpSpPr>
        <p:sp>
          <p:nvSpPr>
            <p:cNvPr id="217" name=""/>
            <p:cNvSpPr/>
            <p:nvPr/>
          </p:nvSpPr>
          <p:spPr>
            <a:xfrm>
              <a:off x="4267080" y="106668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09760" y="213192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7" idx="2"/>
              <a:endCxn id="218" idx="1"/>
            </p:cNvCxnSpPr>
            <p:nvPr/>
          </p:nvCxnSpPr>
          <p:spPr>
            <a:xfrm flipH="1" rot="16200000">
              <a:off x="4348440" y="1623960"/>
              <a:ext cx="913680" cy="408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5713200" y="177624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84560" y="1419120"/>
              <a:ext cx="6699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18" idx="3"/>
              <a:endCxn id="220" idx="2"/>
            </p:cNvCxnSpPr>
            <p:nvPr/>
          </p:nvCxnSpPr>
          <p:spPr>
            <a:xfrm flipV="1">
              <a:off x="5679360" y="2080440"/>
              <a:ext cx="369000" cy="204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21" idx="0"/>
              <a:endCxn id="217" idx="3"/>
            </p:cNvCxnSpPr>
            <p:nvPr/>
          </p:nvCxnSpPr>
          <p:spPr>
            <a:xfrm flipV="1" rot="16200000">
              <a:off x="5027760" y="1127160"/>
              <a:ext cx="200520" cy="383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20" idx="0"/>
              <a:endCxn id="221" idx="3"/>
            </p:cNvCxnSpPr>
            <p:nvPr/>
          </p:nvCxnSpPr>
          <p:spPr>
            <a:xfrm flipV="1" rot="16200000">
              <a:off x="5748480" y="1476720"/>
              <a:ext cx="205200" cy="394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25" name=""/>
          <p:cNvCxnSpPr>
            <a:stCxn id="218" idx="2"/>
            <a:endCxn id="162" idx="0"/>
          </p:cNvCxnSpPr>
          <p:nvPr/>
        </p:nvCxnSpPr>
        <p:spPr>
          <a:xfrm flipV="1" rot="16200000">
            <a:off x="4411080" y="1502640"/>
            <a:ext cx="160920" cy="1707480"/>
          </a:xfrm>
          <a:prstGeom prst="curvedConnector5">
            <a:avLst>
              <a:gd name="adj1" fmla="val -142376"/>
              <a:gd name="adj2" fmla="val 23471"/>
              <a:gd name="adj3" fmla="val -1423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45B-B03E-4878-9B06-78F4DD794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22:07Z</dcterms:created>
  <dc:creator>Gregory A. Noll</dc:creator>
  <dc:description/>
  <dc:language>en-US</dc:language>
  <cp:lastModifiedBy>Jean Vieille</cp:lastModifiedBy>
  <dcterms:modified xsi:type="dcterms:W3CDTF">2000-01-20T06:06:01Z</dcterms:modified>
  <cp:revision>55</cp:revision>
  <dc:subject/>
  <dc:title>No Slide Title</dc:title>
</cp:coreProperties>
</file>