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lick to move the slide</a:t>
            </a:r>
            <a:endParaRPr b="1" lang="en-US" sz="2800" spc="-1" strike="noStrike">
              <a:solidFill>
                <a:srgbClr val="ffcc00"/>
              </a:solidFill>
              <a:latin typeface="Arial"/>
            </a:endParaRPr>
          </a:p>
        </p:txBody>
      </p:sp>
      <p:sp>
        <p:nvSpPr>
          <p:cNvPr id="5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A69B0-F76F-4EAD-BD5D-B57A8D4093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Times New Roman"/>
              </a:rPr>
              <a:t>Les ateliers batch sont souvent destinés à la fabrication de produits critiques par nature ou par destination. Du produit chimique toxique au principe actif pharmaceutique, des règles de fabrication strictes doivent être suivies sous peine de risques physiques (danger pour les personnes ou pour l’environnement) ou économiques (interdiction de mise au marché).</a:t>
            </a: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Times New Roman"/>
              </a:rPr>
              <a:t>A l’inverse des procédés continus qui, une fois “ réglés ”, sont généralement simples à surveiller (les dérives d’une donnée stable sont faciles à détecter), chaque fabrication d’un procédé discontinu est en quelque sorte une nouvelle aventure…</a:t>
            </a: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Times New Roman"/>
              </a:rPr>
              <a:t>Dans ce contexte, le compagnon indispensable des fabrications “ batch ” (par lot), est le rapport de fabrication. Plus la fabrication est aléatoire, plus ce rapport est important. Lui seul attestera que le produit issu est conforme à la spécification.</a:t>
            </a: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Times New Roman"/>
              </a:rPr>
              <a:t>L’exploitation des données, grandement facilitée par l’utilisation d’une base unique, est réalisée grâce à une riche panoplie d’outils d’exploitation :</a:t>
            </a: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Times New Roman"/>
              </a:rPr>
              <a:t>Tous les outils connectables sur MS SQL Server peuvent, par principe, être utilisés pour “ piocher ” dans la base de donnée de FactorySuite 2000 : Access, Excel, Query, Visual Basic, Power Builder… et bien d’autres. Cependant, FactorySuite 2000 propose de nombreux outils “ métier ” correspondant aux besoins principaux :</a:t>
            </a: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Times New Roman"/>
              </a:rPr>
              <a:t>InBatch dispose d’une panoplie de rapports pré-configurés sous Crystal Report, générateur puissant et simple à utiliser. Ces rapports (fabrications, bilans matières, généalogie de lot, journaux…) peuvent être modifiés, et de nouveaux rapports peuvent être créés pour répondre aux besoins les plus spécifiques.</a:t>
            </a:r>
            <a:endParaRPr b="0" lang="en-US" sz="5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Times New Roman"/>
              </a:rPr>
              <a:t>InSQL propose des outils spécifiques tels que Trend (courbes historiques ou fil de l’eau) ou Vector (courbes X/Y), et un ActiveX courbes historiques pour InTouch ou Visual Basic.</a:t>
            </a: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Times New Roman"/>
              </a:rPr>
              <a:t>AlarmSuite propose des ActiveX d’alarmes au fil de l’eau ou historiques, diagrammes de Pareto et arborescence d’alarmes.</a:t>
            </a: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Times New Roman"/>
              </a:rPr>
              <a:t>De nombreux intégrateurs ont développé des ActiveX ou autres programmes qui, connectés à SQL Server rendent des services spécifiques dans des domaines variés.</a:t>
            </a: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lvl="2" marL="914400" indent="0">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Times New Roman"/>
              </a:rPr>
              <a:t>Enfin, une caractéristique précieuse de FactorySuite 2000, liée à son homogénéité, est son aptitude à faciliter les corrélations lot / continu. Ainsi, nous pourrons facilement générer des requêtes SQL correspondant aux questions suivantes :</a:t>
            </a: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Times New Roman"/>
              </a:rPr>
              <a:t>Quelle a été ma consommation d’énergie pendant la fabrication du lot 12345 ?</a:t>
            </a: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Times New Roman"/>
              </a:rPr>
              <a:t>Quels lots a-t-on fabriqué pendant que la température du silo était supérieure à 43 °C ?</a:t>
            </a: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Times New Roman"/>
              </a:rPr>
              <a:t>Quelles étaient les alarmes actives lorsque la phase cuisson de l’unité R23 s’est arrêtée ?</a:t>
            </a: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Nous avons mis en place un système de traçabilité complet combinant quatre modes d’acquisition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Acquisition des données par lot de l’atelier batch. InBatch enregistre toutes les événements en rapport avec des équipements utilisés à un instant t par un lot qu’il contrôl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Acquisition des données continues. InSQL enregistre en continu (pour simplifier) les données hors lots, en principe dans un cadre plus grand que le seul atelier batch. On lui aura par exemple confié l’activité des procédés continus amont, des utilités, et de quelques données importantes de l’atelier lui mêm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Acquisition des alarmes et événements avec AlarmSuite. Il s’agit aussi d’enregistrement hors lots, qui auront souvent le même champ d’activités que celui d’InSQL.</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Acquisition des données par lot des ateliers de conditionnement. InTrack enregistre tous les événements en rapport avec des machines utilisées à un instant t par les lots qu’il contrôl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Générées par des composants logiciels adaptés à leur type, toutes les données acquises par FactorySuite 2000 sont stockées dans une base de données cohérentes. Elles pourront être exploitées manuellement ou automatiquement par des utilisateurs diversifiés, à l’aide d’outils adaptés au métier de ces dernier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Pour les besoins spécifiques, de simples requêtes SQL fourniront à Excel, Visual Basic, Access ou Power Builder les données voulues, qu’il suffira de mettre en forme.</a:t>
            </a:r>
            <a:endParaRPr b="0" lang="en-US" sz="9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Times New Roman"/>
              </a:rPr>
              <a:t>Pourtant, il existe des cas ou notre système ne sera pas adapté à faire face à certains impondérables. La situation suivante en est une illustration :</a:t>
            </a: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Times New Roman"/>
              </a:rPr>
              <a:t>Un lot occupe à un instant t le doseur D1, ainsi que le réacteur R1. InBatch a alloué à ce lot ces équipements, et en trace scrupuleusement toute l’activité. Toute action opérateur, variation process ou événement concernant ces unités sera consigné et disponible lors de la génération du rapport de fabrication.</a:t>
            </a: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Times New Roman"/>
              </a:rPr>
              <a:t>Un opérateur décide d’utiliser le doseur D2 en manuel (hors recette) pour effectuer un lavage. Ceci est tout a fait légitime, et ces opérations seront tracées dans InSQL.</a:t>
            </a: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Times New Roman"/>
              </a:rPr>
              <a:t>Par inadvertance, notre opérateur télécommande la vanne de transfert de D2 vers R1. Le contenu du lot en cours de fabrication dans R1 s’en retrouve pollué, sans qu’InBatch ne le constate (le doseur D2 n’est pas sous surveillance).</a:t>
            </a: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Times New Roman"/>
              </a:rPr>
              <a:t>Lors de l’édition de notre rapport batch, aucune trace de cette pollution n’apparaîtra. Nous devrons aller chercher l’information dans InSQL, mais comment prendre cette décision si nous ne savons pas qu’un incident s’est déroulé ?</a:t>
            </a: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Times New Roman"/>
              </a:rPr>
              <a:t>Quelles sont nos possibilités de remédier à un tel incident :</a:t>
            </a: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Times New Roman"/>
              </a:rPr>
              <a:t>Demander à InBatch d’allouer les équipements périphériques de ceux utilisés par le lot. Ceci revient à diminuer notre capacité de production, puisque ces équipements, dès lors, ne seront plus disponibles pour d’autres fabrications, lavages en ligne, etc.</a:t>
            </a: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Times New Roman"/>
              </a:rPr>
              <a:t>Inclure dans notre rapport, systématiquement, les données concernant les équipements périphériques. La taille de notre rapport s’en trouve multipliée de façon considérable, et sa lisibilité deviendra impossible.</a:t>
            </a: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Times New Roman"/>
              </a:rPr>
              <a:t>Empêcher l’incident de se produire : mieux vaut prévenir que guérir. Cette méthode est indéniablement la meilleure, puisque non seulement, nous réglons notre problème de traçabilité, mais, de plus, nous évitons de coûteuses mises à l’égout. Pour y parvenir, nous devrons nous intéresser au fonctionnement des couches basses, ce qu’InBatch ne fait normalement pas, puisqu’il dialogue avec ces dernières au travers d’une interface normée, sans savoir ce qui est fait plus bas.</a:t>
            </a: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Times New Roman"/>
              </a:rPr>
              <a:t>Rhône-Poulenc a mis au point une méthodologie, appelée ASTRID, visant à améliorer la sûreté de fonctionnement des ateliers batch. C’est en s’inspirant de cette méthodologie qu’a été conçu SureBatch, librairie “ métier ” pour le système APACS.</a:t>
            </a: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Times New Roman"/>
              </a:rPr>
              <a:t>SureBatch est un complément de la norme S88. Celle-ci définit précisément les couches recettes et l’interface avec les phases des fabrications batch, mais ne précise pas les règles de d’écriture de ces phases.</a:t>
            </a: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Times New Roman"/>
              </a:rPr>
              <a:t>Pour mémoire, une phase est une opération procédé qui, lorsqu’elle est terminée, laisse ce dernier dans un état stable. Ce sont ces phases qui sont enchaînées par le gestionnaire batch (InBatch) conformément à ce qui est spécifié dans la recette. Typiquement, on rencontrera des phases de transfert, de cuisson, de vidange, etc. Ces phases peuvent être exécutées par un opérateur, ou automatisées, tâche alors souvent confiée à un automate programmable.</a:t>
            </a: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Times New Roman"/>
              </a:rPr>
              <a:t>Chaque phase automatisée est décrite par une logique spécifique, laissée à la charge de l’utilisateur, qui pilote des actionneurs et exploite les informations fournies par les capteurs. Plusieurs phases se partagent les mêmes capteurs et actionneurs, ce qui génère une complexité logique souvent importante. Prévoir, à ce niveau, les verrouillages nécessaires afin d’éviter que la situation décrite plus haut ne se produise est très difficile en l’absence d’une méthodologie stricte. De plus, pour les ateliers soumis à inspection préalable, non seulement il faudra prévoir ces verrouillages, mais aussi prouver que ceux-ci sont efficaces.</a:t>
            </a: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Times New Roman"/>
              </a:rPr>
              <a:t>Certains domaines, tels que la pharmacie, imposent l’existence de ce rapport pour que le produit fabriqué puisse être commercialisé. Pour le producteur, cette contrainte impose un outil de traçabilité d’une grande fiabilité, sa défaillance équivalant à une perte de production.</a:t>
            </a:r>
            <a:endParaRPr b="0" lang="en-US" sz="5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Times New Roman"/>
              </a:rPr>
              <a:t>Pour d’autres, le rapport de fabrication est un composant indispensable de la démarche qualité, ou un outil dont l’analyse permettra l’optimisation des consommations matières, ou encore, un moyen d’améliorer les pratiques de fabrication.</a:t>
            </a:r>
            <a:endParaRPr b="0" lang="en-US" sz="5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SureBatch met en œuvre un modèle du procédé qui consiste à le décomposer en une couche supplémentaire, appelée “ ressource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Une ressource est un groupe d’équipements capables d’effectuer une opération procédé binaire et élémentaire. Par exemple, la ressource réacteur peut vidanger ce dernier, ce qui consiste à ouvrir sa vanne de fond, sans s’intéresser à la destination du produit. La phase souhaitant vidanger le réacteur dans S1 devra non seulement commander la ressource de vidange du réacteur, mais aussi les ressources qui aiguilleront le produit jusqu’à S1.</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Les capteurs et actionneurs appartiennent chacun à une seule ressource. Chaque ressource ne peut être utilisée que par une phase à la foi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Les organes (généralement les vannes) qui assurent l’isolement des ressources entre elles sont régis par une règle qui sécurise les mouvements de produits : un organe “ frontière ” ne peut être commandé que si la phase qui occupe sa ressource, est la même que celle qui occupe la ressource adjacent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Ce mécanisme, le “ cadenassage ”, est  intégré au modèle et donc transparent pour l’utilisateur. Il augmente de façon considérable la sûreté de fonctionnement de l’atelier et en garantit une bien meilleure traçabilité.</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Enfin, grâce à son approche objets (SureBatch décrit des objets organes, ressources et phases) SureBatch assure la ségrégation entre les couches organes, ressources et phases, ce qui améliore grandement la maintenabilité du système. La modification d’une ressource, par exemple, n’affectera pas les autres ressources, de la même manière que la modification d’une phase n’affectera pas les autres phase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En conclusion, la démarche de traçabilité des ateliers batch doit être menée sur plusieurs fronts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InBatch, l’outil de base qui, au sein des ateliers les plus complexes et dynamiques, est capable de tracer toutes les situations qu’il contrôle,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InSQL et AlarmSuite, qui auront enregistré des données précieuses lorsqu’une situation soustrait le contrôle de la fabrication à InBatch.</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SureBatch, qui empêchera les opérations que ni InBatch, ni InSQL, ni AlarmSuite ne peuvent déceler, et qu’il faudra par conséquent éviter impérativemen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Times New Roman"/>
              </a:rPr>
              <a:t>Pour que les rapports soient aisément exploitables, il s’agit de fournir des renseignements portant sur les conditions et méthodes de fabrication d’un lot donné :</a:t>
            </a:r>
            <a:endParaRPr b="0" lang="en-US" sz="500" spc="-1" strike="noStrike">
              <a:solidFill>
                <a:srgbClr val="000000"/>
              </a:solidFill>
              <a:latin typeface="Times New Roman"/>
            </a:endParaRPr>
          </a:p>
          <a:p>
            <a:pPr indent="0">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Times New Roman"/>
              </a:rPr>
              <a:t>Ce lot ayant été produit à partir d’ingrédients appartenant eux-mêmes à d’autres lots, qui eux-mêmes… etc. , le rapport devra permettre de retracer la généalogie de ces lot. Si tous les fournisseurs “ acteurs ” d’un lot suivent les mêmes règles, on pourra remonter à l’origine réelle d’un éventuel défaut du produit fini.</a:t>
            </a:r>
            <a:endParaRPr b="0" lang="en-US" sz="500" spc="-1" strike="noStrike">
              <a:solidFill>
                <a:srgbClr val="000000"/>
              </a:solidFill>
              <a:latin typeface="Times New Roman"/>
            </a:endParaRPr>
          </a:p>
          <a:p>
            <a:pPr indent="0">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Times New Roman"/>
              </a:rPr>
              <a:t>Dans ce même rapport, la manière dont la cuisson du lot, par exemple, s’est déroulée est un élément intéressant. Il vaudra peut-être mieux insérer certaines valeurs correspondant à cette phase de la fabrication (mini, maxi, durée…) plutôt que d’y voir paraître la longue liste des valeurs de cette température correspondant aux dates de début et de fin de cette fabrication.</a:t>
            </a:r>
            <a:endParaRPr b="0" lang="en-US" sz="500" spc="-1" strike="noStrike">
              <a:solidFill>
                <a:srgbClr val="000000"/>
              </a:solidFill>
              <a:latin typeface="Times New Roman"/>
            </a:endParaRPr>
          </a:p>
          <a:p>
            <a:pPr indent="0">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Times New Roman"/>
              </a:rPr>
              <a:t>Beaucoup de procédés batch restent peu automatisés, car peu automatisables. De ce fait, l’opérateur est fortement impliqué dans les fabrications, et les actions de ce dernier (comme tous les événements affectant la fabrication) devront être scrupuleusement tracées.</a:t>
            </a:r>
            <a:endParaRPr b="0" lang="en-US" sz="500" spc="-1" strike="noStrike">
              <a:solidFill>
                <a:srgbClr val="000000"/>
              </a:solidFill>
              <a:latin typeface="Times New Roman"/>
            </a:endParaRPr>
          </a:p>
          <a:p>
            <a:pPr indent="0">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Times New Roman"/>
              </a:rPr>
              <a:t>Enfin, il s’agira de ne pas oublier l’impondérable, car lui n’oublie jamais d’être présent. C’est sur ce dernier point que se creuse souvent l’écart entre les systèmes.</a:t>
            </a: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Times New Roman"/>
              </a:rPr>
              <a:t>Lorsqu’on souhaite tracer une fabrication continue, on n’a d’autre choix que d’enregistrer tous les paramètres de cette fabrication, en permanence. Des filtres appliqués aux mesures et des algorithmes de compression permettront d’économiser de l’espace de stockage et d’optimiser les débits, mais la réflexion de l’utilisateur n’ira guère plus loin.</a:t>
            </a:r>
            <a:endParaRPr b="0" lang="en-US" sz="500" spc="-1" strike="noStrike">
              <a:solidFill>
                <a:srgbClr val="000000"/>
              </a:solidFill>
              <a:latin typeface="Times New Roman"/>
            </a:endParaRPr>
          </a:p>
          <a:p>
            <a:pPr indent="0">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Times New Roman"/>
              </a:rPr>
              <a:t>Pour tracer les données d’un procédé discontinu, on s’attache à enregistrer des informations liées à un lot donnée, et on verra plus loin que la difficulté en est tout autre.</a:t>
            </a:r>
            <a:endParaRPr b="0" lang="en-US" sz="5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Times New Roman"/>
              </a:rPr>
              <a:t>Les lots se déplacent dans l’atelier, et l’exercice est assimilable à une chasse aux papillons, où l’on cherche à attraper une information qui se déplace en permanence.</a:t>
            </a: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Times New Roman"/>
              </a:rPr>
              <a:t>Le problème principal des ateliers batch est que souvent, l’utilisateur, de manière bien légitime, souhaite en optimiser la performance. Ceci résulte dans le fait qu’au sein d’un même atelier, se déroulent simultanément des opérations concernant des lots différents.</a:t>
            </a:r>
            <a:endParaRPr b="0" lang="en-US" sz="500" spc="-1" strike="noStrike">
              <a:solidFill>
                <a:srgbClr val="000000"/>
              </a:solidFill>
              <a:latin typeface="Times New Roman"/>
            </a:endParaRPr>
          </a:p>
          <a:p>
            <a:pPr indent="0">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Times New Roman"/>
              </a:rPr>
              <a:t>Ainsi, lorsqu’un lot libère un réacteur en étant transféré dans un malaxeur, par exemple, le réacteur peut alors recevoir le lot suivant. Les lots occupent simultanément l’atelier, en série.</a:t>
            </a:r>
            <a:endParaRPr b="0" lang="en-US" sz="500" spc="-1" strike="noStrike">
              <a:solidFill>
                <a:srgbClr val="000000"/>
              </a:solidFill>
              <a:latin typeface="Times New Roman"/>
            </a:endParaRPr>
          </a:p>
          <a:p>
            <a:pPr indent="0">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Times New Roman"/>
              </a:rPr>
              <a:t>Dans d’autres cas, ce sont plusieurs réacteurs connectés aux mêmes réservoirs de stockage qui travaillent en parallèle sur des lots différents.</a:t>
            </a: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Times New Roman"/>
              </a:rPr>
              <a:t>On rencontrera des ateliers ou de multiples lots sont traités en série et en parallèle, pendant que des opérations de lavage en ligne sont en cours indépendamment de la fabrication des lots eux-mêmes.</a:t>
            </a:r>
            <a:endParaRPr b="0" lang="en-US" sz="500" spc="-1" strike="noStrike">
              <a:solidFill>
                <a:srgbClr val="000000"/>
              </a:solidFill>
              <a:latin typeface="Times New Roman"/>
            </a:endParaRPr>
          </a:p>
          <a:p>
            <a:pPr indent="0">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Times New Roman"/>
              </a:rPr>
              <a:t>Enfin, des opérations manuelles peuvent fort bien se dérouler, hors fabrication en cours, sur des équipements n’étant pas occupés par les fabrications en cours.</a:t>
            </a: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Times New Roman"/>
              </a:rPr>
              <a:t>Il nous faut tout d'abord enregistrer les événements liés aux fabrications elles-mêmes.</a:t>
            </a: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Times New Roman"/>
              </a:rPr>
              <a:t>Pour cela, InBatch est bien placé. C’est lui qui déplace les lots, et qui, par conséquent, sait où est l’information procédé qu’il lui faut enregistrer pour un lot donné, à un instant t. C’est lui qui consomme et produit des matières, et qui, de ce fait est le mieux placé pour enregistrer la généalogie des lots. Comme c’est lui qui guide l’opérateurs pendant le déroulement d’une fabrication (au travers de la recette), c’est à lui que ce dernier confirmera le fait qu’une action a été effectuée ou non. Sans cette information InBatch suspendra la fabrication.</a:t>
            </a: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Times New Roman"/>
              </a:rPr>
              <a:t>En temps normal, ces informations seront suffisantes pour produire le rapport attendu. Leur volume et leur mode d’enregistrement par lot sont optimisés, et c’est dans la base de données commune à tous les composants de FactorySuite 2000, Microsoft SQL Server, qu’elles seront stockées.</a:t>
            </a: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Times New Roman"/>
              </a:rPr>
              <a:t>Pourtant, d’autres utilisateurs dans l’atelier, l’usine ou les bureaux ont besoins d’informations qui ne sont, quant à elles, pas attachées aux lots.</a:t>
            </a: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Times New Roman"/>
              </a:rPr>
              <a:t>De l’opérateur qui surveille ses alarmes process au directeur du site qui doit décider de l’augmentation de capacité de l’usine, en passant par le responsable de la production qui cherche à optimiser sa consommation énergétique, ce sont bien d’autres informations qui doivent être enregistrées afin de satisfaire tous les utilisateurs du système d’information.</a:t>
            </a: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Times New Roman"/>
              </a:rPr>
              <a:t>A l’aide d’AlarmSuite, FactorySuite 2000 enregistre les alarmes dans MS SQL Server. Avec InSQL, FactorySuite 2000 enregistre les données continues, compressées, dans MS SQL Server.</a:t>
            </a: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Times New Roman"/>
              </a:rPr>
              <a:t>Dès lors, notre base de données commune contient tout, pour tous.</a:t>
            </a: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Times New Roman"/>
              </a:rPr>
              <a:t>Lorsqu’une unité est victime d’un incident, et qu’un opérateur doit terminer la fabrication manuellement, hors recette, InBatch ne peut que jeter l’éponge. Pour lui, la fabrication est abandonnée et il ne pourra plus tracer ce qui, pour lui, n’existe plus.</a:t>
            </a: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Times New Roman"/>
              </a:rPr>
              <a:t>InSQL, dont la mission est d’enregistrer en continu, à l’échelle de l’usine, ne manquera pas cet épisode. Les variations du procédé, événements et actions de l’opérateur seront collectées parmi bien d’autres, indépendamment des lots en cours de production.</a:t>
            </a: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Times New Roman"/>
              </a:rPr>
              <a:t>En fin de fabrication, on produira le rapport généré à partir des informations par lot collectées par InBatch, fusionnées aux informations continues collectées par InSQL correspondant à l’atelier concerné et pendant la tranche de temps liée à ce lot.</a:t>
            </a:r>
            <a:endParaRPr b="0" lang="en-US" sz="5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17D800-6F0D-40C4-8E6D-3552799A25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304560"/>
            <a:ext cx="62481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8" name="PlaceHolder 2"/>
          <p:cNvSpPr>
            <a:spLocks noGrp="1"/>
          </p:cNvSpPr>
          <p:nvPr>
            <p:ph/>
          </p:nvPr>
        </p:nvSpPr>
        <p:spPr>
          <a:xfrm>
            <a:off x="990360" y="1143000"/>
            <a:ext cx="79246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39" name="PlaceHolder 3"/>
          <p:cNvSpPr>
            <a:spLocks noGrp="1"/>
          </p:cNvSpPr>
          <p:nvPr>
            <p:ph/>
          </p:nvPr>
        </p:nvSpPr>
        <p:spPr>
          <a:xfrm>
            <a:off x="990360" y="3769920"/>
            <a:ext cx="79246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F2E07-2DCC-40FB-983E-130C506FC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62120" y="304560"/>
            <a:ext cx="62481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41" name="PlaceHolder 2"/>
          <p:cNvSpPr>
            <a:spLocks noGrp="1"/>
          </p:cNvSpPr>
          <p:nvPr>
            <p:ph/>
          </p:nvPr>
        </p:nvSpPr>
        <p:spPr>
          <a:xfrm>
            <a:off x="990360" y="1143000"/>
            <a:ext cx="3867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42" name="PlaceHolder 3"/>
          <p:cNvSpPr>
            <a:spLocks noGrp="1"/>
          </p:cNvSpPr>
          <p:nvPr>
            <p:ph/>
          </p:nvPr>
        </p:nvSpPr>
        <p:spPr>
          <a:xfrm>
            <a:off x="5051160" y="1143000"/>
            <a:ext cx="3867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43" name="PlaceHolder 4"/>
          <p:cNvSpPr>
            <a:spLocks noGrp="1"/>
          </p:cNvSpPr>
          <p:nvPr>
            <p:ph/>
          </p:nvPr>
        </p:nvSpPr>
        <p:spPr>
          <a:xfrm>
            <a:off x="990360" y="3769920"/>
            <a:ext cx="3867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44" name="PlaceHolder 5"/>
          <p:cNvSpPr>
            <a:spLocks noGrp="1"/>
          </p:cNvSpPr>
          <p:nvPr>
            <p:ph/>
          </p:nvPr>
        </p:nvSpPr>
        <p:spPr>
          <a:xfrm>
            <a:off x="5051160" y="3769920"/>
            <a:ext cx="3867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9091B5-1BA4-497A-A551-A1433F33C5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304560"/>
            <a:ext cx="62481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46" name="PlaceHolder 2"/>
          <p:cNvSpPr>
            <a:spLocks noGrp="1"/>
          </p:cNvSpPr>
          <p:nvPr>
            <p:ph/>
          </p:nvPr>
        </p:nvSpPr>
        <p:spPr>
          <a:xfrm>
            <a:off x="990360" y="1143000"/>
            <a:ext cx="25516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47" name="PlaceHolder 3"/>
          <p:cNvSpPr>
            <a:spLocks noGrp="1"/>
          </p:cNvSpPr>
          <p:nvPr>
            <p:ph/>
          </p:nvPr>
        </p:nvSpPr>
        <p:spPr>
          <a:xfrm>
            <a:off x="3669840" y="1143000"/>
            <a:ext cx="25516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48" name="PlaceHolder 4"/>
          <p:cNvSpPr>
            <a:spLocks noGrp="1"/>
          </p:cNvSpPr>
          <p:nvPr>
            <p:ph/>
          </p:nvPr>
        </p:nvSpPr>
        <p:spPr>
          <a:xfrm>
            <a:off x="6349680" y="1143000"/>
            <a:ext cx="25516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49" name="PlaceHolder 5"/>
          <p:cNvSpPr>
            <a:spLocks noGrp="1"/>
          </p:cNvSpPr>
          <p:nvPr>
            <p:ph/>
          </p:nvPr>
        </p:nvSpPr>
        <p:spPr>
          <a:xfrm>
            <a:off x="990360" y="3769920"/>
            <a:ext cx="25516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50" name="PlaceHolder 6"/>
          <p:cNvSpPr>
            <a:spLocks noGrp="1"/>
          </p:cNvSpPr>
          <p:nvPr>
            <p:ph/>
          </p:nvPr>
        </p:nvSpPr>
        <p:spPr>
          <a:xfrm>
            <a:off x="3669840" y="3769920"/>
            <a:ext cx="25516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51" name="PlaceHolder 7"/>
          <p:cNvSpPr>
            <a:spLocks noGrp="1"/>
          </p:cNvSpPr>
          <p:nvPr>
            <p:ph/>
          </p:nvPr>
        </p:nvSpPr>
        <p:spPr>
          <a:xfrm>
            <a:off x="6349680" y="3769920"/>
            <a:ext cx="25516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81FB1C-5C9B-4223-A922-C5D45A097F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304560"/>
            <a:ext cx="62481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17" name="PlaceHolder 2"/>
          <p:cNvSpPr>
            <a:spLocks noGrp="1"/>
          </p:cNvSpPr>
          <p:nvPr>
            <p:ph type="subTitle"/>
          </p:nvPr>
        </p:nvSpPr>
        <p:spPr>
          <a:xfrm>
            <a:off x="990360" y="1143000"/>
            <a:ext cx="792468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40193-9E00-4969-AA26-14EB59D42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304560"/>
            <a:ext cx="62481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19" name="PlaceHolder 2"/>
          <p:cNvSpPr>
            <a:spLocks noGrp="1"/>
          </p:cNvSpPr>
          <p:nvPr>
            <p:ph/>
          </p:nvPr>
        </p:nvSpPr>
        <p:spPr>
          <a:xfrm>
            <a:off x="990360" y="1143000"/>
            <a:ext cx="792468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C50A9-6518-4F7F-A3DA-658A734C0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304560"/>
            <a:ext cx="62481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21" name="PlaceHolder 2"/>
          <p:cNvSpPr>
            <a:spLocks noGrp="1"/>
          </p:cNvSpPr>
          <p:nvPr>
            <p:ph/>
          </p:nvPr>
        </p:nvSpPr>
        <p:spPr>
          <a:xfrm>
            <a:off x="990360" y="1143000"/>
            <a:ext cx="38671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22" name="PlaceHolder 3"/>
          <p:cNvSpPr>
            <a:spLocks noGrp="1"/>
          </p:cNvSpPr>
          <p:nvPr>
            <p:ph/>
          </p:nvPr>
        </p:nvSpPr>
        <p:spPr>
          <a:xfrm>
            <a:off x="5051160" y="1143000"/>
            <a:ext cx="38671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F2A4C-2A37-49E1-A116-ED8988AFA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762120" y="304560"/>
            <a:ext cx="62481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E9850-4AC5-4F9C-9315-C15E45335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762120" y="304560"/>
            <a:ext cx="624816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8A3B4-4394-4434-8954-7F3D21E7A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304560"/>
            <a:ext cx="62481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26" name="PlaceHolder 2"/>
          <p:cNvSpPr>
            <a:spLocks noGrp="1"/>
          </p:cNvSpPr>
          <p:nvPr>
            <p:ph/>
          </p:nvPr>
        </p:nvSpPr>
        <p:spPr>
          <a:xfrm>
            <a:off x="990360" y="1143000"/>
            <a:ext cx="3867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27" name="PlaceHolder 3"/>
          <p:cNvSpPr>
            <a:spLocks noGrp="1"/>
          </p:cNvSpPr>
          <p:nvPr>
            <p:ph/>
          </p:nvPr>
        </p:nvSpPr>
        <p:spPr>
          <a:xfrm>
            <a:off x="5051160" y="1143000"/>
            <a:ext cx="38671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28" name="PlaceHolder 4"/>
          <p:cNvSpPr>
            <a:spLocks noGrp="1"/>
          </p:cNvSpPr>
          <p:nvPr>
            <p:ph/>
          </p:nvPr>
        </p:nvSpPr>
        <p:spPr>
          <a:xfrm>
            <a:off x="990360" y="3769920"/>
            <a:ext cx="3867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3ECCF-DDCB-40BE-84B1-9F4AF4526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304560"/>
            <a:ext cx="62481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0" name="PlaceHolder 2"/>
          <p:cNvSpPr>
            <a:spLocks noGrp="1"/>
          </p:cNvSpPr>
          <p:nvPr>
            <p:ph/>
          </p:nvPr>
        </p:nvSpPr>
        <p:spPr>
          <a:xfrm>
            <a:off x="990360" y="1143000"/>
            <a:ext cx="38671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31" name="PlaceHolder 3"/>
          <p:cNvSpPr>
            <a:spLocks noGrp="1"/>
          </p:cNvSpPr>
          <p:nvPr>
            <p:ph/>
          </p:nvPr>
        </p:nvSpPr>
        <p:spPr>
          <a:xfrm>
            <a:off x="5051160" y="1143000"/>
            <a:ext cx="3867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32" name="PlaceHolder 4"/>
          <p:cNvSpPr>
            <a:spLocks noGrp="1"/>
          </p:cNvSpPr>
          <p:nvPr>
            <p:ph/>
          </p:nvPr>
        </p:nvSpPr>
        <p:spPr>
          <a:xfrm>
            <a:off x="5051160" y="3769920"/>
            <a:ext cx="3867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0E1DA-1030-4AD8-B3F2-067D8A977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62120" y="304560"/>
            <a:ext cx="62481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4" name="PlaceHolder 2"/>
          <p:cNvSpPr>
            <a:spLocks noGrp="1"/>
          </p:cNvSpPr>
          <p:nvPr>
            <p:ph/>
          </p:nvPr>
        </p:nvSpPr>
        <p:spPr>
          <a:xfrm>
            <a:off x="990360" y="1143000"/>
            <a:ext cx="3867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35" name="PlaceHolder 3"/>
          <p:cNvSpPr>
            <a:spLocks noGrp="1"/>
          </p:cNvSpPr>
          <p:nvPr>
            <p:ph/>
          </p:nvPr>
        </p:nvSpPr>
        <p:spPr>
          <a:xfrm>
            <a:off x="5051160" y="1143000"/>
            <a:ext cx="3867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36" name="PlaceHolder 4"/>
          <p:cNvSpPr>
            <a:spLocks noGrp="1"/>
          </p:cNvSpPr>
          <p:nvPr>
            <p:ph/>
          </p:nvPr>
        </p:nvSpPr>
        <p:spPr>
          <a:xfrm>
            <a:off x="990360" y="3769920"/>
            <a:ext cx="79246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4645A-440A-433F-B2E7-9ED29A3FB2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ff9"/>
        </a:solidFill>
      </p:bgPr>
    </p:bg>
    <p:spTree>
      <p:nvGrpSpPr>
        <p:cNvPr id="1" name=""/>
        <p:cNvGrpSpPr/>
        <p:nvPr/>
      </p:nvGrpSpPr>
      <p:grpSpPr>
        <a:xfrm>
          <a:off x="0" y="0"/>
          <a:ext cx="0" cy="0"/>
          <a:chOff x="0" y="0"/>
          <a:chExt cx="0" cy="0"/>
        </a:xfrm>
      </p:grpSpPr>
      <p:sp>
        <p:nvSpPr>
          <p:cNvPr id="0" name=""/>
          <p:cNvSpPr/>
          <p:nvPr/>
        </p:nvSpPr>
        <p:spPr>
          <a:xfrm>
            <a:off x="762120" y="6324480"/>
            <a:ext cx="83818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762120" y="0"/>
            <a:ext cx="6476760" cy="1066680"/>
          </a:xfrm>
          <a:prstGeom prst="rect">
            <a:avLst/>
          </a:prstGeom>
          <a:gradFill rotWithShape="0">
            <a:gsLst>
              <a:gs pos="0">
                <a:srgbClr val="ffffff"/>
              </a:gs>
              <a:gs pos="100000">
                <a:srgbClr val="0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1066680"/>
            <a:ext cx="762120" cy="5791320"/>
          </a:xfrm>
          <a:prstGeom prst="rect">
            <a:avLst/>
          </a:prstGeom>
          <a:gradFill rotWithShape="0">
            <a:gsLst>
              <a:gs pos="0">
                <a:srgbClr val="008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body"/>
          </p:nvPr>
        </p:nvSpPr>
        <p:spPr>
          <a:xfrm>
            <a:off x="990360" y="1143000"/>
            <a:ext cx="7924680" cy="5029200"/>
          </a:xfrm>
          <a:prstGeom prst="rect">
            <a:avLst/>
          </a:prstGeom>
          <a:noFill/>
          <a:ln w="0">
            <a:noFill/>
          </a:ln>
        </p:spPr>
        <p:txBody>
          <a:bodyPr lIns="90000" rIns="90000" tIns="46800" bIns="46800"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Click to edit the outline text format</a:t>
            </a:r>
            <a:endParaRPr b="0" lang="en-US" sz="3200" spc="-1" strike="noStrike">
              <a:solidFill>
                <a:srgbClr val="ff6600"/>
              </a:solidFill>
              <a:latin typeface="Arial"/>
            </a:endParaRPr>
          </a:p>
          <a:p>
            <a:pPr lvl="1" marL="743040" indent="-28584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Second Outline Level</a:t>
            </a:r>
            <a:endParaRPr b="0" lang="en-US" sz="3200" spc="-1" strike="noStrike">
              <a:solidFill>
                <a:srgbClr val="ff6600"/>
              </a:solidFill>
              <a:latin typeface="Arial"/>
            </a:endParaRPr>
          </a:p>
          <a:p>
            <a:pPr lvl="2" marL="108576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Third Outline Level</a:t>
            </a:r>
            <a:endParaRPr b="0" lang="en-US" sz="3200" spc="-1" strike="noStrike">
              <a:solidFill>
                <a:srgbClr val="ff6600"/>
              </a:solidFill>
              <a:latin typeface="Arial"/>
            </a:endParaRPr>
          </a:p>
          <a:p>
            <a:pPr lvl="3" marL="142884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Fourth Outline Level</a:t>
            </a:r>
            <a:endParaRPr b="0" lang="en-US" sz="3200" spc="-1" strike="noStrike">
              <a:solidFill>
                <a:srgbClr val="ff6600"/>
              </a:solidFill>
              <a:latin typeface="Arial"/>
            </a:endParaRPr>
          </a:p>
          <a:p>
            <a:pPr lvl="4" marL="177156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Fifth Outline Level</a:t>
            </a:r>
            <a:endParaRPr b="0" lang="en-US" sz="3200" spc="-1" strike="noStrike">
              <a:solidFill>
                <a:srgbClr val="ff66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Sixth Outline Level</a:t>
            </a:r>
            <a:endParaRPr b="0" lang="en-US" sz="3200" spc="-1" strike="noStrike">
              <a:solidFill>
                <a:srgbClr val="ff66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Seventh Outline Level</a:t>
            </a:r>
            <a:endParaRPr b="0" lang="en-US" sz="3200" spc="-1" strike="noStrike">
              <a:solidFill>
                <a:srgbClr val="ff6600"/>
              </a:solidFill>
              <a:latin typeface="Arial"/>
            </a:endParaRPr>
          </a:p>
        </p:txBody>
      </p:sp>
      <p:sp>
        <p:nvSpPr>
          <p:cNvPr id="4" name="PlaceHolder 2"/>
          <p:cNvSpPr>
            <a:spLocks noGrp="1"/>
          </p:cNvSpPr>
          <p:nvPr>
            <p:ph type="dt" idx="1"/>
          </p:nvPr>
        </p:nvSpPr>
        <p:spPr>
          <a:xfrm>
            <a:off x="990360" y="640080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66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rPr>
              <a:t>Franck MERCIER</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504960" y="640080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66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6600"/>
                </a:solidFill>
                <a:latin typeface="Arial"/>
              </a:rPr>
              <a:t>SEE – Forum Batch Francophone</a:t>
            </a:r>
            <a:endParaRPr b="0" lang="en-US" sz="1200" spc="-1" strike="noStrike">
              <a:solidFill>
                <a:srgbClr val="000000"/>
              </a:solidFill>
              <a:latin typeface="Times New Roman"/>
            </a:endParaRPr>
          </a:p>
        </p:txBody>
      </p:sp>
      <p:sp>
        <p:nvSpPr>
          <p:cNvPr id="6"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66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rPr>
              <a:t>Slide </a:t>
            </a:r>
            <a:fld id="{4660698A-35B9-47D4-BBF6-562CBB8F2395}" type="slidenum">
              <a:rPr b="0" lang="en-US" sz="1200" spc="-1" strike="noStrike">
                <a:solidFill>
                  <a:srgbClr val="ff6600"/>
                </a:solidFill>
                <a:latin typeface="Arial"/>
              </a:rPr>
              <a:t>&lt;number&gt;</a:t>
            </a:fld>
            <a:endParaRPr b="0" lang="en-US" sz="1200" spc="-1" strike="noStrike">
              <a:solidFill>
                <a:srgbClr val="000000"/>
              </a:solidFill>
              <a:latin typeface="Times New Roman"/>
            </a:endParaRPr>
          </a:p>
        </p:txBody>
      </p:sp>
      <p:sp>
        <p:nvSpPr>
          <p:cNvPr id="7" name=""/>
          <p:cNvSpPr/>
          <p:nvPr/>
        </p:nvSpPr>
        <p:spPr>
          <a:xfrm>
            <a:off x="762120" y="6324480"/>
            <a:ext cx="8153280" cy="0"/>
          </a:xfrm>
          <a:prstGeom prst="line">
            <a:avLst/>
          </a:prstGeom>
          <a:ln w="28440">
            <a:solidFill>
              <a:srgbClr val="0066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PlaceHolder 5"/>
          <p:cNvSpPr>
            <a:spLocks noGrp="1"/>
          </p:cNvSpPr>
          <p:nvPr>
            <p:ph type="title"/>
          </p:nvPr>
        </p:nvSpPr>
        <p:spPr>
          <a:xfrm>
            <a:off x="762120" y="304560"/>
            <a:ext cx="624816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lick to edit the title text format</a:t>
            </a:r>
            <a:endParaRPr b="1" lang="en-US" sz="2800" spc="-1" strike="noStrike">
              <a:solidFill>
                <a:srgbClr val="ffcc00"/>
              </a:solidFill>
              <a:latin typeface="Arial"/>
            </a:endParaRPr>
          </a:p>
        </p:txBody>
      </p:sp>
      <p:sp>
        <p:nvSpPr>
          <p:cNvPr id="9" name=""/>
          <p:cNvSpPr/>
          <p:nvPr/>
        </p:nvSpPr>
        <p:spPr>
          <a:xfrm>
            <a:off x="8915400" y="1066680"/>
            <a:ext cx="231840" cy="5789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0" y="0"/>
            <a:ext cx="762120" cy="106668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8904240" y="1076400"/>
            <a:ext cx="0" cy="5257800"/>
          </a:xfrm>
          <a:prstGeom prst="line">
            <a:avLst/>
          </a:prstGeom>
          <a:ln w="28440">
            <a:solidFill>
              <a:srgbClr val="0066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766800" y="1085760"/>
            <a:ext cx="8153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774720" y="1081080"/>
            <a:ext cx="3240" cy="5265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rot="5400000">
            <a:off x="-114480" y="266400"/>
            <a:ext cx="914400" cy="685800"/>
          </a:xfrm>
          <a:prstGeom prst="triangle">
            <a:avLst>
              <a:gd name="adj" fmla="val 50000"/>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txBox="1"/>
          <p:nvPr/>
        </p:nvSpPr>
        <p:spPr>
          <a:xfrm>
            <a:off x="7605720" y="128520"/>
            <a:ext cx="1279440" cy="793800"/>
          </a:xfrm>
          <a:prstGeom prst="rect">
            <a:avLst/>
          </a:prstGeom>
        </p:spPr>
        <p:txBody>
          <a:bodyPr wrap="none" lIns="90000" rIns="90000" tIns="46800" bIns="46800" anchor="t" anchorCtr="1">
            <a:prstTxWarp prst="textCascadeUp">
              <a:avLst>
                <a:gd name="adj" fmla="val 46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FBF</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ff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828440"/>
            <a:ext cx="6781680" cy="2057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6600"/>
                </a:solidFill>
                <a:latin typeface="Arial"/>
              </a:rPr>
              <a:t>MOORE France S.A.</a:t>
            </a:r>
            <a:br>
              <a:rPr sz="4000"/>
            </a:br>
            <a:br>
              <a:rPr sz="4000"/>
            </a:br>
            <a:r>
              <a:rPr b="1" lang="fr-FR" sz="3600" spc="-1" strike="noStrike">
                <a:solidFill>
                  <a:srgbClr val="ff6600"/>
                </a:solidFill>
                <a:latin typeface="Arial"/>
              </a:rPr>
              <a:t>Traçabilité des ateliers batch</a:t>
            </a:r>
            <a:endParaRPr b="1" lang="en-US" sz="3600" spc="-1" strike="noStrike">
              <a:solidFill>
                <a:srgbClr val="ffcc00"/>
              </a:solidFill>
              <a:latin typeface="Arial"/>
            </a:endParaRPr>
          </a:p>
        </p:txBody>
      </p:sp>
      <p:sp>
        <p:nvSpPr>
          <p:cNvPr id="3" name="PlaceHolder 2"/>
          <p:cNvSpPr>
            <a:spLocks noGrp="1"/>
          </p:cNvSpPr>
          <p:nvPr>
            <p:ph type="sldNum" idx="3"/>
          </p:nvPr>
        </p:nvSpPr>
        <p:spPr/>
        <p:txBody>
          <a:bodyPr/>
          <a:p>
            <a:fld id="{5AC82E8B-E093-419F-A864-C40EC3C19A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ff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304560"/>
            <a:ext cx="624816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c00"/>
                </a:solidFill>
                <a:latin typeface="Arial"/>
              </a:rPr>
              <a:t>Restitution</a:t>
            </a:r>
            <a:endParaRPr b="1" lang="en-US" sz="2800" spc="-1" strike="noStrike">
              <a:solidFill>
                <a:srgbClr val="ffcc00"/>
              </a:solidFill>
              <a:latin typeface="Arial"/>
            </a:endParaRPr>
          </a:p>
        </p:txBody>
      </p:sp>
      <p:sp>
        <p:nvSpPr>
          <p:cNvPr id="171" name=""/>
          <p:cNvSpPr/>
          <p:nvPr/>
        </p:nvSpPr>
        <p:spPr>
          <a:xfrm>
            <a:off x="3657600" y="3962520"/>
            <a:ext cx="1828800" cy="1752480"/>
          </a:xfrm>
          <a:prstGeom prst="can">
            <a:avLst>
              <a:gd name="adj" fmla="val 25000"/>
            </a:avLst>
          </a:prstGeom>
          <a:gradFill rotWithShape="0">
            <a:gsLst>
              <a:gs pos="0">
                <a:srgbClr val="752b4b"/>
              </a:gs>
              <a:gs pos="50000">
                <a:srgbClr val="ff5fa4"/>
              </a:gs>
              <a:gs pos="100000">
                <a:srgbClr val="752b4b"/>
              </a:gs>
            </a:gsLst>
            <a:lin ang="10800000"/>
          </a:gradFill>
          <a:ln w="25560">
            <a:solidFill>
              <a:srgbClr val="000000"/>
            </a:solidFill>
            <a:miter/>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BdD SQL</a:t>
            </a:r>
            <a:endParaRPr b="0" lang="en-US" sz="2400" spc="-1" strike="noStrike">
              <a:solidFill>
                <a:srgbClr val="000000"/>
              </a:solidFill>
              <a:latin typeface="Times New Roman"/>
            </a:endParaRPr>
          </a:p>
        </p:txBody>
      </p:sp>
      <p:grpSp>
        <p:nvGrpSpPr>
          <p:cNvPr id="172" name=""/>
          <p:cNvGrpSpPr/>
          <p:nvPr/>
        </p:nvGrpSpPr>
        <p:grpSpPr>
          <a:xfrm>
            <a:off x="1240560" y="1447920"/>
            <a:ext cx="7143840" cy="2771280"/>
            <a:chOff x="1240560" y="1447920"/>
            <a:chExt cx="7143840" cy="2771280"/>
          </a:xfrm>
        </p:grpSpPr>
        <p:grpSp>
          <p:nvGrpSpPr>
            <p:cNvPr id="173" name=""/>
            <p:cNvGrpSpPr/>
            <p:nvPr/>
          </p:nvGrpSpPr>
          <p:grpSpPr>
            <a:xfrm>
              <a:off x="2898720" y="2209320"/>
              <a:ext cx="3444480" cy="2009880"/>
              <a:chOff x="2898720" y="2209320"/>
              <a:chExt cx="3444480" cy="2009880"/>
            </a:xfrm>
          </p:grpSpPr>
          <p:sp>
            <p:nvSpPr>
              <p:cNvPr id="174" name=""/>
              <p:cNvSpPr/>
              <p:nvPr/>
            </p:nvSpPr>
            <p:spPr>
              <a:xfrm rot="16200000">
                <a:off x="4516920" y="2700720"/>
                <a:ext cx="1427040" cy="1608480"/>
              </a:xfrm>
              <a:custGeom>
                <a:avLst/>
                <a:gdLst/>
                <a:ahLst/>
                <a:rect l="l" t="t" r="r" b="b"/>
                <a:pathLst>
                  <a:path w="3027" h="1215">
                    <a:moveTo>
                      <a:pt x="0" y="0"/>
                    </a:moveTo>
                    <a:lnTo>
                      <a:pt x="126" y="0"/>
                    </a:lnTo>
                    <a:lnTo>
                      <a:pt x="234" y="3"/>
                    </a:lnTo>
                    <a:lnTo>
                      <a:pt x="353" y="8"/>
                    </a:lnTo>
                    <a:lnTo>
                      <a:pt x="473" y="12"/>
                    </a:lnTo>
                    <a:lnTo>
                      <a:pt x="604" y="21"/>
                    </a:lnTo>
                    <a:lnTo>
                      <a:pt x="731" y="32"/>
                    </a:lnTo>
                    <a:lnTo>
                      <a:pt x="843" y="41"/>
                    </a:lnTo>
                    <a:lnTo>
                      <a:pt x="969" y="54"/>
                    </a:lnTo>
                    <a:lnTo>
                      <a:pt x="1082" y="68"/>
                    </a:lnTo>
                    <a:lnTo>
                      <a:pt x="1186" y="81"/>
                    </a:lnTo>
                    <a:lnTo>
                      <a:pt x="1307" y="99"/>
                    </a:lnTo>
                    <a:lnTo>
                      <a:pt x="1452" y="126"/>
                    </a:lnTo>
                    <a:lnTo>
                      <a:pt x="1578" y="149"/>
                    </a:lnTo>
                    <a:lnTo>
                      <a:pt x="1718" y="180"/>
                    </a:lnTo>
                    <a:lnTo>
                      <a:pt x="1863" y="216"/>
                    </a:lnTo>
                    <a:lnTo>
                      <a:pt x="1998" y="252"/>
                    </a:lnTo>
                    <a:lnTo>
                      <a:pt x="2106" y="288"/>
                    </a:lnTo>
                    <a:lnTo>
                      <a:pt x="2243" y="333"/>
                    </a:lnTo>
                    <a:lnTo>
                      <a:pt x="2355" y="378"/>
                    </a:lnTo>
                    <a:lnTo>
                      <a:pt x="2454" y="418"/>
                    </a:lnTo>
                    <a:lnTo>
                      <a:pt x="2535" y="463"/>
                    </a:lnTo>
                    <a:lnTo>
                      <a:pt x="2616" y="504"/>
                    </a:lnTo>
                    <a:lnTo>
                      <a:pt x="2680" y="544"/>
                    </a:lnTo>
                    <a:lnTo>
                      <a:pt x="2734" y="580"/>
                    </a:lnTo>
                    <a:lnTo>
                      <a:pt x="2793" y="626"/>
                    </a:lnTo>
                    <a:lnTo>
                      <a:pt x="2851" y="671"/>
                    </a:lnTo>
                    <a:lnTo>
                      <a:pt x="2896" y="716"/>
                    </a:lnTo>
                    <a:lnTo>
                      <a:pt x="2960" y="801"/>
                    </a:lnTo>
                    <a:lnTo>
                      <a:pt x="3000" y="874"/>
                    </a:lnTo>
                    <a:lnTo>
                      <a:pt x="3009" y="905"/>
                    </a:lnTo>
                    <a:lnTo>
                      <a:pt x="3027" y="967"/>
                    </a:lnTo>
                    <a:lnTo>
                      <a:pt x="3027" y="1017"/>
                    </a:lnTo>
                    <a:lnTo>
                      <a:pt x="3027" y="1215"/>
                    </a:lnTo>
                    <a:lnTo>
                      <a:pt x="2901" y="1120"/>
                    </a:lnTo>
                    <a:lnTo>
                      <a:pt x="2296" y="684"/>
                    </a:lnTo>
                    <a:lnTo>
                      <a:pt x="1420" y="454"/>
                    </a:lnTo>
                    <a:lnTo>
                      <a:pt x="516" y="333"/>
                    </a:lnTo>
                    <a:lnTo>
                      <a:pt x="0" y="306"/>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rot="16200000">
                <a:off x="5621400" y="2745000"/>
                <a:ext cx="484920" cy="33336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rot="16200000">
                <a:off x="5943960" y="2756160"/>
                <a:ext cx="484560" cy="313560"/>
              </a:xfrm>
              <a:custGeom>
                <a:avLst/>
                <a:gdLst/>
                <a:ahLst/>
                <a:rect l="l" t="t" r="r" b="b"/>
                <a:pathLst>
                  <a:path w="1028" h="237">
                    <a:moveTo>
                      <a:pt x="0" y="0"/>
                    </a:moveTo>
                    <a:lnTo>
                      <a:pt x="1028" y="0"/>
                    </a:lnTo>
                    <a:lnTo>
                      <a:pt x="514" y="237"/>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rot="16200000">
                <a:off x="4697640" y="2886480"/>
                <a:ext cx="1425600" cy="1238040"/>
              </a:xfrm>
              <a:custGeom>
                <a:avLst/>
                <a:gdLst/>
                <a:ahLst/>
                <a:rect l="l" t="t" r="r" b="b"/>
                <a:pathLst>
                  <a:path w="3024" h="935">
                    <a:moveTo>
                      <a:pt x="0" y="148"/>
                    </a:moveTo>
                    <a:lnTo>
                      <a:pt x="79" y="148"/>
                    </a:lnTo>
                    <a:lnTo>
                      <a:pt x="179" y="149"/>
                    </a:lnTo>
                    <a:lnTo>
                      <a:pt x="260" y="151"/>
                    </a:lnTo>
                    <a:lnTo>
                      <a:pt x="341" y="154"/>
                    </a:lnTo>
                    <a:lnTo>
                      <a:pt x="431" y="158"/>
                    </a:lnTo>
                    <a:lnTo>
                      <a:pt x="513" y="163"/>
                    </a:lnTo>
                    <a:lnTo>
                      <a:pt x="606" y="169"/>
                    </a:lnTo>
                    <a:lnTo>
                      <a:pt x="681" y="175"/>
                    </a:lnTo>
                    <a:lnTo>
                      <a:pt x="776" y="184"/>
                    </a:lnTo>
                    <a:lnTo>
                      <a:pt x="868" y="194"/>
                    </a:lnTo>
                    <a:lnTo>
                      <a:pt x="967" y="205"/>
                    </a:lnTo>
                    <a:lnTo>
                      <a:pt x="1050" y="217"/>
                    </a:lnTo>
                    <a:lnTo>
                      <a:pt x="1127" y="227"/>
                    </a:lnTo>
                    <a:lnTo>
                      <a:pt x="1214" y="240"/>
                    </a:lnTo>
                    <a:lnTo>
                      <a:pt x="1341" y="262"/>
                    </a:lnTo>
                    <a:lnTo>
                      <a:pt x="1456" y="286"/>
                    </a:lnTo>
                    <a:lnTo>
                      <a:pt x="1595" y="318"/>
                    </a:lnTo>
                    <a:lnTo>
                      <a:pt x="1685" y="342"/>
                    </a:lnTo>
                    <a:lnTo>
                      <a:pt x="1744" y="359"/>
                    </a:lnTo>
                    <a:lnTo>
                      <a:pt x="1857" y="393"/>
                    </a:lnTo>
                    <a:lnTo>
                      <a:pt x="1963" y="431"/>
                    </a:lnTo>
                    <a:lnTo>
                      <a:pt x="2042" y="461"/>
                    </a:lnTo>
                    <a:lnTo>
                      <a:pt x="2102" y="486"/>
                    </a:lnTo>
                    <a:lnTo>
                      <a:pt x="2169" y="518"/>
                    </a:lnTo>
                    <a:lnTo>
                      <a:pt x="2225" y="548"/>
                    </a:lnTo>
                    <a:lnTo>
                      <a:pt x="2272" y="575"/>
                    </a:lnTo>
                    <a:lnTo>
                      <a:pt x="2325" y="610"/>
                    </a:lnTo>
                    <a:lnTo>
                      <a:pt x="2371" y="643"/>
                    </a:lnTo>
                    <a:lnTo>
                      <a:pt x="2410" y="676"/>
                    </a:lnTo>
                    <a:lnTo>
                      <a:pt x="2445" y="706"/>
                    </a:lnTo>
                    <a:lnTo>
                      <a:pt x="2472" y="736"/>
                    </a:lnTo>
                    <a:lnTo>
                      <a:pt x="2493" y="763"/>
                    </a:lnTo>
                    <a:lnTo>
                      <a:pt x="2511" y="793"/>
                    </a:lnTo>
                    <a:lnTo>
                      <a:pt x="2526" y="820"/>
                    </a:lnTo>
                    <a:lnTo>
                      <a:pt x="2535" y="844"/>
                    </a:lnTo>
                    <a:lnTo>
                      <a:pt x="2546" y="876"/>
                    </a:lnTo>
                    <a:lnTo>
                      <a:pt x="2550" y="905"/>
                    </a:lnTo>
                    <a:lnTo>
                      <a:pt x="2552" y="935"/>
                    </a:lnTo>
                    <a:lnTo>
                      <a:pt x="3024" y="935"/>
                    </a:lnTo>
                    <a:lnTo>
                      <a:pt x="3020" y="887"/>
                    </a:lnTo>
                    <a:lnTo>
                      <a:pt x="3011" y="846"/>
                    </a:lnTo>
                    <a:lnTo>
                      <a:pt x="2999" y="811"/>
                    </a:lnTo>
                    <a:lnTo>
                      <a:pt x="2984" y="783"/>
                    </a:lnTo>
                    <a:lnTo>
                      <a:pt x="2967" y="753"/>
                    </a:lnTo>
                    <a:lnTo>
                      <a:pt x="2943" y="720"/>
                    </a:lnTo>
                    <a:lnTo>
                      <a:pt x="2922" y="694"/>
                    </a:lnTo>
                    <a:lnTo>
                      <a:pt x="2887" y="658"/>
                    </a:lnTo>
                    <a:lnTo>
                      <a:pt x="2853" y="626"/>
                    </a:lnTo>
                    <a:lnTo>
                      <a:pt x="2817" y="595"/>
                    </a:lnTo>
                    <a:lnTo>
                      <a:pt x="2774" y="563"/>
                    </a:lnTo>
                    <a:lnTo>
                      <a:pt x="2737" y="537"/>
                    </a:lnTo>
                    <a:lnTo>
                      <a:pt x="2675" y="500"/>
                    </a:lnTo>
                    <a:lnTo>
                      <a:pt x="2615" y="465"/>
                    </a:lnTo>
                    <a:lnTo>
                      <a:pt x="2525" y="422"/>
                    </a:lnTo>
                    <a:lnTo>
                      <a:pt x="2436" y="383"/>
                    </a:lnTo>
                    <a:lnTo>
                      <a:pt x="2346" y="347"/>
                    </a:lnTo>
                    <a:lnTo>
                      <a:pt x="2265" y="317"/>
                    </a:lnTo>
                    <a:lnTo>
                      <a:pt x="2151" y="279"/>
                    </a:lnTo>
                    <a:lnTo>
                      <a:pt x="2019" y="240"/>
                    </a:lnTo>
                    <a:lnTo>
                      <a:pt x="1888" y="208"/>
                    </a:lnTo>
                    <a:lnTo>
                      <a:pt x="1769" y="181"/>
                    </a:lnTo>
                    <a:lnTo>
                      <a:pt x="1688" y="163"/>
                    </a:lnTo>
                    <a:lnTo>
                      <a:pt x="1587" y="142"/>
                    </a:lnTo>
                    <a:lnTo>
                      <a:pt x="1514" y="128"/>
                    </a:lnTo>
                    <a:lnTo>
                      <a:pt x="1431" y="115"/>
                    </a:lnTo>
                    <a:lnTo>
                      <a:pt x="1347" y="101"/>
                    </a:lnTo>
                    <a:lnTo>
                      <a:pt x="1265" y="89"/>
                    </a:lnTo>
                    <a:lnTo>
                      <a:pt x="1157" y="74"/>
                    </a:lnTo>
                    <a:lnTo>
                      <a:pt x="1062" y="64"/>
                    </a:lnTo>
                    <a:lnTo>
                      <a:pt x="960" y="52"/>
                    </a:lnTo>
                    <a:lnTo>
                      <a:pt x="838" y="40"/>
                    </a:lnTo>
                    <a:lnTo>
                      <a:pt x="716" y="29"/>
                    </a:lnTo>
                    <a:lnTo>
                      <a:pt x="618" y="23"/>
                    </a:lnTo>
                    <a:lnTo>
                      <a:pt x="505" y="15"/>
                    </a:lnTo>
                    <a:lnTo>
                      <a:pt x="386" y="11"/>
                    </a:lnTo>
                    <a:lnTo>
                      <a:pt x="225" y="5"/>
                    </a:lnTo>
                    <a:lnTo>
                      <a:pt x="79" y="3"/>
                    </a:lnTo>
                    <a:lnTo>
                      <a:pt x="0" y="0"/>
                    </a:lnTo>
                    <a:lnTo>
                      <a:pt x="0" y="14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rot="16200000">
                <a:off x="3297240" y="2701080"/>
                <a:ext cx="1427760" cy="1608480"/>
              </a:xfrm>
              <a:custGeom>
                <a:avLst/>
                <a:gdLst/>
                <a:ahLst/>
                <a:rect l="l" t="t" r="r" b="b"/>
                <a:pathLst>
                  <a:path w="3028" h="1215">
                    <a:moveTo>
                      <a:pt x="0" y="1215"/>
                    </a:moveTo>
                    <a:lnTo>
                      <a:pt x="126" y="1215"/>
                    </a:lnTo>
                    <a:lnTo>
                      <a:pt x="235" y="1212"/>
                    </a:lnTo>
                    <a:lnTo>
                      <a:pt x="354" y="1207"/>
                    </a:lnTo>
                    <a:lnTo>
                      <a:pt x="474" y="1203"/>
                    </a:lnTo>
                    <a:lnTo>
                      <a:pt x="605" y="1194"/>
                    </a:lnTo>
                    <a:lnTo>
                      <a:pt x="731" y="1183"/>
                    </a:lnTo>
                    <a:lnTo>
                      <a:pt x="843" y="1174"/>
                    </a:lnTo>
                    <a:lnTo>
                      <a:pt x="969" y="1161"/>
                    </a:lnTo>
                    <a:lnTo>
                      <a:pt x="1082" y="1147"/>
                    </a:lnTo>
                    <a:lnTo>
                      <a:pt x="1186" y="1134"/>
                    </a:lnTo>
                    <a:lnTo>
                      <a:pt x="1308" y="1116"/>
                    </a:lnTo>
                    <a:lnTo>
                      <a:pt x="1452" y="1089"/>
                    </a:lnTo>
                    <a:lnTo>
                      <a:pt x="1579" y="1066"/>
                    </a:lnTo>
                    <a:lnTo>
                      <a:pt x="1719" y="1035"/>
                    </a:lnTo>
                    <a:lnTo>
                      <a:pt x="1863" y="999"/>
                    </a:lnTo>
                    <a:lnTo>
                      <a:pt x="1999" y="963"/>
                    </a:lnTo>
                    <a:lnTo>
                      <a:pt x="2107" y="927"/>
                    </a:lnTo>
                    <a:lnTo>
                      <a:pt x="2243" y="882"/>
                    </a:lnTo>
                    <a:lnTo>
                      <a:pt x="2355" y="837"/>
                    </a:lnTo>
                    <a:lnTo>
                      <a:pt x="2454" y="797"/>
                    </a:lnTo>
                    <a:lnTo>
                      <a:pt x="2536" y="752"/>
                    </a:lnTo>
                    <a:lnTo>
                      <a:pt x="2617" y="711"/>
                    </a:lnTo>
                    <a:lnTo>
                      <a:pt x="2680" y="671"/>
                    </a:lnTo>
                    <a:lnTo>
                      <a:pt x="2734" y="635"/>
                    </a:lnTo>
                    <a:lnTo>
                      <a:pt x="2793" y="589"/>
                    </a:lnTo>
                    <a:lnTo>
                      <a:pt x="2852" y="544"/>
                    </a:lnTo>
                    <a:lnTo>
                      <a:pt x="2897" y="499"/>
                    </a:lnTo>
                    <a:lnTo>
                      <a:pt x="2960" y="414"/>
                    </a:lnTo>
                    <a:lnTo>
                      <a:pt x="3001" y="341"/>
                    </a:lnTo>
                    <a:lnTo>
                      <a:pt x="3010" y="310"/>
                    </a:lnTo>
                    <a:lnTo>
                      <a:pt x="3028" y="248"/>
                    </a:lnTo>
                    <a:lnTo>
                      <a:pt x="3028" y="198"/>
                    </a:lnTo>
                    <a:lnTo>
                      <a:pt x="3028" y="0"/>
                    </a:lnTo>
                    <a:lnTo>
                      <a:pt x="2901" y="95"/>
                    </a:lnTo>
                    <a:lnTo>
                      <a:pt x="2297" y="531"/>
                    </a:lnTo>
                    <a:lnTo>
                      <a:pt x="1421" y="761"/>
                    </a:lnTo>
                    <a:lnTo>
                      <a:pt x="516" y="882"/>
                    </a:lnTo>
                    <a:lnTo>
                      <a:pt x="0" y="909"/>
                    </a:lnTo>
                    <a:lnTo>
                      <a:pt x="0" y="1215"/>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rot="16200000">
                <a:off x="3136680" y="2745720"/>
                <a:ext cx="484560" cy="33336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rot="16200000">
                <a:off x="2813400" y="2757240"/>
                <a:ext cx="484200" cy="313560"/>
              </a:xfrm>
              <a:custGeom>
                <a:avLst/>
                <a:gdLst/>
                <a:ahLst/>
                <a:rect l="l" t="t" r="r" b="b"/>
                <a:pathLst>
                  <a:path w="1027" h="237">
                    <a:moveTo>
                      <a:pt x="0" y="237"/>
                    </a:moveTo>
                    <a:lnTo>
                      <a:pt x="1027" y="237"/>
                    </a:lnTo>
                    <a:lnTo>
                      <a:pt x="513" y="0"/>
                    </a:lnTo>
                    <a:lnTo>
                      <a:pt x="0" y="23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rot="16200000">
                <a:off x="3117960" y="2887200"/>
                <a:ext cx="1426320" cy="1237680"/>
              </a:xfrm>
              <a:custGeom>
                <a:avLst/>
                <a:gdLst/>
                <a:ahLst/>
                <a:rect l="l" t="t" r="r" b="b"/>
                <a:pathLst>
                  <a:path w="3025" h="935">
                    <a:moveTo>
                      <a:pt x="2" y="789"/>
                    </a:moveTo>
                    <a:lnTo>
                      <a:pt x="80" y="787"/>
                    </a:lnTo>
                    <a:lnTo>
                      <a:pt x="179" y="786"/>
                    </a:lnTo>
                    <a:lnTo>
                      <a:pt x="260" y="784"/>
                    </a:lnTo>
                    <a:lnTo>
                      <a:pt x="342" y="781"/>
                    </a:lnTo>
                    <a:lnTo>
                      <a:pt x="432" y="777"/>
                    </a:lnTo>
                    <a:lnTo>
                      <a:pt x="513" y="772"/>
                    </a:lnTo>
                    <a:lnTo>
                      <a:pt x="606" y="766"/>
                    </a:lnTo>
                    <a:lnTo>
                      <a:pt x="682" y="760"/>
                    </a:lnTo>
                    <a:lnTo>
                      <a:pt x="777" y="751"/>
                    </a:lnTo>
                    <a:lnTo>
                      <a:pt x="869" y="741"/>
                    </a:lnTo>
                    <a:lnTo>
                      <a:pt x="968" y="730"/>
                    </a:lnTo>
                    <a:lnTo>
                      <a:pt x="1051" y="718"/>
                    </a:lnTo>
                    <a:lnTo>
                      <a:pt x="1127" y="708"/>
                    </a:lnTo>
                    <a:lnTo>
                      <a:pt x="1215" y="695"/>
                    </a:lnTo>
                    <a:lnTo>
                      <a:pt x="1341" y="673"/>
                    </a:lnTo>
                    <a:lnTo>
                      <a:pt x="1457" y="649"/>
                    </a:lnTo>
                    <a:lnTo>
                      <a:pt x="1595" y="617"/>
                    </a:lnTo>
                    <a:lnTo>
                      <a:pt x="1686" y="593"/>
                    </a:lnTo>
                    <a:lnTo>
                      <a:pt x="1744" y="576"/>
                    </a:lnTo>
                    <a:lnTo>
                      <a:pt x="1857" y="542"/>
                    </a:lnTo>
                    <a:lnTo>
                      <a:pt x="1964" y="504"/>
                    </a:lnTo>
                    <a:lnTo>
                      <a:pt x="2042" y="474"/>
                    </a:lnTo>
                    <a:lnTo>
                      <a:pt x="2102" y="449"/>
                    </a:lnTo>
                    <a:lnTo>
                      <a:pt x="2170" y="417"/>
                    </a:lnTo>
                    <a:lnTo>
                      <a:pt x="2225" y="387"/>
                    </a:lnTo>
                    <a:lnTo>
                      <a:pt x="2272" y="360"/>
                    </a:lnTo>
                    <a:lnTo>
                      <a:pt x="2325" y="325"/>
                    </a:lnTo>
                    <a:lnTo>
                      <a:pt x="2372" y="292"/>
                    </a:lnTo>
                    <a:lnTo>
                      <a:pt x="2411" y="259"/>
                    </a:lnTo>
                    <a:lnTo>
                      <a:pt x="2445" y="229"/>
                    </a:lnTo>
                    <a:lnTo>
                      <a:pt x="2473" y="199"/>
                    </a:lnTo>
                    <a:lnTo>
                      <a:pt x="2494" y="172"/>
                    </a:lnTo>
                    <a:lnTo>
                      <a:pt x="2512" y="142"/>
                    </a:lnTo>
                    <a:lnTo>
                      <a:pt x="2527" y="115"/>
                    </a:lnTo>
                    <a:lnTo>
                      <a:pt x="2536" y="91"/>
                    </a:lnTo>
                    <a:lnTo>
                      <a:pt x="2546" y="59"/>
                    </a:lnTo>
                    <a:lnTo>
                      <a:pt x="2551" y="30"/>
                    </a:lnTo>
                    <a:lnTo>
                      <a:pt x="2552" y="0"/>
                    </a:lnTo>
                    <a:lnTo>
                      <a:pt x="3025" y="0"/>
                    </a:lnTo>
                    <a:lnTo>
                      <a:pt x="3020" y="48"/>
                    </a:lnTo>
                    <a:lnTo>
                      <a:pt x="3011" y="89"/>
                    </a:lnTo>
                    <a:lnTo>
                      <a:pt x="2999" y="124"/>
                    </a:lnTo>
                    <a:lnTo>
                      <a:pt x="2984" y="152"/>
                    </a:lnTo>
                    <a:lnTo>
                      <a:pt x="2968" y="182"/>
                    </a:lnTo>
                    <a:lnTo>
                      <a:pt x="2943" y="215"/>
                    </a:lnTo>
                    <a:lnTo>
                      <a:pt x="2922" y="241"/>
                    </a:lnTo>
                    <a:lnTo>
                      <a:pt x="2888" y="277"/>
                    </a:lnTo>
                    <a:lnTo>
                      <a:pt x="2853" y="309"/>
                    </a:lnTo>
                    <a:lnTo>
                      <a:pt x="2817" y="340"/>
                    </a:lnTo>
                    <a:lnTo>
                      <a:pt x="2775" y="372"/>
                    </a:lnTo>
                    <a:lnTo>
                      <a:pt x="2737" y="398"/>
                    </a:lnTo>
                    <a:lnTo>
                      <a:pt x="2676" y="435"/>
                    </a:lnTo>
                    <a:lnTo>
                      <a:pt x="2615" y="470"/>
                    </a:lnTo>
                    <a:lnTo>
                      <a:pt x="2525" y="513"/>
                    </a:lnTo>
                    <a:lnTo>
                      <a:pt x="2436" y="552"/>
                    </a:lnTo>
                    <a:lnTo>
                      <a:pt x="2346" y="588"/>
                    </a:lnTo>
                    <a:lnTo>
                      <a:pt x="2266" y="618"/>
                    </a:lnTo>
                    <a:lnTo>
                      <a:pt x="2152" y="656"/>
                    </a:lnTo>
                    <a:lnTo>
                      <a:pt x="2020" y="695"/>
                    </a:lnTo>
                    <a:lnTo>
                      <a:pt x="1889" y="727"/>
                    </a:lnTo>
                    <a:lnTo>
                      <a:pt x="1770" y="754"/>
                    </a:lnTo>
                    <a:lnTo>
                      <a:pt x="1689" y="772"/>
                    </a:lnTo>
                    <a:lnTo>
                      <a:pt x="1588" y="793"/>
                    </a:lnTo>
                    <a:lnTo>
                      <a:pt x="1514" y="807"/>
                    </a:lnTo>
                    <a:lnTo>
                      <a:pt x="1431" y="820"/>
                    </a:lnTo>
                    <a:lnTo>
                      <a:pt x="1347" y="834"/>
                    </a:lnTo>
                    <a:lnTo>
                      <a:pt x="1266" y="846"/>
                    </a:lnTo>
                    <a:lnTo>
                      <a:pt x="1158" y="861"/>
                    </a:lnTo>
                    <a:lnTo>
                      <a:pt x="1063" y="871"/>
                    </a:lnTo>
                    <a:lnTo>
                      <a:pt x="960" y="883"/>
                    </a:lnTo>
                    <a:lnTo>
                      <a:pt x="839" y="895"/>
                    </a:lnTo>
                    <a:lnTo>
                      <a:pt x="716" y="906"/>
                    </a:lnTo>
                    <a:lnTo>
                      <a:pt x="618" y="912"/>
                    </a:lnTo>
                    <a:lnTo>
                      <a:pt x="506" y="920"/>
                    </a:lnTo>
                    <a:lnTo>
                      <a:pt x="387" y="924"/>
                    </a:lnTo>
                    <a:lnTo>
                      <a:pt x="226" y="930"/>
                    </a:lnTo>
                    <a:lnTo>
                      <a:pt x="80" y="932"/>
                    </a:lnTo>
                    <a:lnTo>
                      <a:pt x="0" y="935"/>
                    </a:lnTo>
                    <a:lnTo>
                      <a:pt x="2" y="78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2" name=""/>
              <p:cNvGrpSpPr/>
              <p:nvPr/>
            </p:nvGrpSpPr>
            <p:grpSpPr>
              <a:xfrm>
                <a:off x="3907440" y="2209320"/>
                <a:ext cx="1429560" cy="2008440"/>
                <a:chOff x="3907440" y="2209320"/>
                <a:chExt cx="1429560" cy="2008440"/>
              </a:xfrm>
            </p:grpSpPr>
            <p:sp>
              <p:nvSpPr>
                <p:cNvPr id="183" name=""/>
                <p:cNvSpPr/>
                <p:nvPr/>
              </p:nvSpPr>
              <p:spPr>
                <a:xfrm rot="16200000">
                  <a:off x="4588560" y="1732320"/>
                  <a:ext cx="67320" cy="1429560"/>
                </a:xfrm>
                <a:custGeom>
                  <a:avLst/>
                  <a:gdLst/>
                  <a:ahLst/>
                  <a:rect l="l" t="t" r="r" b="b"/>
                  <a:pathLst>
                    <a:path w="143" h="1080">
                      <a:moveTo>
                        <a:pt x="143" y="0"/>
                      </a:moveTo>
                      <a:lnTo>
                        <a:pt x="143" y="1080"/>
                      </a:lnTo>
                      <a:lnTo>
                        <a:pt x="0" y="792"/>
                      </a:lnTo>
                      <a:lnTo>
                        <a:pt x="0" y="287"/>
                      </a:lnTo>
                      <a:lnTo>
                        <a:pt x="143"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rot="16200000">
                  <a:off x="3618000" y="2498760"/>
                  <a:ext cx="2008440" cy="1429560"/>
                </a:xfrm>
                <a:custGeom>
                  <a:avLst/>
                  <a:gdLst/>
                  <a:ahLst/>
                  <a:rect l="l" t="t" r="r" b="b"/>
                  <a:pathLst>
                    <a:path w="4260" h="1080">
                      <a:moveTo>
                        <a:pt x="3827" y="359"/>
                      </a:moveTo>
                      <a:lnTo>
                        <a:pt x="3827" y="0"/>
                      </a:lnTo>
                      <a:lnTo>
                        <a:pt x="4260" y="576"/>
                      </a:lnTo>
                      <a:lnTo>
                        <a:pt x="3827" y="1080"/>
                      </a:lnTo>
                      <a:lnTo>
                        <a:pt x="3827" y="720"/>
                      </a:lnTo>
                      <a:lnTo>
                        <a:pt x="0" y="720"/>
                      </a:lnTo>
                      <a:lnTo>
                        <a:pt x="0" y="359"/>
                      </a:lnTo>
                      <a:lnTo>
                        <a:pt x="3827" y="35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5" name=""/>
            <p:cNvSpPr/>
            <p:nvPr/>
          </p:nvSpPr>
          <p:spPr>
            <a:xfrm>
              <a:off x="6422040" y="2590920"/>
              <a:ext cx="196236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00"/>
                  </a:solidFill>
                  <a:latin typeface="Arial"/>
                </a:rPr>
                <a:t>Opérateurs</a:t>
              </a:r>
              <a:endParaRPr b="0" lang="en-US" sz="2800" spc="-1" strike="noStrike">
                <a:solidFill>
                  <a:srgbClr val="000000"/>
                </a:solidFill>
                <a:latin typeface="Times New Roman"/>
              </a:endParaRPr>
            </a:p>
          </p:txBody>
        </p:sp>
        <p:sp>
          <p:nvSpPr>
            <p:cNvPr id="186" name=""/>
            <p:cNvSpPr/>
            <p:nvPr/>
          </p:nvSpPr>
          <p:spPr>
            <a:xfrm>
              <a:off x="5431320" y="1981080"/>
              <a:ext cx="188316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00"/>
                  </a:solidFill>
                  <a:latin typeface="Arial"/>
                </a:rPr>
                <a:t>Production</a:t>
              </a:r>
              <a:endParaRPr b="0" lang="en-US" sz="2800" spc="-1" strike="noStrike">
                <a:solidFill>
                  <a:srgbClr val="000000"/>
                </a:solidFill>
                <a:latin typeface="Times New Roman"/>
              </a:endParaRPr>
            </a:p>
          </p:txBody>
        </p:sp>
        <p:sp>
          <p:nvSpPr>
            <p:cNvPr id="187" name=""/>
            <p:cNvSpPr/>
            <p:nvPr/>
          </p:nvSpPr>
          <p:spPr>
            <a:xfrm>
              <a:off x="3755160" y="1447920"/>
              <a:ext cx="15858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00"/>
                  </a:solidFill>
                  <a:latin typeface="Arial"/>
                </a:rPr>
                <a:t>Direction</a:t>
              </a:r>
              <a:endParaRPr b="0" lang="en-US" sz="2800" spc="-1" strike="noStrike">
                <a:solidFill>
                  <a:srgbClr val="000000"/>
                </a:solidFill>
                <a:latin typeface="Times New Roman"/>
              </a:endParaRPr>
            </a:p>
          </p:txBody>
        </p:sp>
        <p:sp>
          <p:nvSpPr>
            <p:cNvPr id="188" name=""/>
            <p:cNvSpPr/>
            <p:nvPr/>
          </p:nvSpPr>
          <p:spPr>
            <a:xfrm>
              <a:off x="1698480" y="1995480"/>
              <a:ext cx="221976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00"/>
                  </a:solidFill>
                  <a:latin typeface="Arial"/>
                </a:rPr>
                <a:t>Maintenance</a:t>
              </a:r>
              <a:endParaRPr b="0" lang="en-US" sz="2800" spc="-1" strike="noStrike">
                <a:solidFill>
                  <a:srgbClr val="000000"/>
                </a:solidFill>
                <a:latin typeface="Times New Roman"/>
              </a:endParaRPr>
            </a:p>
          </p:txBody>
        </p:sp>
        <p:sp>
          <p:nvSpPr>
            <p:cNvPr id="189" name=""/>
            <p:cNvSpPr/>
            <p:nvPr/>
          </p:nvSpPr>
          <p:spPr>
            <a:xfrm>
              <a:off x="1240560" y="2590920"/>
              <a:ext cx="13086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00"/>
                  </a:solidFill>
                  <a:latin typeface="Arial"/>
                </a:rPr>
                <a:t>Qualité</a:t>
              </a:r>
              <a:endParaRPr b="0" lang="en-US" sz="2800" spc="-1" strike="noStrike">
                <a:solidFill>
                  <a:srgbClr val="000000"/>
                </a:solidFill>
                <a:latin typeface="Times New Roman"/>
              </a:endParaRPr>
            </a:p>
          </p:txBody>
        </p:sp>
      </p:grpSp>
      <p:sp>
        <p:nvSpPr>
          <p:cNvPr id="3" name="PlaceHolder 2"/>
          <p:cNvSpPr>
            <a:spLocks noGrp="1"/>
          </p:cNvSpPr>
          <p:nvPr>
            <p:ph type="sldNum" idx="3"/>
          </p:nvPr>
        </p:nvSpPr>
        <p:spPr/>
        <p:txBody>
          <a:bodyPr/>
          <a:p>
            <a:fld id="{B5A94C9F-41DD-4234-978E-DBB0D98E3D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ff9"/>
        </a:solidFill>
      </p:bgPr>
    </p:bg>
    <p:spTree>
      <p:nvGrpSpPr>
        <p:cNvPr id="1" name=""/>
        <p:cNvGrpSpPr/>
        <p:nvPr/>
      </p:nvGrpSpPr>
      <p:grpSpPr>
        <a:xfrm>
          <a:off x="0" y="0"/>
          <a:ext cx="0" cy="0"/>
          <a:chOff x="0" y="0"/>
          <a:chExt cx="0" cy="0"/>
        </a:xfrm>
      </p:grpSpPr>
      <p:grpSp>
        <p:nvGrpSpPr>
          <p:cNvPr id="190" name=""/>
          <p:cNvGrpSpPr/>
          <p:nvPr/>
        </p:nvGrpSpPr>
        <p:grpSpPr>
          <a:xfrm>
            <a:off x="459360" y="990720"/>
            <a:ext cx="8057520" cy="2559240"/>
            <a:chOff x="459360" y="990720"/>
            <a:chExt cx="8057520" cy="2559240"/>
          </a:xfrm>
        </p:grpSpPr>
        <p:sp>
          <p:nvSpPr>
            <p:cNvPr id="191" name=""/>
            <p:cNvSpPr/>
            <p:nvPr/>
          </p:nvSpPr>
          <p:spPr>
            <a:xfrm>
              <a:off x="6611760" y="990720"/>
              <a:ext cx="1905120" cy="2559240"/>
            </a:xfrm>
            <a:prstGeom prst="rect">
              <a:avLst/>
            </a:prstGeom>
            <a:solidFill>
              <a:srgbClr val="ffffff"/>
            </a:solidFill>
            <a:ln w="25560">
              <a:solidFill>
                <a:srgbClr val="b2b2b2"/>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Bilan consomm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atièr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124.00</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124.00</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124.00</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124.00</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124.00</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124.00</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124.00</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124.00</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124.00</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124.00</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92" name=""/>
            <p:cNvSpPr/>
            <p:nvPr/>
          </p:nvSpPr>
          <p:spPr>
            <a:xfrm>
              <a:off x="459360" y="2529000"/>
              <a:ext cx="261468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Bilans matières</a:t>
              </a:r>
              <a:endParaRPr b="0" lang="en-US" sz="2800" spc="-1" strike="noStrike">
                <a:solidFill>
                  <a:srgbClr val="000000"/>
                </a:solidFill>
                <a:latin typeface="Times New Roman"/>
              </a:endParaRPr>
            </a:p>
          </p:txBody>
        </p:sp>
        <p:sp>
          <p:nvSpPr>
            <p:cNvPr id="193" name=""/>
            <p:cNvSpPr/>
            <p:nvPr/>
          </p:nvSpPr>
          <p:spPr>
            <a:xfrm>
              <a:off x="4572000" y="1295280"/>
              <a:ext cx="2743200" cy="1676520"/>
            </a:xfrm>
            <a:custGeom>
              <a:avLst/>
              <a:gdLst>
                <a:gd name="textAreaLeft" fmla="*/ 0 w 2743200"/>
                <a:gd name="textAreaRight" fmla="*/ 2743560 w 2743200"/>
                <a:gd name="textAreaTop" fmla="*/ 0 h 1676520"/>
                <a:gd name="textAreaBottom" fmla="*/ 1676880 h 1676520"/>
              </a:gdLst>
              <a:ahLst/>
              <a:rect l="textAreaLeft" t="textAreaTop" r="textAreaRight" b="textAreaBottom"/>
              <a:pathLst>
                <a:path w="21600" h="21600">
                  <a:moveTo>
                    <a:pt x="11875" y="19717"/>
                  </a:moveTo>
                  <a:arcTo wR="-8982" hR="-8982" stAng="4987594" swAng="-5407863"/>
                  <a:lnTo>
                    <a:pt x="81" y="12117"/>
                  </a:lnTo>
                  <a:arcTo wR="10800" hR="10800" stAng="10379732" swAng="5407863"/>
                  <a:lnTo>
                    <a:pt x="9184" y="-2603"/>
                  </a:lnTo>
                  <a:lnTo>
                    <a:pt x="13199" y="548"/>
                  </a:lnTo>
                  <a:lnTo>
                    <a:pt x="10048" y="4563"/>
                  </a:lnTo>
                  <a:close/>
                </a:path>
              </a:pathLst>
            </a:custGeom>
            <a:solidFill>
              <a:srgbClr val="ffff00"/>
            </a:solidFill>
            <a:ln w="25560">
              <a:solidFill>
                <a:srgbClr val="27ff2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4" name="PlaceHolder 1"/>
          <p:cNvSpPr>
            <a:spLocks noGrp="1"/>
          </p:cNvSpPr>
          <p:nvPr>
            <p:ph type="title"/>
          </p:nvPr>
        </p:nvSpPr>
        <p:spPr>
          <a:xfrm>
            <a:off x="762120" y="304560"/>
            <a:ext cx="624816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c00"/>
                </a:solidFill>
                <a:latin typeface="Arial"/>
              </a:rPr>
              <a:t>Activité des lots</a:t>
            </a:r>
            <a:endParaRPr b="1" lang="en-US" sz="2800" spc="-1" strike="noStrike">
              <a:solidFill>
                <a:srgbClr val="ffcc00"/>
              </a:solidFill>
              <a:latin typeface="Arial"/>
            </a:endParaRPr>
          </a:p>
        </p:txBody>
      </p:sp>
      <p:sp>
        <p:nvSpPr>
          <p:cNvPr id="195" name="PlaceHolder 2"/>
          <p:cNvSpPr>
            <a:spLocks noGrp="1"/>
          </p:cNvSpPr>
          <p:nvPr>
            <p:ph/>
          </p:nvPr>
        </p:nvSpPr>
        <p:spPr>
          <a:xfrm>
            <a:off x="990360" y="1143000"/>
            <a:ext cx="792468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600" spc="-1" strike="noStrike">
              <a:solidFill>
                <a:srgbClr val="ff6600"/>
              </a:solidFill>
              <a:latin typeface="Arial"/>
            </a:endParaRPr>
          </a:p>
        </p:txBody>
      </p:sp>
      <p:sp>
        <p:nvSpPr>
          <p:cNvPr id="196" name=""/>
          <p:cNvSpPr/>
          <p:nvPr/>
        </p:nvSpPr>
        <p:spPr>
          <a:xfrm>
            <a:off x="1219320" y="4038480"/>
            <a:ext cx="1828800" cy="1752840"/>
          </a:xfrm>
          <a:prstGeom prst="can">
            <a:avLst>
              <a:gd name="adj" fmla="val 25000"/>
            </a:avLst>
          </a:prstGeom>
          <a:gradFill rotWithShape="0">
            <a:gsLst>
              <a:gs pos="0">
                <a:srgbClr val="752b4b"/>
              </a:gs>
              <a:gs pos="50000">
                <a:srgbClr val="ff5fa4"/>
              </a:gs>
              <a:gs pos="100000">
                <a:srgbClr val="752b4b"/>
              </a:gs>
            </a:gsLst>
            <a:lin ang="10800000"/>
          </a:gradFill>
          <a:ln w="25560">
            <a:solidFill>
              <a:srgbClr val="000000"/>
            </a:solidFill>
            <a:miter/>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BdD SQL</a:t>
            </a:r>
            <a:endParaRPr b="0" lang="en-US" sz="2400" spc="-1" strike="noStrike">
              <a:solidFill>
                <a:srgbClr val="000000"/>
              </a:solidFill>
              <a:latin typeface="Times New Roman"/>
            </a:endParaRPr>
          </a:p>
        </p:txBody>
      </p:sp>
      <p:sp>
        <p:nvSpPr>
          <p:cNvPr id="197" name=""/>
          <p:cNvSpPr/>
          <p:nvPr/>
        </p:nvSpPr>
        <p:spPr>
          <a:xfrm>
            <a:off x="2057400" y="3165480"/>
            <a:ext cx="4533840" cy="1787400"/>
          </a:xfrm>
          <a:custGeom>
            <a:avLst/>
            <a:gdLst>
              <a:gd name="textAreaLeft" fmla="*/ 0 w 4533840"/>
              <a:gd name="textAreaRight" fmla="*/ 4534200 w 4533840"/>
              <a:gd name="textAreaTop" fmla="*/ 0 h 1787400"/>
              <a:gd name="textAreaBottom" fmla="*/ 1787760 h 1787400"/>
            </a:gdLst>
            <a:ahLst/>
            <a:rect l="textAreaLeft" t="textAreaTop" r="textAreaRight" b="textAreaBottom"/>
            <a:pathLst>
              <a:path w="21600" h="21600">
                <a:moveTo>
                  <a:pt x="11812" y="18958"/>
                </a:moveTo>
                <a:arcTo wR="-8221" hR="-8221" stAng="4975766" swAng="-5066284"/>
                <a:lnTo>
                  <a:pt x="4" y="11084"/>
                </a:lnTo>
                <a:arcTo wR="10800" hR="10800" stAng="10709482" swAng="5066284"/>
                <a:lnTo>
                  <a:pt x="9138" y="-2597"/>
                </a:lnTo>
                <a:lnTo>
                  <a:pt x="13588" y="871"/>
                </a:lnTo>
                <a:lnTo>
                  <a:pt x="10120" y="5321"/>
                </a:lnTo>
                <a:close/>
              </a:path>
            </a:pathLst>
          </a:cu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8" name=""/>
          <p:cNvGrpSpPr/>
          <p:nvPr/>
        </p:nvGrpSpPr>
        <p:grpSpPr>
          <a:xfrm>
            <a:off x="459360" y="1676520"/>
            <a:ext cx="8438400" cy="2590560"/>
            <a:chOff x="459360" y="1676520"/>
            <a:chExt cx="8438400" cy="2590560"/>
          </a:xfrm>
        </p:grpSpPr>
        <p:sp>
          <p:nvSpPr>
            <p:cNvPr id="199" name=""/>
            <p:cNvSpPr/>
            <p:nvPr/>
          </p:nvSpPr>
          <p:spPr>
            <a:xfrm>
              <a:off x="6993000" y="1676520"/>
              <a:ext cx="1904760" cy="2590560"/>
            </a:xfrm>
            <a:prstGeom prst="rect">
              <a:avLst/>
            </a:prstGeom>
            <a:solidFill>
              <a:srgbClr val="ffffff"/>
            </a:solidFill>
            <a:ln w="25560">
              <a:solidFill>
                <a:srgbClr val="b2b2b2"/>
              </a:solidFill>
              <a:miter/>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énéalogie du lot 32476</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124.00 12:00:01 124.00</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124.00</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124.00 12:00:01 124.00</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124.00</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124.00 12:00:01 124.00</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124.00</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124.00</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00" name=""/>
            <p:cNvSpPr/>
            <p:nvPr/>
          </p:nvSpPr>
          <p:spPr>
            <a:xfrm>
              <a:off x="459360" y="1843200"/>
              <a:ext cx="332928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Généalogie des lots</a:t>
              </a:r>
              <a:endParaRPr b="0" lang="en-US" sz="2800" spc="-1" strike="noStrike">
                <a:solidFill>
                  <a:srgbClr val="000000"/>
                </a:solidFill>
                <a:latin typeface="Times New Roman"/>
              </a:endParaRPr>
            </a:p>
          </p:txBody>
        </p:sp>
        <p:sp>
          <p:nvSpPr>
            <p:cNvPr id="201" name=""/>
            <p:cNvSpPr/>
            <p:nvPr/>
          </p:nvSpPr>
          <p:spPr>
            <a:xfrm>
              <a:off x="4724280" y="2438280"/>
              <a:ext cx="2286000" cy="1676520"/>
            </a:xfrm>
            <a:custGeom>
              <a:avLst/>
              <a:gdLst>
                <a:gd name="textAreaLeft" fmla="*/ 0 w 2286000"/>
                <a:gd name="textAreaRight" fmla="*/ 2286360 w 2286000"/>
                <a:gd name="textAreaTop" fmla="*/ 0 h 1676520"/>
                <a:gd name="textAreaBottom" fmla="*/ 1676880 h 1676520"/>
              </a:gdLst>
              <a:ahLst/>
              <a:rect l="textAreaLeft" t="textAreaTop" r="textAreaRight" b="textAreaBottom"/>
              <a:pathLst>
                <a:path w="21600" h="21600">
                  <a:moveTo>
                    <a:pt x="11880" y="19492"/>
                  </a:moveTo>
                  <a:arcTo wR="-8759" hR="-8759" stAng="4975078" swAng="-1926073"/>
                  <a:lnTo>
                    <a:pt x="3977" y="2429"/>
                  </a:lnTo>
                  <a:arcTo wR="10800" hR="10800" stAng="-7750995" swAng="1926073"/>
                  <a:lnTo>
                    <a:pt x="9136" y="-2597"/>
                  </a:lnTo>
                  <a:lnTo>
                    <a:pt x="13286" y="636"/>
                  </a:lnTo>
                  <a:lnTo>
                    <a:pt x="10053" y="4787"/>
                  </a:lnTo>
                  <a:close/>
                </a:path>
              </a:pathLst>
            </a:custGeom>
            <a:solidFill>
              <a:srgbClr val="ffff00"/>
            </a:solidFill>
            <a:ln w="25560">
              <a:solidFill>
                <a:srgbClr val="27ff2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 name=""/>
          <p:cNvGrpSpPr/>
          <p:nvPr/>
        </p:nvGrpSpPr>
        <p:grpSpPr>
          <a:xfrm>
            <a:off x="459360" y="2286000"/>
            <a:ext cx="7600320" cy="2346120"/>
            <a:chOff x="459360" y="2286000"/>
            <a:chExt cx="7600320" cy="2346120"/>
          </a:xfrm>
        </p:grpSpPr>
        <p:sp>
          <p:nvSpPr>
            <p:cNvPr id="203" name=""/>
            <p:cNvSpPr/>
            <p:nvPr/>
          </p:nvSpPr>
          <p:spPr>
            <a:xfrm>
              <a:off x="6154560" y="2286000"/>
              <a:ext cx="1905120" cy="2346120"/>
            </a:xfrm>
            <a:prstGeom prst="rect">
              <a:avLst/>
            </a:prstGeom>
            <a:solidFill>
              <a:srgbClr val="ffffff"/>
            </a:solidFill>
            <a:ln w="25560">
              <a:solidFill>
                <a:srgbClr val="b2b2b2"/>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tivité de l ’Ateli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e mélange 1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124.00</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124.00</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124.00</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124.00</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124.00</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124.00</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124.00</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124.00</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124.00</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124.00</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04" name=""/>
            <p:cNvSpPr/>
            <p:nvPr/>
          </p:nvSpPr>
          <p:spPr>
            <a:xfrm>
              <a:off x="459360" y="3138480"/>
              <a:ext cx="164664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Journaux</a:t>
              </a:r>
              <a:endParaRPr b="0" lang="en-US" sz="2800" spc="-1" strike="noStrike">
                <a:solidFill>
                  <a:srgbClr val="000000"/>
                </a:solidFill>
                <a:latin typeface="Times New Roman"/>
              </a:endParaRPr>
            </a:p>
          </p:txBody>
        </p:sp>
        <p:sp>
          <p:nvSpPr>
            <p:cNvPr id="205" name=""/>
            <p:cNvSpPr/>
            <p:nvPr/>
          </p:nvSpPr>
          <p:spPr>
            <a:xfrm flipV="1">
              <a:off x="4859280" y="2513880"/>
              <a:ext cx="1770120" cy="1676520"/>
            </a:xfrm>
            <a:custGeom>
              <a:avLst/>
              <a:gdLst>
                <a:gd name="textAreaLeft" fmla="*/ 0 w 1770120"/>
                <a:gd name="textAreaRight" fmla="*/ 1770480 w 1770120"/>
                <a:gd name="textAreaTop" fmla="*/ -360 h 1676520"/>
                <a:gd name="textAreaBottom" fmla="*/ 1676520 h 1676520"/>
              </a:gdLst>
              <a:ahLst/>
              <a:rect l="textAreaLeft" t="textAreaTop" r="textAreaRight" b="textAreaBottom"/>
              <a:pathLst>
                <a:path w="21600" h="21600">
                  <a:moveTo>
                    <a:pt x="9783" y="19268"/>
                  </a:moveTo>
                  <a:arcTo wR="-8529" hR="-8529" stAng="5810854" swAng="-3068843"/>
                  <a:lnTo>
                    <a:pt x="3257" y="3070"/>
                  </a:lnTo>
                  <a:arcTo wR="10800" hR="10800" stAng="-8057989" swAng="3068843"/>
                  <a:lnTo>
                    <a:pt x="12410" y="-2604"/>
                  </a:lnTo>
                  <a:lnTo>
                    <a:pt x="15760" y="1662"/>
                  </a:lnTo>
                  <a:lnTo>
                    <a:pt x="11495" y="5013"/>
                  </a:lnTo>
                  <a:close/>
                </a:path>
              </a:pathLst>
            </a:custGeom>
            <a:solidFill>
              <a:srgbClr val="ffff00"/>
            </a:solidFill>
            <a:ln w="25560">
              <a:solidFill>
                <a:srgbClr val="27ff2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6" name=""/>
          <p:cNvGrpSpPr/>
          <p:nvPr/>
        </p:nvGrpSpPr>
        <p:grpSpPr>
          <a:xfrm>
            <a:off x="477000" y="1219320"/>
            <a:ext cx="8209800" cy="4480920"/>
            <a:chOff x="477000" y="1219320"/>
            <a:chExt cx="8209800" cy="4480920"/>
          </a:xfrm>
        </p:grpSpPr>
        <p:grpSp>
          <p:nvGrpSpPr>
            <p:cNvPr id="207" name=""/>
            <p:cNvGrpSpPr/>
            <p:nvPr/>
          </p:nvGrpSpPr>
          <p:grpSpPr>
            <a:xfrm>
              <a:off x="477000" y="1219320"/>
              <a:ext cx="8209800" cy="4480920"/>
              <a:chOff x="477000" y="1219320"/>
              <a:chExt cx="8209800" cy="4480920"/>
            </a:xfrm>
          </p:grpSpPr>
          <p:sp>
            <p:nvSpPr>
              <p:cNvPr id="208" name=""/>
              <p:cNvSpPr/>
              <p:nvPr/>
            </p:nvSpPr>
            <p:spPr>
              <a:xfrm>
                <a:off x="6781680" y="3033720"/>
                <a:ext cx="1905120" cy="2666520"/>
              </a:xfrm>
              <a:prstGeom prst="rect">
                <a:avLst/>
              </a:prstGeom>
              <a:solidFill>
                <a:srgbClr val="ffffff"/>
              </a:solidFill>
              <a:ln w="25560">
                <a:solidFill>
                  <a:srgbClr val="b2b2b2"/>
                </a:solidFill>
                <a:miter/>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Rapport de fabrication du lot 1234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Chauffage réacteu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Mélange Acquitté</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Mélange Acquitté</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Chauffage réacteu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Chauffage réacteu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Mélange Acquitté</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Mélange Acquitté</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Mélange Acquitté</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09" name=""/>
              <p:cNvSpPr/>
              <p:nvPr/>
            </p:nvSpPr>
            <p:spPr>
              <a:xfrm>
                <a:off x="477000" y="1219320"/>
                <a:ext cx="386424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Rapports de fabrication</a:t>
                </a:r>
                <a:endParaRPr b="0" lang="en-US" sz="2800" spc="-1" strike="noStrike">
                  <a:solidFill>
                    <a:srgbClr val="000000"/>
                  </a:solidFill>
                  <a:latin typeface="Times New Roman"/>
                </a:endParaRPr>
              </a:p>
            </p:txBody>
          </p:sp>
          <p:sp>
            <p:nvSpPr>
              <p:cNvPr id="210" name=""/>
              <p:cNvSpPr/>
              <p:nvPr/>
            </p:nvSpPr>
            <p:spPr>
              <a:xfrm flipV="1">
                <a:off x="4648320" y="2957400"/>
                <a:ext cx="3200400" cy="2057040"/>
              </a:xfrm>
              <a:custGeom>
                <a:avLst/>
                <a:gdLst>
                  <a:gd name="textAreaLeft" fmla="*/ 0 w 3200400"/>
                  <a:gd name="textAreaRight" fmla="*/ 3200760 w 3200400"/>
                  <a:gd name="textAreaTop" fmla="*/ 360 h 2057040"/>
                  <a:gd name="textAreaBottom" fmla="*/ 2057760 h 2057040"/>
                </a:gdLst>
                <a:ahLst/>
                <a:rect l="textAreaLeft" t="textAreaTop" r="textAreaRight" b="textAreaBottom"/>
                <a:pathLst>
                  <a:path w="21600" h="21600">
                    <a:moveTo>
                      <a:pt x="12826" y="19834"/>
                    </a:moveTo>
                    <a:arcTo wR="-9258" hR="-9258" stAng="4641585" swAng="-4580523"/>
                    <a:lnTo>
                      <a:pt x="2" y="10608"/>
                    </a:lnTo>
                    <a:arcTo wR="10800" hR="10800" stAng="-10738938" swAng="4580523"/>
                    <a:lnTo>
                      <a:pt x="7846" y="-2373"/>
                    </a:lnTo>
                    <a:lnTo>
                      <a:pt x="11992" y="255"/>
                    </a:lnTo>
                    <a:lnTo>
                      <a:pt x="9365" y="4401"/>
                    </a:lnTo>
                    <a:close/>
                  </a:path>
                </a:pathLst>
              </a:custGeom>
              <a:solidFill>
                <a:srgbClr val="ffff00"/>
              </a:solidFill>
              <a:ln w="25560">
                <a:solidFill>
                  <a:srgbClr val="27ff2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1" name=""/>
            <p:cNvSpPr/>
            <p:nvPr/>
          </p:nvSpPr>
          <p:spPr>
            <a:xfrm>
              <a:off x="6934320" y="4862520"/>
              <a:ext cx="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934320" y="52434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946920" y="4944960"/>
              <a:ext cx="852480" cy="196560"/>
            </a:xfrm>
            <a:custGeom>
              <a:avLst/>
              <a:gdLst/>
              <a:ahLst/>
              <a:rect l="l" t="t" r="r" b="b"/>
              <a:pathLst>
                <a:path w="537" h="124">
                  <a:moveTo>
                    <a:pt x="0" y="82"/>
                  </a:moveTo>
                  <a:cubicBezTo>
                    <a:pt x="21" y="79"/>
                    <a:pt x="42" y="79"/>
                    <a:pt x="62" y="72"/>
                  </a:cubicBezTo>
                  <a:cubicBezTo>
                    <a:pt x="122" y="52"/>
                    <a:pt x="64" y="41"/>
                    <a:pt x="124" y="62"/>
                  </a:cubicBezTo>
                  <a:cubicBezTo>
                    <a:pt x="134" y="58"/>
                    <a:pt x="145" y="46"/>
                    <a:pt x="155" y="51"/>
                  </a:cubicBezTo>
                  <a:cubicBezTo>
                    <a:pt x="181" y="65"/>
                    <a:pt x="189" y="103"/>
                    <a:pt x="217" y="113"/>
                  </a:cubicBezTo>
                  <a:cubicBezTo>
                    <a:pt x="227" y="117"/>
                    <a:pt x="238" y="120"/>
                    <a:pt x="248" y="124"/>
                  </a:cubicBezTo>
                  <a:cubicBezTo>
                    <a:pt x="258" y="120"/>
                    <a:pt x="271" y="121"/>
                    <a:pt x="279" y="113"/>
                  </a:cubicBezTo>
                  <a:cubicBezTo>
                    <a:pt x="299" y="93"/>
                    <a:pt x="290" y="57"/>
                    <a:pt x="300" y="31"/>
                  </a:cubicBezTo>
                  <a:cubicBezTo>
                    <a:pt x="304" y="19"/>
                    <a:pt x="313" y="10"/>
                    <a:pt x="320" y="0"/>
                  </a:cubicBezTo>
                  <a:cubicBezTo>
                    <a:pt x="341" y="7"/>
                    <a:pt x="364" y="8"/>
                    <a:pt x="382" y="20"/>
                  </a:cubicBezTo>
                  <a:cubicBezTo>
                    <a:pt x="392" y="27"/>
                    <a:pt x="402" y="36"/>
                    <a:pt x="413" y="41"/>
                  </a:cubicBezTo>
                  <a:cubicBezTo>
                    <a:pt x="433" y="50"/>
                    <a:pt x="475" y="62"/>
                    <a:pt x="475" y="62"/>
                  </a:cubicBezTo>
                  <a:cubicBezTo>
                    <a:pt x="524" y="49"/>
                    <a:pt x="504" y="44"/>
                    <a:pt x="537" y="62"/>
                  </a:cubicBezTo>
                </a:path>
              </a:pathLst>
            </a:custGeom>
            <a:noFill/>
            <a:ln w="9360">
              <a:solidFill>
                <a:srgbClr val="cc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934320" y="4894200"/>
              <a:ext cx="852480" cy="196560"/>
            </a:xfrm>
            <a:custGeom>
              <a:avLst/>
              <a:gdLst/>
              <a:ahLst/>
              <a:rect l="l" t="t" r="r" b="b"/>
              <a:pathLst>
                <a:path w="537" h="124">
                  <a:moveTo>
                    <a:pt x="0" y="82"/>
                  </a:moveTo>
                  <a:cubicBezTo>
                    <a:pt x="21" y="79"/>
                    <a:pt x="42" y="79"/>
                    <a:pt x="62" y="72"/>
                  </a:cubicBezTo>
                  <a:cubicBezTo>
                    <a:pt x="122" y="52"/>
                    <a:pt x="64" y="41"/>
                    <a:pt x="124" y="62"/>
                  </a:cubicBezTo>
                  <a:cubicBezTo>
                    <a:pt x="134" y="58"/>
                    <a:pt x="145" y="46"/>
                    <a:pt x="155" y="51"/>
                  </a:cubicBezTo>
                  <a:cubicBezTo>
                    <a:pt x="181" y="65"/>
                    <a:pt x="189" y="103"/>
                    <a:pt x="217" y="113"/>
                  </a:cubicBezTo>
                  <a:cubicBezTo>
                    <a:pt x="227" y="117"/>
                    <a:pt x="238" y="120"/>
                    <a:pt x="248" y="124"/>
                  </a:cubicBezTo>
                  <a:cubicBezTo>
                    <a:pt x="258" y="120"/>
                    <a:pt x="271" y="121"/>
                    <a:pt x="279" y="113"/>
                  </a:cubicBezTo>
                  <a:cubicBezTo>
                    <a:pt x="299" y="93"/>
                    <a:pt x="290" y="57"/>
                    <a:pt x="300" y="31"/>
                  </a:cubicBezTo>
                  <a:cubicBezTo>
                    <a:pt x="304" y="19"/>
                    <a:pt x="313" y="10"/>
                    <a:pt x="320" y="0"/>
                  </a:cubicBezTo>
                  <a:cubicBezTo>
                    <a:pt x="341" y="7"/>
                    <a:pt x="364" y="8"/>
                    <a:pt x="382" y="20"/>
                  </a:cubicBezTo>
                  <a:cubicBezTo>
                    <a:pt x="392" y="27"/>
                    <a:pt x="402" y="36"/>
                    <a:pt x="413" y="41"/>
                  </a:cubicBezTo>
                  <a:cubicBezTo>
                    <a:pt x="433" y="50"/>
                    <a:pt x="475" y="62"/>
                    <a:pt x="475" y="62"/>
                  </a:cubicBezTo>
                  <a:cubicBezTo>
                    <a:pt x="524" y="49"/>
                    <a:pt x="504" y="44"/>
                    <a:pt x="537" y="62"/>
                  </a:cubicBezTo>
                </a:path>
              </a:pathLst>
            </a:custGeom>
            <a:noFill/>
            <a:ln w="93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110CE8D0-610C-4BC0-A14B-A4D6C801FB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ff9"/>
        </a:solidFill>
      </p:bgPr>
    </p:bg>
    <p:spTree>
      <p:nvGrpSpPr>
        <p:cNvPr id="1" name=""/>
        <p:cNvGrpSpPr/>
        <p:nvPr/>
      </p:nvGrpSpPr>
      <p:grpSpPr>
        <a:xfrm>
          <a:off x="0" y="0"/>
          <a:ext cx="0" cy="0"/>
          <a:chOff x="0" y="0"/>
          <a:chExt cx="0" cy="0"/>
        </a:xfrm>
      </p:grpSpPr>
      <p:sp>
        <p:nvSpPr>
          <p:cNvPr id="215" name=""/>
          <p:cNvSpPr/>
          <p:nvPr/>
        </p:nvSpPr>
        <p:spPr>
          <a:xfrm>
            <a:off x="1219320" y="4038480"/>
            <a:ext cx="1828800" cy="1752840"/>
          </a:xfrm>
          <a:prstGeom prst="can">
            <a:avLst>
              <a:gd name="adj" fmla="val 25000"/>
            </a:avLst>
          </a:prstGeom>
          <a:gradFill rotWithShape="0">
            <a:gsLst>
              <a:gs pos="0">
                <a:srgbClr val="752b4b"/>
              </a:gs>
              <a:gs pos="50000">
                <a:srgbClr val="ff5fa4"/>
              </a:gs>
              <a:gs pos="100000">
                <a:srgbClr val="752b4b"/>
              </a:gs>
            </a:gsLst>
            <a:lin ang="10800000"/>
          </a:gradFill>
          <a:ln w="25560">
            <a:solidFill>
              <a:srgbClr val="000000"/>
            </a:solidFill>
            <a:miter/>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BdD SQL</a:t>
            </a:r>
            <a:endParaRPr b="0" lang="en-US" sz="2400" spc="-1" strike="noStrike">
              <a:solidFill>
                <a:srgbClr val="000000"/>
              </a:solidFill>
              <a:latin typeface="Times New Roman"/>
            </a:endParaRPr>
          </a:p>
        </p:txBody>
      </p:sp>
      <p:sp>
        <p:nvSpPr>
          <p:cNvPr id="216" name=""/>
          <p:cNvSpPr/>
          <p:nvPr/>
        </p:nvSpPr>
        <p:spPr>
          <a:xfrm>
            <a:off x="1600200" y="2451240"/>
            <a:ext cx="5318280" cy="2806560"/>
          </a:xfrm>
          <a:custGeom>
            <a:avLst/>
            <a:gdLst>
              <a:gd name="textAreaLeft" fmla="*/ 0 w 5318280"/>
              <a:gd name="textAreaRight" fmla="*/ 5318640 w 5318280"/>
              <a:gd name="textAreaTop" fmla="*/ 0 h 2806560"/>
              <a:gd name="textAreaBottom" fmla="*/ 2806920 h 2806560"/>
            </a:gdLst>
            <a:ahLst/>
            <a:rect l="textAreaLeft" t="textAreaTop" r="textAreaRight" b="textAreaBottom"/>
            <a:pathLst>
              <a:path w="21600" h="21600">
                <a:moveTo>
                  <a:pt x="11790" y="19915"/>
                </a:moveTo>
                <a:arcTo wR="-9169" hR="-9169" stAng="5028116" swAng="-5247691"/>
                <a:lnTo>
                  <a:pt x="22" y="11489"/>
                </a:lnTo>
                <a:arcTo wR="10800" hR="10800" stAng="10580425" swAng="5247691"/>
                <a:lnTo>
                  <a:pt x="9342" y="-2621"/>
                </a:lnTo>
                <a:lnTo>
                  <a:pt x="13217" y="494"/>
                </a:lnTo>
                <a:lnTo>
                  <a:pt x="10102" y="4369"/>
                </a:lnTo>
                <a:close/>
              </a:path>
            </a:pathLst>
          </a:cu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2133720" y="3929040"/>
            <a:ext cx="3187440" cy="871560"/>
          </a:xfrm>
          <a:custGeom>
            <a:avLst/>
            <a:gdLst>
              <a:gd name="textAreaLeft" fmla="*/ 0 w 3187440"/>
              <a:gd name="textAreaRight" fmla="*/ 3187800 w 3187440"/>
              <a:gd name="textAreaTop" fmla="*/ 0 h 871560"/>
              <a:gd name="textAreaBottom" fmla="*/ 871920 h 871560"/>
            </a:gdLst>
            <a:ahLst/>
            <a:rect l="textAreaLeft" t="textAreaTop" r="textAreaRight" b="textAreaBottom"/>
            <a:pathLst>
              <a:path w="21600" h="21600">
                <a:moveTo>
                  <a:pt x="9621" y="16949"/>
                </a:moveTo>
                <a:arcTo wR="-6261" hR="-6261" stAng="6051140" swAng="-5790286"/>
                <a:lnTo>
                  <a:pt x="31" y="9981"/>
                </a:lnTo>
                <a:arcTo wR="10800" hR="10800" stAng="-10539145" swAng="5790286"/>
                <a:lnTo>
                  <a:pt x="13342" y="-2459"/>
                </a:lnTo>
                <a:lnTo>
                  <a:pt x="17287" y="3358"/>
                </a:lnTo>
                <a:lnTo>
                  <a:pt x="11470" y="7303"/>
                </a:lnTo>
                <a:close/>
              </a:path>
            </a:pathLst>
          </a:cu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8" name=""/>
          <p:cNvGrpSpPr/>
          <p:nvPr/>
        </p:nvGrpSpPr>
        <p:grpSpPr>
          <a:xfrm>
            <a:off x="533520" y="2209680"/>
            <a:ext cx="6857640" cy="2133360"/>
            <a:chOff x="533520" y="2209680"/>
            <a:chExt cx="6857640" cy="2133360"/>
          </a:xfrm>
        </p:grpSpPr>
        <p:grpSp>
          <p:nvGrpSpPr>
            <p:cNvPr id="219" name=""/>
            <p:cNvGrpSpPr/>
            <p:nvPr/>
          </p:nvGrpSpPr>
          <p:grpSpPr>
            <a:xfrm>
              <a:off x="533520" y="2209680"/>
              <a:ext cx="6857640" cy="2133360"/>
              <a:chOff x="533520" y="2209680"/>
              <a:chExt cx="6857640" cy="2133360"/>
            </a:xfrm>
          </p:grpSpPr>
          <p:grpSp>
            <p:nvGrpSpPr>
              <p:cNvPr id="220" name=""/>
              <p:cNvGrpSpPr/>
              <p:nvPr/>
            </p:nvGrpSpPr>
            <p:grpSpPr>
              <a:xfrm>
                <a:off x="5486400" y="2895480"/>
                <a:ext cx="1904760" cy="1447560"/>
                <a:chOff x="5486400" y="2895480"/>
                <a:chExt cx="1904760" cy="1447560"/>
              </a:xfrm>
            </p:grpSpPr>
            <p:sp>
              <p:nvSpPr>
                <p:cNvPr id="221" name=""/>
                <p:cNvSpPr/>
                <p:nvPr/>
              </p:nvSpPr>
              <p:spPr>
                <a:xfrm>
                  <a:off x="5486400" y="2895480"/>
                  <a:ext cx="1904760" cy="1447560"/>
                </a:xfrm>
                <a:prstGeom prst="roundRect">
                  <a:avLst>
                    <a:gd name="adj" fmla="val 7565"/>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5638680" y="3034800"/>
                  <a:ext cx="1584360" cy="1231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715000" y="3123720"/>
                  <a:ext cx="0" cy="1066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715000" y="4190400"/>
                  <a:ext cx="1447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715000" y="3344400"/>
                  <a:ext cx="1444680" cy="377280"/>
                </a:xfrm>
                <a:custGeom>
                  <a:avLst/>
                  <a:gdLst/>
                  <a:ahLst/>
                  <a:rect l="l" t="t" r="r" b="b"/>
                  <a:pathLst>
                    <a:path w="910" h="238">
                      <a:moveTo>
                        <a:pt x="0" y="73"/>
                      </a:moveTo>
                      <a:cubicBezTo>
                        <a:pt x="74" y="48"/>
                        <a:pt x="63" y="42"/>
                        <a:pt x="124" y="0"/>
                      </a:cubicBezTo>
                      <a:cubicBezTo>
                        <a:pt x="189" y="23"/>
                        <a:pt x="162" y="62"/>
                        <a:pt x="228" y="83"/>
                      </a:cubicBezTo>
                      <a:cubicBezTo>
                        <a:pt x="311" y="63"/>
                        <a:pt x="299" y="49"/>
                        <a:pt x="393" y="62"/>
                      </a:cubicBezTo>
                      <a:cubicBezTo>
                        <a:pt x="423" y="92"/>
                        <a:pt x="440" y="122"/>
                        <a:pt x="476" y="145"/>
                      </a:cubicBezTo>
                      <a:cubicBezTo>
                        <a:pt x="522" y="138"/>
                        <a:pt x="564" y="125"/>
                        <a:pt x="610" y="145"/>
                      </a:cubicBezTo>
                      <a:cubicBezTo>
                        <a:pt x="621" y="150"/>
                        <a:pt x="623" y="166"/>
                        <a:pt x="631" y="176"/>
                      </a:cubicBezTo>
                      <a:cubicBezTo>
                        <a:pt x="658" y="208"/>
                        <a:pt x="685" y="225"/>
                        <a:pt x="724" y="238"/>
                      </a:cubicBezTo>
                      <a:cubicBezTo>
                        <a:pt x="753" y="209"/>
                        <a:pt x="779" y="173"/>
                        <a:pt x="796" y="135"/>
                      </a:cubicBezTo>
                      <a:cubicBezTo>
                        <a:pt x="825" y="69"/>
                        <a:pt x="798" y="52"/>
                        <a:pt x="859" y="31"/>
                      </a:cubicBezTo>
                      <a:cubicBezTo>
                        <a:pt x="903" y="43"/>
                        <a:pt x="886" y="42"/>
                        <a:pt x="910" y="42"/>
                      </a:cubicBezTo>
                    </a:path>
                  </a:pathLst>
                </a:custGeom>
                <a:noFill/>
                <a:ln w="284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715000" y="3361680"/>
                  <a:ext cx="1444680" cy="556920"/>
                </a:xfrm>
                <a:custGeom>
                  <a:avLst/>
                  <a:gdLst/>
                  <a:ahLst/>
                  <a:rect l="l" t="t" r="r" b="b"/>
                  <a:pathLst>
                    <a:path w="910" h="351">
                      <a:moveTo>
                        <a:pt x="0" y="351"/>
                      </a:moveTo>
                      <a:cubicBezTo>
                        <a:pt x="71" y="304"/>
                        <a:pt x="38" y="318"/>
                        <a:pt x="93" y="300"/>
                      </a:cubicBezTo>
                      <a:cubicBezTo>
                        <a:pt x="121" y="272"/>
                        <a:pt x="154" y="242"/>
                        <a:pt x="186" y="217"/>
                      </a:cubicBezTo>
                      <a:cubicBezTo>
                        <a:pt x="206" y="202"/>
                        <a:pt x="248" y="176"/>
                        <a:pt x="248" y="176"/>
                      </a:cubicBezTo>
                      <a:cubicBezTo>
                        <a:pt x="279" y="236"/>
                        <a:pt x="291" y="297"/>
                        <a:pt x="362" y="320"/>
                      </a:cubicBezTo>
                      <a:cubicBezTo>
                        <a:pt x="372" y="317"/>
                        <a:pt x="382" y="309"/>
                        <a:pt x="393" y="310"/>
                      </a:cubicBezTo>
                      <a:cubicBezTo>
                        <a:pt x="415" y="313"/>
                        <a:pt x="455" y="331"/>
                        <a:pt x="455" y="331"/>
                      </a:cubicBezTo>
                      <a:cubicBezTo>
                        <a:pt x="483" y="327"/>
                        <a:pt x="536" y="328"/>
                        <a:pt x="559" y="300"/>
                      </a:cubicBezTo>
                      <a:cubicBezTo>
                        <a:pt x="566" y="292"/>
                        <a:pt x="565" y="279"/>
                        <a:pt x="569" y="269"/>
                      </a:cubicBezTo>
                      <a:cubicBezTo>
                        <a:pt x="591" y="219"/>
                        <a:pt x="617" y="172"/>
                        <a:pt x="641" y="124"/>
                      </a:cubicBezTo>
                      <a:cubicBezTo>
                        <a:pt x="665" y="76"/>
                        <a:pt x="667" y="30"/>
                        <a:pt x="714" y="0"/>
                      </a:cubicBezTo>
                      <a:cubicBezTo>
                        <a:pt x="782" y="22"/>
                        <a:pt x="755" y="41"/>
                        <a:pt x="776" y="103"/>
                      </a:cubicBezTo>
                      <a:cubicBezTo>
                        <a:pt x="789" y="141"/>
                        <a:pt x="829" y="146"/>
                        <a:pt x="859" y="165"/>
                      </a:cubicBezTo>
                      <a:cubicBezTo>
                        <a:pt x="866" y="175"/>
                        <a:pt x="870" y="187"/>
                        <a:pt x="879" y="196"/>
                      </a:cubicBezTo>
                      <a:cubicBezTo>
                        <a:pt x="888" y="205"/>
                        <a:pt x="910" y="217"/>
                        <a:pt x="910" y="217"/>
                      </a:cubicBezTo>
                    </a:path>
                  </a:pathLst>
                </a:custGeom>
                <a:noFill/>
                <a:ln w="2844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715000" y="3623760"/>
                  <a:ext cx="1395360" cy="393480"/>
                </a:xfrm>
                <a:custGeom>
                  <a:avLst/>
                  <a:gdLst/>
                  <a:ahLst/>
                  <a:rect l="l" t="t" r="r" b="b"/>
                  <a:pathLst>
                    <a:path w="879" h="248">
                      <a:moveTo>
                        <a:pt x="0" y="0"/>
                      </a:moveTo>
                      <a:cubicBezTo>
                        <a:pt x="49" y="37"/>
                        <a:pt x="75" y="53"/>
                        <a:pt x="134" y="73"/>
                      </a:cubicBezTo>
                      <a:cubicBezTo>
                        <a:pt x="171" y="86"/>
                        <a:pt x="222" y="132"/>
                        <a:pt x="258" y="155"/>
                      </a:cubicBezTo>
                      <a:cubicBezTo>
                        <a:pt x="267" y="161"/>
                        <a:pt x="279" y="161"/>
                        <a:pt x="289" y="166"/>
                      </a:cubicBezTo>
                      <a:cubicBezTo>
                        <a:pt x="299" y="172"/>
                        <a:pt x="362" y="214"/>
                        <a:pt x="382" y="228"/>
                      </a:cubicBezTo>
                      <a:cubicBezTo>
                        <a:pt x="403" y="242"/>
                        <a:pt x="431" y="240"/>
                        <a:pt x="455" y="248"/>
                      </a:cubicBezTo>
                      <a:cubicBezTo>
                        <a:pt x="596" y="233"/>
                        <a:pt x="737" y="228"/>
                        <a:pt x="879" y="228"/>
                      </a:cubicBezTo>
                    </a:path>
                  </a:pathLst>
                </a:custGeom>
                <a:noFill/>
                <a:ln w="28440">
                  <a:solidFill>
                    <a:srgbClr val="0000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8" name=""/>
              <p:cNvSpPr/>
              <p:nvPr/>
            </p:nvSpPr>
            <p:spPr>
              <a:xfrm>
                <a:off x="533520" y="2209680"/>
                <a:ext cx="3657600" cy="3808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2160" rIns="92160" tIns="46080" bIns="46080" anchor="ctr">
                <a:normAutofit fontScale="94000"/>
              </a:bodyPr>
              <a:p>
                <a:pPr marL="322200" indent="-322200">
                  <a:lnSpc>
                    <a:spcPct val="100000"/>
                  </a:lnSpc>
                  <a:spcBef>
                    <a:spcPts val="4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6600"/>
                    </a:solidFill>
                    <a:latin typeface="Arial"/>
                  </a:rPr>
                  <a:t>Courbes fil de l’eau</a:t>
                </a:r>
                <a:endParaRPr b="0" lang="en-US" sz="2000" spc="-1" strike="noStrike">
                  <a:solidFill>
                    <a:srgbClr val="000000"/>
                  </a:solidFill>
                  <a:latin typeface="Times New Roman"/>
                </a:endParaRPr>
              </a:p>
            </p:txBody>
          </p:sp>
        </p:grpSp>
        <p:sp>
          <p:nvSpPr>
            <p:cNvPr id="229" name=""/>
            <p:cNvSpPr/>
            <p:nvPr/>
          </p:nvSpPr>
          <p:spPr>
            <a:xfrm flipV="1">
              <a:off x="4876920" y="3809880"/>
              <a:ext cx="1066680" cy="76320"/>
            </a:xfrm>
            <a:prstGeom prst="line">
              <a:avLst/>
            </a:prstGeom>
            <a:ln w="76320">
              <a:solidFill>
                <a:srgbClr val="00ff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230" name=""/>
          <p:cNvGrpSpPr/>
          <p:nvPr/>
        </p:nvGrpSpPr>
        <p:grpSpPr>
          <a:xfrm>
            <a:off x="533520" y="1114560"/>
            <a:ext cx="7238880" cy="2619360"/>
            <a:chOff x="533520" y="1114560"/>
            <a:chExt cx="7238880" cy="2619360"/>
          </a:xfrm>
        </p:grpSpPr>
        <p:grpSp>
          <p:nvGrpSpPr>
            <p:cNvPr id="231" name=""/>
            <p:cNvGrpSpPr/>
            <p:nvPr/>
          </p:nvGrpSpPr>
          <p:grpSpPr>
            <a:xfrm>
              <a:off x="533520" y="1114560"/>
              <a:ext cx="7238880" cy="2436840"/>
              <a:chOff x="533520" y="1114560"/>
              <a:chExt cx="7238880" cy="2436840"/>
            </a:xfrm>
          </p:grpSpPr>
          <p:sp>
            <p:nvSpPr>
              <p:cNvPr id="232" name=""/>
              <p:cNvSpPr/>
              <p:nvPr/>
            </p:nvSpPr>
            <p:spPr>
              <a:xfrm>
                <a:off x="5867280" y="1114560"/>
                <a:ext cx="1905120" cy="2436840"/>
              </a:xfrm>
              <a:prstGeom prst="rect">
                <a:avLst/>
              </a:prstGeom>
              <a:solidFill>
                <a:srgbClr val="ffffff"/>
              </a:solidFill>
              <a:ln w="25560">
                <a:solidFill>
                  <a:srgbClr val="b2b2b2"/>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empérature réacteu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ur 1 journé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124.00</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124.00</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124.00</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124.00</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124.00</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124.00</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124.00</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124.00</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124.00</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124.00</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33" name=""/>
              <p:cNvSpPr/>
              <p:nvPr/>
            </p:nvSpPr>
            <p:spPr>
              <a:xfrm>
                <a:off x="533520" y="3095280"/>
                <a:ext cx="1981080" cy="3808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2160" rIns="92160" tIns="46080" bIns="46080" anchor="ctr">
                <a:normAutofit fontScale="94000"/>
              </a:bodyPr>
              <a:p>
                <a:pPr marL="322200" indent="-322200">
                  <a:lnSpc>
                    <a:spcPct val="100000"/>
                  </a:lnSpc>
                  <a:spcBef>
                    <a:spcPts val="4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6600"/>
                    </a:solidFill>
                    <a:latin typeface="Arial"/>
                  </a:rPr>
                  <a:t>Journaux</a:t>
                </a:r>
                <a:endParaRPr b="0" lang="en-US" sz="2000" spc="-1" strike="noStrike">
                  <a:solidFill>
                    <a:srgbClr val="000000"/>
                  </a:solidFill>
                  <a:latin typeface="Times New Roman"/>
                </a:endParaRPr>
              </a:p>
            </p:txBody>
          </p:sp>
        </p:grpSp>
        <p:sp>
          <p:nvSpPr>
            <p:cNvPr id="234" name=""/>
            <p:cNvSpPr/>
            <p:nvPr/>
          </p:nvSpPr>
          <p:spPr>
            <a:xfrm flipV="1">
              <a:off x="4876920" y="2743200"/>
              <a:ext cx="1143000" cy="99072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V="1">
              <a:off x="5029200" y="1371600"/>
              <a:ext cx="1143000" cy="990720"/>
            </a:xfrm>
            <a:prstGeom prst="line">
              <a:avLst/>
            </a:prstGeom>
            <a:ln w="7632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6" name="PlaceHolder 1"/>
          <p:cNvSpPr>
            <a:spLocks noGrp="1"/>
          </p:cNvSpPr>
          <p:nvPr>
            <p:ph type="title"/>
          </p:nvPr>
        </p:nvSpPr>
        <p:spPr>
          <a:xfrm>
            <a:off x="762120" y="304560"/>
            <a:ext cx="624816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c00"/>
                </a:solidFill>
                <a:latin typeface="Arial"/>
              </a:rPr>
              <a:t>Activité de l’atelier</a:t>
            </a:r>
            <a:endParaRPr b="1" lang="en-US" sz="2800" spc="-1" strike="noStrike">
              <a:solidFill>
                <a:srgbClr val="ffcc00"/>
              </a:solidFill>
              <a:latin typeface="Arial"/>
            </a:endParaRPr>
          </a:p>
        </p:txBody>
      </p:sp>
      <p:grpSp>
        <p:nvGrpSpPr>
          <p:cNvPr id="237" name=""/>
          <p:cNvGrpSpPr/>
          <p:nvPr/>
        </p:nvGrpSpPr>
        <p:grpSpPr>
          <a:xfrm>
            <a:off x="533520" y="1295280"/>
            <a:ext cx="7848360" cy="1600200"/>
            <a:chOff x="533520" y="1295280"/>
            <a:chExt cx="7848360" cy="1600200"/>
          </a:xfrm>
        </p:grpSpPr>
        <p:grpSp>
          <p:nvGrpSpPr>
            <p:cNvPr id="238" name=""/>
            <p:cNvGrpSpPr/>
            <p:nvPr/>
          </p:nvGrpSpPr>
          <p:grpSpPr>
            <a:xfrm>
              <a:off x="533520" y="1295280"/>
              <a:ext cx="7848360" cy="1600200"/>
              <a:chOff x="533520" y="1295280"/>
              <a:chExt cx="7848360" cy="1600200"/>
            </a:xfrm>
          </p:grpSpPr>
          <p:sp>
            <p:nvSpPr>
              <p:cNvPr id="239" name=""/>
              <p:cNvSpPr/>
              <p:nvPr/>
            </p:nvSpPr>
            <p:spPr>
              <a:xfrm>
                <a:off x="533520" y="1295280"/>
                <a:ext cx="5486400" cy="3808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2160" rIns="92160" tIns="46080" bIns="46080" anchor="ctr">
                <a:normAutofit fontScale="94000"/>
              </a:bodyPr>
              <a:p>
                <a:pPr marL="322200" indent="-322200">
                  <a:lnSpc>
                    <a:spcPct val="100000"/>
                  </a:lnSpc>
                  <a:spcBef>
                    <a:spcPts val="4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6600"/>
                    </a:solidFill>
                    <a:latin typeface="Arial"/>
                  </a:rPr>
                  <a:t>Bandeaux d’alarmes fil de l’eau</a:t>
                </a:r>
                <a:endParaRPr b="0" lang="en-US" sz="2000" spc="-1" strike="noStrike">
                  <a:solidFill>
                    <a:srgbClr val="000000"/>
                  </a:solidFill>
                  <a:latin typeface="Times New Roman"/>
                </a:endParaRPr>
              </a:p>
            </p:txBody>
          </p:sp>
          <p:grpSp>
            <p:nvGrpSpPr>
              <p:cNvPr id="240" name=""/>
              <p:cNvGrpSpPr/>
              <p:nvPr/>
            </p:nvGrpSpPr>
            <p:grpSpPr>
              <a:xfrm>
                <a:off x="6477120" y="1447560"/>
                <a:ext cx="1904760" cy="1447920"/>
                <a:chOff x="6477120" y="1447560"/>
                <a:chExt cx="1904760" cy="1447920"/>
              </a:xfrm>
            </p:grpSpPr>
            <p:sp>
              <p:nvSpPr>
                <p:cNvPr id="241" name=""/>
                <p:cNvSpPr/>
                <p:nvPr/>
              </p:nvSpPr>
              <p:spPr>
                <a:xfrm>
                  <a:off x="6477120" y="1447560"/>
                  <a:ext cx="1904760" cy="1447920"/>
                </a:xfrm>
                <a:prstGeom prst="roundRect">
                  <a:avLst>
                    <a:gd name="adj" fmla="val 7565"/>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2" name=""/>
                <p:cNvGrpSpPr/>
                <p:nvPr/>
              </p:nvGrpSpPr>
              <p:grpSpPr>
                <a:xfrm>
                  <a:off x="6553080" y="1911240"/>
                  <a:ext cx="1676160" cy="907920"/>
                  <a:chOff x="6553080" y="1911240"/>
                  <a:chExt cx="1676160" cy="907920"/>
                </a:xfrm>
              </p:grpSpPr>
              <p:sp>
                <p:nvSpPr>
                  <p:cNvPr id="243" name=""/>
                  <p:cNvSpPr/>
                  <p:nvPr/>
                </p:nvSpPr>
                <p:spPr>
                  <a:xfrm>
                    <a:off x="6737040" y="2588040"/>
                    <a:ext cx="0" cy="231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737040" y="2819160"/>
                    <a:ext cx="326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7063920" y="1911240"/>
                    <a:ext cx="0" cy="9079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7063920" y="1911240"/>
                    <a:ext cx="11653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370640" y="1911240"/>
                    <a:ext cx="0" cy="231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675480" y="2637720"/>
                    <a:ext cx="122400" cy="99000"/>
                  </a:xfrm>
                  <a:prstGeom prst="flowChartCollate">
                    <a:avLst/>
                  </a:prstGeom>
                  <a:gradFill rotWithShape="0">
                    <a:gsLst>
                      <a:gs pos="0">
                        <a:srgbClr val="5e5e75"/>
                      </a:gs>
                      <a:gs pos="50000">
                        <a:srgbClr val="ccccff"/>
                      </a:gs>
                      <a:gs pos="100000">
                        <a:srgbClr val="5e5e75"/>
                      </a:gs>
                    </a:gsLst>
                    <a:lin ang="10800000"/>
                  </a:gradFill>
                  <a:ln w="255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49" name=""/>
                  <p:cNvSpPr/>
                  <p:nvPr/>
                </p:nvSpPr>
                <p:spPr>
                  <a:xfrm>
                    <a:off x="7309440" y="1977120"/>
                    <a:ext cx="122400" cy="99000"/>
                  </a:xfrm>
                  <a:prstGeom prst="flowChartCollate">
                    <a:avLst/>
                  </a:prstGeom>
                  <a:gradFill rotWithShape="0">
                    <a:gsLst>
                      <a:gs pos="0">
                        <a:srgbClr val="5e5e75"/>
                      </a:gs>
                      <a:gs pos="50000">
                        <a:srgbClr val="ccccff"/>
                      </a:gs>
                      <a:gs pos="100000">
                        <a:srgbClr val="5e5e75"/>
                      </a:gs>
                    </a:gsLst>
                    <a:lin ang="10800000"/>
                  </a:gradFill>
                  <a:ln w="255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50" name=""/>
                  <p:cNvSpPr/>
                  <p:nvPr/>
                </p:nvSpPr>
                <p:spPr>
                  <a:xfrm>
                    <a:off x="8025120" y="1911240"/>
                    <a:ext cx="0" cy="231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963920" y="1977120"/>
                    <a:ext cx="122400" cy="99000"/>
                  </a:xfrm>
                  <a:prstGeom prst="flowChartCollate">
                    <a:avLst/>
                  </a:prstGeom>
                  <a:gradFill rotWithShape="0">
                    <a:gsLst>
                      <a:gs pos="0">
                        <a:srgbClr val="5e5e75"/>
                      </a:gs>
                      <a:gs pos="50000">
                        <a:srgbClr val="ccccff"/>
                      </a:gs>
                      <a:gs pos="100000">
                        <a:srgbClr val="5e5e75"/>
                      </a:gs>
                    </a:gsLst>
                    <a:lin ang="10800000"/>
                  </a:gradFill>
                  <a:ln w="255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52" name=""/>
                  <p:cNvSpPr/>
                  <p:nvPr/>
                </p:nvSpPr>
                <p:spPr>
                  <a:xfrm>
                    <a:off x="6737040" y="1911240"/>
                    <a:ext cx="0" cy="263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675480" y="1977120"/>
                    <a:ext cx="122400" cy="99000"/>
                  </a:xfrm>
                  <a:prstGeom prst="flowChartCollate">
                    <a:avLst/>
                  </a:prstGeom>
                  <a:gradFill rotWithShape="0">
                    <a:gsLst>
                      <a:gs pos="0">
                        <a:srgbClr val="5e5e75"/>
                      </a:gs>
                      <a:gs pos="50000">
                        <a:srgbClr val="ccccff"/>
                      </a:gs>
                      <a:gs pos="100000">
                        <a:srgbClr val="5e5e75"/>
                      </a:gs>
                    </a:gsLst>
                    <a:lin ang="10800000"/>
                  </a:gradFill>
                  <a:ln w="255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54" name=""/>
                  <p:cNvSpPr/>
                  <p:nvPr/>
                </p:nvSpPr>
                <p:spPr>
                  <a:xfrm>
                    <a:off x="7370640" y="2571480"/>
                    <a:ext cx="0" cy="231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309440" y="2637720"/>
                    <a:ext cx="122400" cy="99000"/>
                  </a:xfrm>
                  <a:prstGeom prst="flowChartCollate">
                    <a:avLst/>
                  </a:prstGeom>
                  <a:gradFill rotWithShape="0">
                    <a:gsLst>
                      <a:gs pos="0">
                        <a:srgbClr val="5e5e75"/>
                      </a:gs>
                      <a:gs pos="50000">
                        <a:srgbClr val="ccccff"/>
                      </a:gs>
                      <a:gs pos="100000">
                        <a:srgbClr val="5e5e75"/>
                      </a:gs>
                    </a:gsLst>
                    <a:lin ang="10800000"/>
                  </a:gradFill>
                  <a:ln w="255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56" name=""/>
                  <p:cNvSpPr/>
                  <p:nvPr/>
                </p:nvSpPr>
                <p:spPr>
                  <a:xfrm>
                    <a:off x="8025120" y="2571480"/>
                    <a:ext cx="0" cy="231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963920" y="2637720"/>
                    <a:ext cx="122400" cy="99000"/>
                  </a:xfrm>
                  <a:prstGeom prst="flowChartCollate">
                    <a:avLst/>
                  </a:prstGeom>
                  <a:gradFill rotWithShape="0">
                    <a:gsLst>
                      <a:gs pos="0">
                        <a:srgbClr val="5e5e75"/>
                      </a:gs>
                      <a:gs pos="50000">
                        <a:srgbClr val="ccccff"/>
                      </a:gs>
                      <a:gs pos="100000">
                        <a:srgbClr val="5e5e75"/>
                      </a:gs>
                    </a:gsLst>
                    <a:lin ang="10800000"/>
                  </a:gradFill>
                  <a:ln w="255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58" name=""/>
                  <p:cNvSpPr/>
                  <p:nvPr/>
                </p:nvSpPr>
                <p:spPr>
                  <a:xfrm>
                    <a:off x="7186680" y="2125800"/>
                    <a:ext cx="367920" cy="445680"/>
                  </a:xfrm>
                  <a:custGeom>
                    <a:avLst/>
                    <a:gdLst>
                      <a:gd name="textAreaLeft" fmla="*/ 17640 w 367920"/>
                      <a:gd name="textAreaRight" fmla="*/ 350280 w 367920"/>
                      <a:gd name="textAreaTop" fmla="*/ 17640 h 445680"/>
                      <a:gd name="textAreaBottom" fmla="*/ 428040 h 445680"/>
                    </a:gdLst>
                    <a:ahLst/>
                    <a:rect l="textAreaLeft" t="textAreaTop" r="textAreaRight" b="textAreaBottom"/>
                    <a:pathLst>
                      <a:path w="21600" h="26161">
                        <a:moveTo>
                          <a:pt x="3600" y="0"/>
                        </a:moveTo>
                        <a:arcTo wR="3600" hR="3600" stAng="16200000" swAng="-5400000"/>
                        <a:lnTo>
                          <a:pt x="0" y="22561"/>
                        </a:lnTo>
                        <a:arcTo wR="3600" hR="3600" stAng="10800000" swAng="-5400000"/>
                        <a:lnTo>
                          <a:pt x="18000" y="26161"/>
                        </a:lnTo>
                        <a:arcTo wR="3600" hR="3600" stAng="5400000" swAng="-5400000"/>
                        <a:lnTo>
                          <a:pt x="21600" y="3600"/>
                        </a:lnTo>
                        <a:arcTo wR="3600" hR="3600" stAng="0" swAng="-5400000"/>
                        <a:close/>
                      </a:path>
                    </a:pathLst>
                  </a:custGeom>
                  <a:gradFill rotWithShape="0">
                    <a:gsLst>
                      <a:gs pos="0">
                        <a:srgbClr val="757575"/>
                      </a:gs>
                      <a:gs pos="50000">
                        <a:srgbClr val="ffffff"/>
                      </a:gs>
                      <a:gs pos="100000">
                        <a:srgbClr val="757575"/>
                      </a:gs>
                    </a:gsLst>
                    <a:lin ang="10800000"/>
                  </a:gra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7841160" y="2125800"/>
                    <a:ext cx="367920" cy="445680"/>
                  </a:xfrm>
                  <a:custGeom>
                    <a:avLst/>
                    <a:gdLst>
                      <a:gd name="textAreaLeft" fmla="*/ 17640 w 367920"/>
                      <a:gd name="textAreaRight" fmla="*/ 350280 w 367920"/>
                      <a:gd name="textAreaTop" fmla="*/ 17640 h 445680"/>
                      <a:gd name="textAreaBottom" fmla="*/ 428040 h 445680"/>
                    </a:gdLst>
                    <a:ahLst/>
                    <a:rect l="textAreaLeft" t="textAreaTop" r="textAreaRight" b="textAreaBottom"/>
                    <a:pathLst>
                      <a:path w="21600" h="26161">
                        <a:moveTo>
                          <a:pt x="3600" y="0"/>
                        </a:moveTo>
                        <a:arcTo wR="3600" hR="3600" stAng="16200000" swAng="-5400000"/>
                        <a:lnTo>
                          <a:pt x="0" y="22561"/>
                        </a:lnTo>
                        <a:arcTo wR="3600" hR="3600" stAng="10800000" swAng="-5400000"/>
                        <a:lnTo>
                          <a:pt x="18000" y="26161"/>
                        </a:lnTo>
                        <a:arcTo wR="3600" hR="3600" stAng="5400000" swAng="-5400000"/>
                        <a:lnTo>
                          <a:pt x="21600" y="3600"/>
                        </a:lnTo>
                        <a:arcTo wR="3600" hR="3600" stAng="0" swAng="-5400000"/>
                        <a:close/>
                      </a:path>
                    </a:pathLst>
                  </a:custGeom>
                  <a:gradFill rotWithShape="0">
                    <a:gsLst>
                      <a:gs pos="0">
                        <a:srgbClr val="757575"/>
                      </a:gs>
                      <a:gs pos="50000">
                        <a:srgbClr val="ffffff"/>
                      </a:gs>
                      <a:gs pos="100000">
                        <a:srgbClr val="757575"/>
                      </a:gs>
                    </a:gsLst>
                    <a:lin ang="10800000"/>
                  </a:gra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6553080" y="2125800"/>
                    <a:ext cx="367920" cy="445680"/>
                  </a:xfrm>
                  <a:custGeom>
                    <a:avLst/>
                    <a:gdLst>
                      <a:gd name="textAreaLeft" fmla="*/ 17640 w 367920"/>
                      <a:gd name="textAreaRight" fmla="*/ 350280 w 367920"/>
                      <a:gd name="textAreaTop" fmla="*/ 17640 h 445680"/>
                      <a:gd name="textAreaBottom" fmla="*/ 428040 h 445680"/>
                    </a:gdLst>
                    <a:ahLst/>
                    <a:rect l="textAreaLeft" t="textAreaTop" r="textAreaRight" b="textAreaBottom"/>
                    <a:pathLst>
                      <a:path w="21600" h="26161">
                        <a:moveTo>
                          <a:pt x="3600" y="0"/>
                        </a:moveTo>
                        <a:arcTo wR="3600" hR="3600" stAng="16200000" swAng="-5400000"/>
                        <a:lnTo>
                          <a:pt x="0" y="22561"/>
                        </a:lnTo>
                        <a:arcTo wR="3600" hR="3600" stAng="10800000" swAng="-5400000"/>
                        <a:lnTo>
                          <a:pt x="18000" y="26161"/>
                        </a:lnTo>
                        <a:arcTo wR="3600" hR="3600" stAng="5400000" swAng="-5400000"/>
                        <a:lnTo>
                          <a:pt x="21600" y="3600"/>
                        </a:lnTo>
                        <a:arcTo wR="3600" hR="3600" stAng="0" swAng="-5400000"/>
                        <a:close/>
                      </a:path>
                    </a:pathLst>
                  </a:custGeom>
                  <a:gradFill rotWithShape="0">
                    <a:gsLst>
                      <a:gs pos="0">
                        <a:srgbClr val="757575"/>
                      </a:gs>
                      <a:gs pos="50000">
                        <a:srgbClr val="ffffff"/>
                      </a:gs>
                      <a:gs pos="100000">
                        <a:srgbClr val="757575"/>
                      </a:gs>
                    </a:gsLst>
                    <a:lin ang="10800000"/>
                  </a:gra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1" name=""/>
                <p:cNvSpPr/>
                <p:nvPr/>
              </p:nvSpPr>
              <p:spPr>
                <a:xfrm>
                  <a:off x="6645240" y="1511280"/>
                  <a:ext cx="1584360" cy="317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633360" y="1487520"/>
                  <a:ext cx="1585800" cy="384840"/>
                </a:xfrm>
                <a:prstGeom prst="rect">
                  <a:avLst/>
                </a:prstGeom>
                <a:noFill/>
                <a:ln w="0">
                  <a:noFill/>
                </a:ln>
              </p:spPr>
              <p:style>
                <a:lnRef idx="0"/>
                <a:fillRef idx="0"/>
                <a:effectRef idx="0"/>
                <a:fontRef idx="minor"/>
              </p:style>
              <p:txBody>
                <a:bodyPr wrap="none"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2:00:11 dsfghdfg fsdh fg  sfgh</a:t>
                  </a:r>
                  <a:endParaRPr b="0" lang="en-US" sz="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2:00:11 dsfghdfg fsdh fg  sfgh</a:t>
                  </a:r>
                  <a:endParaRPr b="0" lang="en-US" sz="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2:00:11 dsfghdfg fsdh fg  sfgh</a:t>
                  </a:r>
                  <a:endParaRPr b="0" lang="en-US" sz="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2:00:11 dsfghdfg fsdh fg  sfgh</a:t>
                  </a:r>
                  <a:endParaRPr b="0" lang="en-US" sz="800" spc="-1" strike="noStrike">
                    <a:solidFill>
                      <a:srgbClr val="000000"/>
                    </a:solidFill>
                    <a:latin typeface="Times New Roman"/>
                  </a:endParaRPr>
                </a:p>
              </p:txBody>
            </p:sp>
          </p:grpSp>
        </p:grpSp>
        <p:sp>
          <p:nvSpPr>
            <p:cNvPr id="263" name=""/>
            <p:cNvSpPr/>
            <p:nvPr/>
          </p:nvSpPr>
          <p:spPr>
            <a:xfrm flipV="1">
              <a:off x="5105520" y="1752120"/>
              <a:ext cx="1600200" cy="762120"/>
            </a:xfrm>
            <a:prstGeom prst="line">
              <a:avLst/>
            </a:prstGeom>
            <a:ln w="7632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 name=""/>
          <p:cNvGrpSpPr/>
          <p:nvPr/>
        </p:nvGrpSpPr>
        <p:grpSpPr>
          <a:xfrm>
            <a:off x="533520" y="1752480"/>
            <a:ext cx="8381880" cy="2057400"/>
            <a:chOff x="533520" y="1752480"/>
            <a:chExt cx="8381880" cy="2057400"/>
          </a:xfrm>
        </p:grpSpPr>
        <p:grpSp>
          <p:nvGrpSpPr>
            <p:cNvPr id="265" name=""/>
            <p:cNvGrpSpPr/>
            <p:nvPr/>
          </p:nvGrpSpPr>
          <p:grpSpPr>
            <a:xfrm>
              <a:off x="533520" y="1752480"/>
              <a:ext cx="8381880" cy="2057400"/>
              <a:chOff x="533520" y="1752480"/>
              <a:chExt cx="8381880" cy="2057400"/>
            </a:xfrm>
          </p:grpSpPr>
          <p:sp>
            <p:nvSpPr>
              <p:cNvPr id="266" name=""/>
              <p:cNvSpPr/>
              <p:nvPr/>
            </p:nvSpPr>
            <p:spPr>
              <a:xfrm>
                <a:off x="533520" y="1752480"/>
                <a:ext cx="5333760" cy="3812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2160" rIns="92160" tIns="46080" bIns="46080" anchor="ctr">
                <a:normAutofit fontScale="94000"/>
              </a:bodyPr>
              <a:p>
                <a:pPr marL="322200" indent="-322200">
                  <a:lnSpc>
                    <a:spcPct val="100000"/>
                  </a:lnSpc>
                  <a:spcBef>
                    <a:spcPts val="4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6600"/>
                    </a:solidFill>
                    <a:latin typeface="Arial"/>
                  </a:rPr>
                  <a:t>Bandeaux d’alarmes historiques</a:t>
                </a:r>
                <a:endParaRPr b="0" lang="en-US" sz="2000" spc="-1" strike="noStrike">
                  <a:solidFill>
                    <a:srgbClr val="000000"/>
                  </a:solidFill>
                  <a:latin typeface="Times New Roman"/>
                </a:endParaRPr>
              </a:p>
            </p:txBody>
          </p:sp>
          <p:grpSp>
            <p:nvGrpSpPr>
              <p:cNvPr id="267" name=""/>
              <p:cNvGrpSpPr/>
              <p:nvPr/>
            </p:nvGrpSpPr>
            <p:grpSpPr>
              <a:xfrm>
                <a:off x="7010280" y="2362320"/>
                <a:ext cx="1905120" cy="1447560"/>
                <a:chOff x="7010280" y="2362320"/>
                <a:chExt cx="1905120" cy="1447560"/>
              </a:xfrm>
            </p:grpSpPr>
            <p:sp>
              <p:nvSpPr>
                <p:cNvPr id="268" name=""/>
                <p:cNvSpPr/>
                <p:nvPr/>
              </p:nvSpPr>
              <p:spPr>
                <a:xfrm>
                  <a:off x="7010280" y="2362320"/>
                  <a:ext cx="1905120" cy="1447560"/>
                </a:xfrm>
                <a:prstGeom prst="roundRect">
                  <a:avLst>
                    <a:gd name="adj" fmla="val 7565"/>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7178400" y="2425680"/>
                  <a:ext cx="1584360" cy="1231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7166520" y="2401920"/>
                  <a:ext cx="1585800" cy="1330200"/>
                </a:xfrm>
                <a:prstGeom prst="rect">
                  <a:avLst/>
                </a:prstGeom>
                <a:noFill/>
                <a:ln w="0">
                  <a:noFill/>
                </a:ln>
              </p:spPr>
              <p:style>
                <a:lnRef idx="0"/>
                <a:fillRef idx="0"/>
                <a:effectRef idx="0"/>
                <a:fontRef idx="minor"/>
              </p:style>
              <p:txBody>
                <a:bodyPr wrap="none"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2:00:11 dsfghdfg fsdh fg  sfgh</a:t>
                  </a:r>
                  <a:endParaRPr b="0" lang="en-US" sz="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2:00:11 dsfghdfg fsdh fg  sfgh</a:t>
                  </a:r>
                  <a:endParaRPr b="0" lang="en-US" sz="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2:00:11 dsfghdfg fsdh fg  sfgh</a:t>
                  </a:r>
                  <a:endParaRPr b="0" lang="en-US" sz="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2:00:11 dsfghdfg fsdh fg  sfgh</a:t>
                  </a:r>
                  <a:endParaRPr b="0" lang="en-US" sz="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2:00:11 dsfghdfg fsdh fg  sfgh</a:t>
                  </a:r>
                  <a:endParaRPr b="0" lang="en-US" sz="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2:00:11 dsfghdfg fsdh fg  sfgh</a:t>
                  </a:r>
                  <a:endParaRPr b="0" lang="en-US" sz="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2:00:11 dsfghdfg fsdh fg  sfgh</a:t>
                  </a:r>
                  <a:endParaRPr b="0" lang="en-US" sz="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2:00:11 dsfghdfg fsdh fg  sfgh</a:t>
                  </a:r>
                  <a:endParaRPr b="0" lang="en-US" sz="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2:00:11 dsfghdfg fsdh fg  sfgh</a:t>
                  </a:r>
                  <a:endParaRPr b="0" lang="en-US" sz="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2:00:11 dsfghdfg fsdh fg  sfgh</a:t>
                  </a:r>
                  <a:endParaRPr b="0" lang="en-US" sz="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2:00:11 dsfghdfg fsdh fg  sfgh</a:t>
                  </a:r>
                  <a:endParaRPr b="0" lang="en-US" sz="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2:00:11 dsfghdfg fsdh fg  sfgh</a:t>
                  </a:r>
                  <a:endParaRPr b="0" lang="en-US" sz="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2:00:11 dsfghdfg fsdh fg  sfgh</a:t>
                  </a:r>
                  <a:endParaRPr b="0" lang="en-US" sz="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2:00:11 dsfghdfg fsdh fg  sfgh</a:t>
                  </a:r>
                  <a:endParaRPr b="0" lang="en-US" sz="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2:00:11 dsfghdfg fsdh fg  sfgh</a:t>
                  </a:r>
                  <a:endParaRPr b="0" lang="en-US" sz="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2:00:11 dsfghdfg fsdh fg  sfgh</a:t>
                  </a:r>
                  <a:endParaRPr b="0" lang="en-US" sz="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grpSp>
        <p:sp>
          <p:nvSpPr>
            <p:cNvPr id="271" name=""/>
            <p:cNvSpPr/>
            <p:nvPr/>
          </p:nvSpPr>
          <p:spPr>
            <a:xfrm>
              <a:off x="5181480" y="2895480"/>
              <a:ext cx="2133720" cy="228600"/>
            </a:xfrm>
            <a:prstGeom prst="line">
              <a:avLst/>
            </a:prstGeom>
            <a:ln w="7632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2" name=""/>
          <p:cNvGrpSpPr/>
          <p:nvPr/>
        </p:nvGrpSpPr>
        <p:grpSpPr>
          <a:xfrm>
            <a:off x="533520" y="2666880"/>
            <a:ext cx="8076960" cy="2057400"/>
            <a:chOff x="533520" y="2666880"/>
            <a:chExt cx="8076960" cy="2057400"/>
          </a:xfrm>
        </p:grpSpPr>
        <p:grpSp>
          <p:nvGrpSpPr>
            <p:cNvPr id="273" name=""/>
            <p:cNvGrpSpPr/>
            <p:nvPr/>
          </p:nvGrpSpPr>
          <p:grpSpPr>
            <a:xfrm>
              <a:off x="533520" y="2666880"/>
              <a:ext cx="8076960" cy="2057400"/>
              <a:chOff x="533520" y="2666880"/>
              <a:chExt cx="8076960" cy="2057400"/>
            </a:xfrm>
          </p:grpSpPr>
          <p:grpSp>
            <p:nvGrpSpPr>
              <p:cNvPr id="274" name=""/>
              <p:cNvGrpSpPr/>
              <p:nvPr/>
            </p:nvGrpSpPr>
            <p:grpSpPr>
              <a:xfrm>
                <a:off x="6705720" y="3276360"/>
                <a:ext cx="1904760" cy="1447920"/>
                <a:chOff x="6705720" y="3276360"/>
                <a:chExt cx="1904760" cy="1447920"/>
              </a:xfrm>
            </p:grpSpPr>
            <p:sp>
              <p:nvSpPr>
                <p:cNvPr id="275" name=""/>
                <p:cNvSpPr/>
                <p:nvPr/>
              </p:nvSpPr>
              <p:spPr>
                <a:xfrm>
                  <a:off x="6705720" y="3276360"/>
                  <a:ext cx="1904760" cy="1447920"/>
                </a:xfrm>
                <a:prstGeom prst="roundRect">
                  <a:avLst>
                    <a:gd name="adj" fmla="val 7565"/>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6858000" y="3416040"/>
                  <a:ext cx="1584360" cy="1231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934320" y="3504960"/>
                  <a:ext cx="0" cy="1066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934320" y="4571640"/>
                  <a:ext cx="1447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H="1">
                  <a:off x="6933600" y="3725640"/>
                  <a:ext cx="1444680" cy="377640"/>
                </a:xfrm>
                <a:custGeom>
                  <a:avLst/>
                  <a:gdLst/>
                  <a:ahLst/>
                  <a:rect l="l" t="t" r="r" b="b"/>
                  <a:pathLst>
                    <a:path w="910" h="238">
                      <a:moveTo>
                        <a:pt x="0" y="73"/>
                      </a:moveTo>
                      <a:cubicBezTo>
                        <a:pt x="74" y="48"/>
                        <a:pt x="63" y="42"/>
                        <a:pt x="124" y="0"/>
                      </a:cubicBezTo>
                      <a:cubicBezTo>
                        <a:pt x="189" y="23"/>
                        <a:pt x="162" y="62"/>
                        <a:pt x="228" y="83"/>
                      </a:cubicBezTo>
                      <a:cubicBezTo>
                        <a:pt x="311" y="63"/>
                        <a:pt x="299" y="49"/>
                        <a:pt x="393" y="62"/>
                      </a:cubicBezTo>
                      <a:cubicBezTo>
                        <a:pt x="423" y="92"/>
                        <a:pt x="440" y="122"/>
                        <a:pt x="476" y="145"/>
                      </a:cubicBezTo>
                      <a:cubicBezTo>
                        <a:pt x="522" y="138"/>
                        <a:pt x="564" y="125"/>
                        <a:pt x="610" y="145"/>
                      </a:cubicBezTo>
                      <a:cubicBezTo>
                        <a:pt x="621" y="150"/>
                        <a:pt x="623" y="166"/>
                        <a:pt x="631" y="176"/>
                      </a:cubicBezTo>
                      <a:cubicBezTo>
                        <a:pt x="658" y="208"/>
                        <a:pt x="685" y="225"/>
                        <a:pt x="724" y="238"/>
                      </a:cubicBezTo>
                      <a:cubicBezTo>
                        <a:pt x="753" y="209"/>
                        <a:pt x="779" y="173"/>
                        <a:pt x="796" y="135"/>
                      </a:cubicBezTo>
                      <a:cubicBezTo>
                        <a:pt x="825" y="69"/>
                        <a:pt x="798" y="52"/>
                        <a:pt x="859" y="31"/>
                      </a:cubicBezTo>
                      <a:cubicBezTo>
                        <a:pt x="903" y="43"/>
                        <a:pt x="886" y="42"/>
                        <a:pt x="910" y="42"/>
                      </a:cubicBezTo>
                    </a:path>
                  </a:pathLst>
                </a:custGeom>
                <a:noFill/>
                <a:ln w="284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H="1">
                  <a:off x="6933600" y="3742920"/>
                  <a:ext cx="1444680" cy="557280"/>
                </a:xfrm>
                <a:custGeom>
                  <a:avLst/>
                  <a:gdLst/>
                  <a:ahLst/>
                  <a:rect l="l" t="t" r="r" b="b"/>
                  <a:pathLst>
                    <a:path w="910" h="351">
                      <a:moveTo>
                        <a:pt x="0" y="351"/>
                      </a:moveTo>
                      <a:cubicBezTo>
                        <a:pt x="71" y="304"/>
                        <a:pt x="38" y="318"/>
                        <a:pt x="93" y="300"/>
                      </a:cubicBezTo>
                      <a:cubicBezTo>
                        <a:pt x="121" y="272"/>
                        <a:pt x="154" y="242"/>
                        <a:pt x="186" y="217"/>
                      </a:cubicBezTo>
                      <a:cubicBezTo>
                        <a:pt x="206" y="202"/>
                        <a:pt x="248" y="176"/>
                        <a:pt x="248" y="176"/>
                      </a:cubicBezTo>
                      <a:cubicBezTo>
                        <a:pt x="279" y="236"/>
                        <a:pt x="291" y="297"/>
                        <a:pt x="362" y="320"/>
                      </a:cubicBezTo>
                      <a:cubicBezTo>
                        <a:pt x="372" y="317"/>
                        <a:pt x="382" y="309"/>
                        <a:pt x="393" y="310"/>
                      </a:cubicBezTo>
                      <a:cubicBezTo>
                        <a:pt x="415" y="313"/>
                        <a:pt x="455" y="331"/>
                        <a:pt x="455" y="331"/>
                      </a:cubicBezTo>
                      <a:cubicBezTo>
                        <a:pt x="483" y="327"/>
                        <a:pt x="536" y="328"/>
                        <a:pt x="559" y="300"/>
                      </a:cubicBezTo>
                      <a:cubicBezTo>
                        <a:pt x="566" y="292"/>
                        <a:pt x="565" y="279"/>
                        <a:pt x="569" y="269"/>
                      </a:cubicBezTo>
                      <a:cubicBezTo>
                        <a:pt x="591" y="219"/>
                        <a:pt x="617" y="172"/>
                        <a:pt x="641" y="124"/>
                      </a:cubicBezTo>
                      <a:cubicBezTo>
                        <a:pt x="665" y="76"/>
                        <a:pt x="667" y="30"/>
                        <a:pt x="714" y="0"/>
                      </a:cubicBezTo>
                      <a:cubicBezTo>
                        <a:pt x="782" y="22"/>
                        <a:pt x="755" y="41"/>
                        <a:pt x="776" y="103"/>
                      </a:cubicBezTo>
                      <a:cubicBezTo>
                        <a:pt x="789" y="141"/>
                        <a:pt x="829" y="146"/>
                        <a:pt x="859" y="165"/>
                      </a:cubicBezTo>
                      <a:cubicBezTo>
                        <a:pt x="866" y="175"/>
                        <a:pt x="870" y="187"/>
                        <a:pt x="879" y="196"/>
                      </a:cubicBezTo>
                      <a:cubicBezTo>
                        <a:pt x="888" y="205"/>
                        <a:pt x="910" y="217"/>
                        <a:pt x="910" y="217"/>
                      </a:cubicBezTo>
                    </a:path>
                  </a:pathLst>
                </a:custGeom>
                <a:noFill/>
                <a:ln w="2844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H="1">
                  <a:off x="6934320" y="4005000"/>
                  <a:ext cx="1395360" cy="393840"/>
                </a:xfrm>
                <a:custGeom>
                  <a:avLst/>
                  <a:gdLst/>
                  <a:ahLst/>
                  <a:rect l="l" t="t" r="r" b="b"/>
                  <a:pathLst>
                    <a:path w="879" h="248">
                      <a:moveTo>
                        <a:pt x="0" y="0"/>
                      </a:moveTo>
                      <a:cubicBezTo>
                        <a:pt x="49" y="37"/>
                        <a:pt x="75" y="53"/>
                        <a:pt x="134" y="73"/>
                      </a:cubicBezTo>
                      <a:cubicBezTo>
                        <a:pt x="171" y="86"/>
                        <a:pt x="222" y="132"/>
                        <a:pt x="258" y="155"/>
                      </a:cubicBezTo>
                      <a:cubicBezTo>
                        <a:pt x="267" y="161"/>
                        <a:pt x="279" y="161"/>
                        <a:pt x="289" y="166"/>
                      </a:cubicBezTo>
                      <a:cubicBezTo>
                        <a:pt x="299" y="172"/>
                        <a:pt x="362" y="214"/>
                        <a:pt x="382" y="228"/>
                      </a:cubicBezTo>
                      <a:cubicBezTo>
                        <a:pt x="403" y="242"/>
                        <a:pt x="431" y="240"/>
                        <a:pt x="455" y="248"/>
                      </a:cubicBezTo>
                      <a:cubicBezTo>
                        <a:pt x="596" y="233"/>
                        <a:pt x="737" y="228"/>
                        <a:pt x="879" y="228"/>
                      </a:cubicBezTo>
                    </a:path>
                  </a:pathLst>
                </a:custGeom>
                <a:noFill/>
                <a:ln w="28440">
                  <a:solidFill>
                    <a:srgbClr val="0000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2" name=""/>
              <p:cNvSpPr/>
              <p:nvPr/>
            </p:nvSpPr>
            <p:spPr>
              <a:xfrm>
                <a:off x="533520" y="2666880"/>
                <a:ext cx="3581280" cy="3808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2160" rIns="92160" tIns="46080" bIns="46080" anchor="ctr">
                <a:normAutofit fontScale="94000"/>
              </a:bodyPr>
              <a:p>
                <a:pPr marL="322200" indent="-322200">
                  <a:lnSpc>
                    <a:spcPct val="100000"/>
                  </a:lnSpc>
                  <a:spcBef>
                    <a:spcPts val="4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6600"/>
                    </a:solidFill>
                    <a:latin typeface="Arial"/>
                  </a:rPr>
                  <a:t>Courbes historiques</a:t>
                </a:r>
                <a:endParaRPr b="0" lang="en-US" sz="2000" spc="-1" strike="noStrike">
                  <a:solidFill>
                    <a:srgbClr val="000000"/>
                  </a:solidFill>
                  <a:latin typeface="Times New Roman"/>
                </a:endParaRPr>
              </a:p>
            </p:txBody>
          </p:sp>
        </p:grpSp>
        <p:sp>
          <p:nvSpPr>
            <p:cNvPr id="283" name=""/>
            <p:cNvSpPr/>
            <p:nvPr/>
          </p:nvSpPr>
          <p:spPr>
            <a:xfrm>
              <a:off x="4876920" y="4114800"/>
              <a:ext cx="2666880" cy="76320"/>
            </a:xfrm>
            <a:prstGeom prst="line">
              <a:avLst/>
            </a:prstGeom>
            <a:ln w="76320">
              <a:solidFill>
                <a:srgbClr val="00ff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284" name=""/>
          <p:cNvGrpSpPr/>
          <p:nvPr/>
        </p:nvGrpSpPr>
        <p:grpSpPr>
          <a:xfrm>
            <a:off x="533520" y="3048120"/>
            <a:ext cx="7619760" cy="2742480"/>
            <a:chOff x="533520" y="3048120"/>
            <a:chExt cx="7619760" cy="2742480"/>
          </a:xfrm>
        </p:grpSpPr>
        <p:grpSp>
          <p:nvGrpSpPr>
            <p:cNvPr id="285" name=""/>
            <p:cNvGrpSpPr/>
            <p:nvPr/>
          </p:nvGrpSpPr>
          <p:grpSpPr>
            <a:xfrm>
              <a:off x="533520" y="3048120"/>
              <a:ext cx="7619760" cy="2742480"/>
              <a:chOff x="533520" y="3048120"/>
              <a:chExt cx="7619760" cy="2742480"/>
            </a:xfrm>
          </p:grpSpPr>
          <p:grpSp>
            <p:nvGrpSpPr>
              <p:cNvPr id="286" name=""/>
              <p:cNvGrpSpPr/>
              <p:nvPr/>
            </p:nvGrpSpPr>
            <p:grpSpPr>
              <a:xfrm>
                <a:off x="533520" y="3581280"/>
                <a:ext cx="7619760" cy="2209320"/>
                <a:chOff x="533520" y="3581280"/>
                <a:chExt cx="7619760" cy="2209320"/>
              </a:xfrm>
            </p:grpSpPr>
            <p:grpSp>
              <p:nvGrpSpPr>
                <p:cNvPr id="287" name=""/>
                <p:cNvGrpSpPr/>
                <p:nvPr/>
              </p:nvGrpSpPr>
              <p:grpSpPr>
                <a:xfrm>
                  <a:off x="6248520" y="4343040"/>
                  <a:ext cx="1904760" cy="1447560"/>
                  <a:chOff x="6248520" y="4343040"/>
                  <a:chExt cx="1904760" cy="1447560"/>
                </a:xfrm>
              </p:grpSpPr>
              <p:sp>
                <p:nvSpPr>
                  <p:cNvPr id="288" name=""/>
                  <p:cNvSpPr/>
                  <p:nvPr/>
                </p:nvSpPr>
                <p:spPr>
                  <a:xfrm>
                    <a:off x="6248520" y="4343040"/>
                    <a:ext cx="1904760" cy="1447560"/>
                  </a:xfrm>
                  <a:prstGeom prst="roundRect">
                    <a:avLst>
                      <a:gd name="adj" fmla="val 7565"/>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6476760" y="4571640"/>
                    <a:ext cx="0" cy="1066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553080" y="4876200"/>
                    <a:ext cx="151920" cy="762120"/>
                  </a:xfrm>
                  <a:prstGeom prst="rect">
                    <a:avLst/>
                  </a:prstGeom>
                  <a:solidFill>
                    <a:srgbClr val="00ff00"/>
                  </a:solidFill>
                  <a:ln w="25560">
                    <a:solidFill>
                      <a:srgbClr val="27ff2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781680" y="4952520"/>
                    <a:ext cx="151920" cy="685800"/>
                  </a:xfrm>
                  <a:prstGeom prst="rect">
                    <a:avLst/>
                  </a:prstGeom>
                  <a:solidFill>
                    <a:srgbClr val="00ff00"/>
                  </a:solidFill>
                  <a:ln w="25560">
                    <a:solidFill>
                      <a:srgbClr val="27ff2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7010280" y="5104800"/>
                    <a:ext cx="151920" cy="533520"/>
                  </a:xfrm>
                  <a:prstGeom prst="rect">
                    <a:avLst/>
                  </a:prstGeom>
                  <a:solidFill>
                    <a:srgbClr val="00ff00"/>
                  </a:solidFill>
                  <a:ln w="25560">
                    <a:solidFill>
                      <a:srgbClr val="27ff2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238880" y="4647600"/>
                    <a:ext cx="151920" cy="990720"/>
                  </a:xfrm>
                  <a:prstGeom prst="rect">
                    <a:avLst/>
                  </a:prstGeom>
                  <a:solidFill>
                    <a:srgbClr val="00ff00"/>
                  </a:solidFill>
                  <a:ln w="25560">
                    <a:solidFill>
                      <a:srgbClr val="27ff2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467480" y="4800240"/>
                    <a:ext cx="151920" cy="838080"/>
                  </a:xfrm>
                  <a:prstGeom prst="rect">
                    <a:avLst/>
                  </a:prstGeom>
                  <a:solidFill>
                    <a:srgbClr val="00ff00"/>
                  </a:solidFill>
                  <a:ln w="25560">
                    <a:solidFill>
                      <a:srgbClr val="27ff2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696080" y="4952520"/>
                    <a:ext cx="151920" cy="685800"/>
                  </a:xfrm>
                  <a:prstGeom prst="rect">
                    <a:avLst/>
                  </a:prstGeom>
                  <a:solidFill>
                    <a:srgbClr val="00ff00"/>
                  </a:solidFill>
                  <a:ln w="25560">
                    <a:solidFill>
                      <a:srgbClr val="27ff2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476760" y="5638320"/>
                    <a:ext cx="1447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7" name=""/>
                <p:cNvSpPr/>
                <p:nvPr/>
              </p:nvSpPr>
              <p:spPr>
                <a:xfrm>
                  <a:off x="533520" y="3581280"/>
                  <a:ext cx="1981080" cy="3808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2160" rIns="92160" tIns="46080" bIns="46080" anchor="ctr">
                  <a:normAutofit fontScale="94000"/>
                </a:bodyPr>
                <a:p>
                  <a:pPr marL="322200" indent="-322200">
                    <a:lnSpc>
                      <a:spcPct val="100000"/>
                    </a:lnSpc>
                    <a:spcBef>
                      <a:spcPts val="4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6600"/>
                      </a:solidFill>
                      <a:latin typeface="Arial"/>
                    </a:rPr>
                    <a:t>Statistiques</a:t>
                  </a:r>
                  <a:endParaRPr b="0" lang="en-US" sz="2000" spc="-1" strike="noStrike">
                    <a:solidFill>
                      <a:srgbClr val="000000"/>
                    </a:solidFill>
                    <a:latin typeface="Times New Roman"/>
                  </a:endParaRPr>
                </a:p>
              </p:txBody>
            </p:sp>
          </p:grpSp>
          <p:sp>
            <p:nvSpPr>
              <p:cNvPr id="298" name=""/>
              <p:cNvSpPr/>
              <p:nvPr/>
            </p:nvSpPr>
            <p:spPr>
              <a:xfrm>
                <a:off x="4876920" y="4343400"/>
                <a:ext cx="1600200" cy="68580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5105520" y="3048120"/>
                <a:ext cx="1828800" cy="1447560"/>
              </a:xfrm>
              <a:prstGeom prst="line">
                <a:avLst/>
              </a:prstGeom>
              <a:ln w="7632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a:off x="6477120" y="4648320"/>
              <a:ext cx="1447560" cy="0"/>
            </a:xfrm>
            <a:prstGeom prst="line">
              <a:avLst/>
            </a:prstGeom>
            <a:ln w="25560">
              <a:solidFill>
                <a:srgbClr val="27ff27"/>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35151064-D458-4DD9-AE0F-D2938FB3FA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ff9"/>
        </a:solidFill>
      </p:bgPr>
    </p:bg>
    <p:spTree>
      <p:nvGrpSpPr>
        <p:cNvPr id="1" name=""/>
        <p:cNvGrpSpPr/>
        <p:nvPr/>
      </p:nvGrpSpPr>
      <p:grpSpPr>
        <a:xfrm>
          <a:off x="0" y="0"/>
          <a:ext cx="0" cy="0"/>
          <a:chOff x="0" y="0"/>
          <a:chExt cx="0" cy="0"/>
        </a:xfrm>
      </p:grpSpPr>
      <p:sp>
        <p:nvSpPr>
          <p:cNvPr id="301" name=""/>
          <p:cNvSpPr/>
          <p:nvPr/>
        </p:nvSpPr>
        <p:spPr>
          <a:xfrm>
            <a:off x="3505320" y="4191120"/>
            <a:ext cx="1828800" cy="1752480"/>
          </a:xfrm>
          <a:prstGeom prst="can">
            <a:avLst>
              <a:gd name="adj" fmla="val 25000"/>
            </a:avLst>
          </a:prstGeom>
          <a:gradFill rotWithShape="0">
            <a:gsLst>
              <a:gs pos="0">
                <a:srgbClr val="752b4b"/>
              </a:gs>
              <a:gs pos="50000">
                <a:srgbClr val="ff5fa4"/>
              </a:gs>
              <a:gs pos="100000">
                <a:srgbClr val="752b4b"/>
              </a:gs>
            </a:gsLst>
            <a:lin ang="10800000"/>
          </a:gradFill>
          <a:ln w="25560">
            <a:solidFill>
              <a:srgbClr val="000000"/>
            </a:solidFill>
            <a:miter/>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BdD SQL</a:t>
            </a:r>
            <a:endParaRPr b="0" lang="en-US" sz="2400" spc="-1" strike="noStrike">
              <a:solidFill>
                <a:srgbClr val="000000"/>
              </a:solidFill>
              <a:latin typeface="Times New Roman"/>
            </a:endParaRPr>
          </a:p>
        </p:txBody>
      </p:sp>
      <p:sp>
        <p:nvSpPr>
          <p:cNvPr id="302" name="PlaceHolder 1"/>
          <p:cNvSpPr>
            <a:spLocks noGrp="1"/>
          </p:cNvSpPr>
          <p:nvPr>
            <p:ph type="title"/>
          </p:nvPr>
        </p:nvSpPr>
        <p:spPr>
          <a:xfrm>
            <a:off x="762120" y="304560"/>
            <a:ext cx="624816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c00"/>
                </a:solidFill>
                <a:latin typeface="Arial"/>
              </a:rPr>
              <a:t>Corrélations lots / atelier</a:t>
            </a:r>
            <a:endParaRPr b="1" lang="en-US" sz="2800" spc="-1" strike="noStrike">
              <a:solidFill>
                <a:srgbClr val="ffcc00"/>
              </a:solidFill>
              <a:latin typeface="Arial"/>
            </a:endParaRPr>
          </a:p>
        </p:txBody>
      </p:sp>
      <p:sp>
        <p:nvSpPr>
          <p:cNvPr id="303" name="PlaceHolder 2"/>
          <p:cNvSpPr>
            <a:spLocks noGrp="1"/>
          </p:cNvSpPr>
          <p:nvPr>
            <p:ph/>
          </p:nvPr>
        </p:nvSpPr>
        <p:spPr>
          <a:xfrm>
            <a:off x="876240" y="1390680"/>
            <a:ext cx="7467840" cy="3981600"/>
          </a:xfrm>
          <a:prstGeom prst="rect">
            <a:avLst/>
          </a:prstGeom>
          <a:noFill/>
          <a:ln w="0">
            <a:noFill/>
          </a:ln>
        </p:spPr>
        <p:txBody>
          <a:bodyPr lIns="90000" rIns="90000" tIns="46800" bIns="46800" anchor="t">
            <a:normAutofit/>
          </a:bodyPr>
          <a:p>
            <a:pPr marL="343080" indent="-343080">
              <a:lnSpc>
                <a:spcPct val="11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6600"/>
                </a:solidFill>
                <a:latin typeface="Arial"/>
              </a:rPr>
              <a:t>Quelle a été ma consommation d’énergie pendant la fabrication du lot 12345 ?</a:t>
            </a:r>
            <a:endParaRPr b="0" lang="en-US" sz="2400" spc="-1" strike="noStrike">
              <a:solidFill>
                <a:srgbClr val="ff6600"/>
              </a:solidFill>
              <a:latin typeface="Arial"/>
            </a:endParaRPr>
          </a:p>
          <a:p>
            <a:pPr marL="343080" indent="-343080">
              <a:lnSpc>
                <a:spcPct val="11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6600"/>
                </a:solidFill>
                <a:latin typeface="Arial"/>
              </a:rPr>
              <a:t>Quels lots a-t-on fabriqué pendant que la température du silo était supérieure à 43 °C ?</a:t>
            </a:r>
            <a:endParaRPr b="0" lang="en-US" sz="2400" spc="-1" strike="noStrike">
              <a:solidFill>
                <a:srgbClr val="ff6600"/>
              </a:solidFill>
              <a:latin typeface="Arial"/>
            </a:endParaRPr>
          </a:p>
          <a:p>
            <a:pPr marL="343080" indent="-343080">
              <a:lnSpc>
                <a:spcPct val="11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6600"/>
                </a:solidFill>
                <a:latin typeface="Arial"/>
              </a:rPr>
              <a:t>Quelles étaient les alarmes actives lorsque la phase cuisson de l’unité R23 s’est arrêtée</a:t>
            </a:r>
            <a:r>
              <a:rPr b="0" lang="fr-FR" sz="2400" spc="-1" strike="noStrike">
                <a:solidFill>
                  <a:srgbClr val="ff6600"/>
                </a:solidFill>
                <a:latin typeface="Arial"/>
              </a:rPr>
              <a:t> ?</a:t>
            </a:r>
            <a:endParaRPr b="0" lang="en-US" sz="2400" spc="-1" strike="noStrike">
              <a:solidFill>
                <a:srgbClr val="ff6600"/>
              </a:solidFill>
              <a:latin typeface="Arial"/>
            </a:endParaRPr>
          </a:p>
        </p:txBody>
      </p:sp>
      <p:sp>
        <p:nvSpPr>
          <p:cNvPr id="4" name="PlaceHolder 3"/>
          <p:cNvSpPr>
            <a:spLocks noGrp="1"/>
          </p:cNvSpPr>
          <p:nvPr>
            <p:ph type="sldNum" idx="3"/>
          </p:nvPr>
        </p:nvSpPr>
        <p:spPr/>
        <p:txBody>
          <a:bodyPr/>
          <a:p>
            <a:fld id="{0B580E79-6A08-42BC-841C-072B7CCF73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ff9"/>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762120" y="304560"/>
            <a:ext cx="624816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c00"/>
                </a:solidFill>
                <a:latin typeface="Arial"/>
              </a:rPr>
              <a:t>En résumé</a:t>
            </a:r>
            <a:endParaRPr b="1" lang="en-US" sz="2800" spc="-1" strike="noStrike">
              <a:solidFill>
                <a:srgbClr val="ffcc00"/>
              </a:solidFill>
              <a:latin typeface="Arial"/>
            </a:endParaRPr>
          </a:p>
        </p:txBody>
      </p:sp>
      <p:sp>
        <p:nvSpPr>
          <p:cNvPr id="305" name=""/>
          <p:cNvSpPr/>
          <p:nvPr/>
        </p:nvSpPr>
        <p:spPr>
          <a:xfrm>
            <a:off x="3505320" y="4191120"/>
            <a:ext cx="1828800" cy="1752480"/>
          </a:xfrm>
          <a:prstGeom prst="can">
            <a:avLst>
              <a:gd name="adj" fmla="val 25000"/>
            </a:avLst>
          </a:prstGeom>
          <a:gradFill rotWithShape="0">
            <a:gsLst>
              <a:gs pos="0">
                <a:srgbClr val="752b4b"/>
              </a:gs>
              <a:gs pos="50000">
                <a:srgbClr val="ff5fa4"/>
              </a:gs>
              <a:gs pos="100000">
                <a:srgbClr val="752b4b"/>
              </a:gs>
            </a:gsLst>
            <a:lin ang="10800000"/>
          </a:gradFill>
          <a:ln w="25560">
            <a:solidFill>
              <a:srgbClr val="000000"/>
            </a:solidFill>
            <a:miter/>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BdD SQL</a:t>
            </a:r>
            <a:endParaRPr b="0" lang="en-US" sz="2400" spc="-1" strike="noStrike">
              <a:solidFill>
                <a:srgbClr val="000000"/>
              </a:solidFill>
              <a:latin typeface="Times New Roman"/>
            </a:endParaRPr>
          </a:p>
        </p:txBody>
      </p:sp>
      <p:grpSp>
        <p:nvGrpSpPr>
          <p:cNvPr id="306" name=""/>
          <p:cNvGrpSpPr/>
          <p:nvPr/>
        </p:nvGrpSpPr>
        <p:grpSpPr>
          <a:xfrm>
            <a:off x="3657600" y="1981080"/>
            <a:ext cx="1371600" cy="2438640"/>
            <a:chOff x="3657600" y="1981080"/>
            <a:chExt cx="1371600" cy="2438640"/>
          </a:xfrm>
        </p:grpSpPr>
        <p:sp>
          <p:nvSpPr>
            <p:cNvPr id="307" name=""/>
            <p:cNvSpPr/>
            <p:nvPr/>
          </p:nvSpPr>
          <p:spPr>
            <a:xfrm>
              <a:off x="3657600" y="1981080"/>
              <a:ext cx="184320" cy="51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3733920" y="2590920"/>
              <a:ext cx="1295280" cy="1828800"/>
            </a:xfrm>
            <a:prstGeom prst="downArrow">
              <a:avLst>
                <a:gd name="adj1" fmla="val 50000"/>
                <a:gd name="adj2" fmla="val 35297"/>
              </a:avLst>
            </a:prstGeom>
            <a:solidFill>
              <a:srgbClr val="ccccff"/>
            </a:solidFill>
            <a:ln w="25560">
              <a:solidFill>
                <a:srgbClr val="27ff2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9" name=""/>
          <p:cNvGrpSpPr/>
          <p:nvPr/>
        </p:nvGrpSpPr>
        <p:grpSpPr>
          <a:xfrm>
            <a:off x="877680" y="1371600"/>
            <a:ext cx="6902280" cy="3152520"/>
            <a:chOff x="877680" y="1371600"/>
            <a:chExt cx="6902280" cy="3152520"/>
          </a:xfrm>
        </p:grpSpPr>
        <p:grpSp>
          <p:nvGrpSpPr>
            <p:cNvPr id="310" name=""/>
            <p:cNvGrpSpPr/>
            <p:nvPr/>
          </p:nvGrpSpPr>
          <p:grpSpPr>
            <a:xfrm>
              <a:off x="2705040" y="2514240"/>
              <a:ext cx="3444480" cy="2009880"/>
              <a:chOff x="2705040" y="2514240"/>
              <a:chExt cx="3444480" cy="2009880"/>
            </a:xfrm>
          </p:grpSpPr>
          <p:sp>
            <p:nvSpPr>
              <p:cNvPr id="311" name=""/>
              <p:cNvSpPr/>
              <p:nvPr/>
            </p:nvSpPr>
            <p:spPr>
              <a:xfrm rot="16200000">
                <a:off x="4323240" y="3005640"/>
                <a:ext cx="1427040" cy="1608480"/>
              </a:xfrm>
              <a:custGeom>
                <a:avLst/>
                <a:gdLst/>
                <a:ahLst/>
                <a:rect l="l" t="t" r="r" b="b"/>
                <a:pathLst>
                  <a:path w="3027" h="1215">
                    <a:moveTo>
                      <a:pt x="0" y="0"/>
                    </a:moveTo>
                    <a:lnTo>
                      <a:pt x="126" y="0"/>
                    </a:lnTo>
                    <a:lnTo>
                      <a:pt x="234" y="3"/>
                    </a:lnTo>
                    <a:lnTo>
                      <a:pt x="353" y="8"/>
                    </a:lnTo>
                    <a:lnTo>
                      <a:pt x="473" y="12"/>
                    </a:lnTo>
                    <a:lnTo>
                      <a:pt x="604" y="21"/>
                    </a:lnTo>
                    <a:lnTo>
                      <a:pt x="731" y="32"/>
                    </a:lnTo>
                    <a:lnTo>
                      <a:pt x="843" y="41"/>
                    </a:lnTo>
                    <a:lnTo>
                      <a:pt x="969" y="54"/>
                    </a:lnTo>
                    <a:lnTo>
                      <a:pt x="1082" y="68"/>
                    </a:lnTo>
                    <a:lnTo>
                      <a:pt x="1186" y="81"/>
                    </a:lnTo>
                    <a:lnTo>
                      <a:pt x="1307" y="99"/>
                    </a:lnTo>
                    <a:lnTo>
                      <a:pt x="1452" y="126"/>
                    </a:lnTo>
                    <a:lnTo>
                      <a:pt x="1578" y="149"/>
                    </a:lnTo>
                    <a:lnTo>
                      <a:pt x="1718" y="180"/>
                    </a:lnTo>
                    <a:lnTo>
                      <a:pt x="1863" y="216"/>
                    </a:lnTo>
                    <a:lnTo>
                      <a:pt x="1998" y="252"/>
                    </a:lnTo>
                    <a:lnTo>
                      <a:pt x="2106" y="288"/>
                    </a:lnTo>
                    <a:lnTo>
                      <a:pt x="2243" y="333"/>
                    </a:lnTo>
                    <a:lnTo>
                      <a:pt x="2355" y="378"/>
                    </a:lnTo>
                    <a:lnTo>
                      <a:pt x="2454" y="418"/>
                    </a:lnTo>
                    <a:lnTo>
                      <a:pt x="2535" y="463"/>
                    </a:lnTo>
                    <a:lnTo>
                      <a:pt x="2616" y="504"/>
                    </a:lnTo>
                    <a:lnTo>
                      <a:pt x="2680" y="544"/>
                    </a:lnTo>
                    <a:lnTo>
                      <a:pt x="2734" y="580"/>
                    </a:lnTo>
                    <a:lnTo>
                      <a:pt x="2793" y="626"/>
                    </a:lnTo>
                    <a:lnTo>
                      <a:pt x="2851" y="671"/>
                    </a:lnTo>
                    <a:lnTo>
                      <a:pt x="2896" y="716"/>
                    </a:lnTo>
                    <a:lnTo>
                      <a:pt x="2960" y="801"/>
                    </a:lnTo>
                    <a:lnTo>
                      <a:pt x="3000" y="874"/>
                    </a:lnTo>
                    <a:lnTo>
                      <a:pt x="3009" y="905"/>
                    </a:lnTo>
                    <a:lnTo>
                      <a:pt x="3027" y="967"/>
                    </a:lnTo>
                    <a:lnTo>
                      <a:pt x="3027" y="1017"/>
                    </a:lnTo>
                    <a:lnTo>
                      <a:pt x="3027" y="1215"/>
                    </a:lnTo>
                    <a:lnTo>
                      <a:pt x="2901" y="1120"/>
                    </a:lnTo>
                    <a:lnTo>
                      <a:pt x="2296" y="684"/>
                    </a:lnTo>
                    <a:lnTo>
                      <a:pt x="1420" y="454"/>
                    </a:lnTo>
                    <a:lnTo>
                      <a:pt x="516" y="333"/>
                    </a:lnTo>
                    <a:lnTo>
                      <a:pt x="0" y="306"/>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rot="16200000">
                <a:off x="5427720" y="3049920"/>
                <a:ext cx="484920" cy="33336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rot="16200000">
                <a:off x="5750280" y="3061080"/>
                <a:ext cx="484560" cy="313560"/>
              </a:xfrm>
              <a:custGeom>
                <a:avLst/>
                <a:gdLst/>
                <a:ahLst/>
                <a:rect l="l" t="t" r="r" b="b"/>
                <a:pathLst>
                  <a:path w="1028" h="237">
                    <a:moveTo>
                      <a:pt x="0" y="0"/>
                    </a:moveTo>
                    <a:lnTo>
                      <a:pt x="1028" y="0"/>
                    </a:lnTo>
                    <a:lnTo>
                      <a:pt x="514" y="237"/>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rot="16200000">
                <a:off x="4503960" y="3191400"/>
                <a:ext cx="1425600" cy="1238040"/>
              </a:xfrm>
              <a:custGeom>
                <a:avLst/>
                <a:gdLst/>
                <a:ahLst/>
                <a:rect l="l" t="t" r="r" b="b"/>
                <a:pathLst>
                  <a:path w="3024" h="935">
                    <a:moveTo>
                      <a:pt x="0" y="148"/>
                    </a:moveTo>
                    <a:lnTo>
                      <a:pt x="79" y="148"/>
                    </a:lnTo>
                    <a:lnTo>
                      <a:pt x="179" y="149"/>
                    </a:lnTo>
                    <a:lnTo>
                      <a:pt x="260" y="151"/>
                    </a:lnTo>
                    <a:lnTo>
                      <a:pt x="341" y="154"/>
                    </a:lnTo>
                    <a:lnTo>
                      <a:pt x="431" y="158"/>
                    </a:lnTo>
                    <a:lnTo>
                      <a:pt x="513" y="163"/>
                    </a:lnTo>
                    <a:lnTo>
                      <a:pt x="606" y="169"/>
                    </a:lnTo>
                    <a:lnTo>
                      <a:pt x="681" y="175"/>
                    </a:lnTo>
                    <a:lnTo>
                      <a:pt x="776" y="184"/>
                    </a:lnTo>
                    <a:lnTo>
                      <a:pt x="868" y="194"/>
                    </a:lnTo>
                    <a:lnTo>
                      <a:pt x="967" y="205"/>
                    </a:lnTo>
                    <a:lnTo>
                      <a:pt x="1050" y="217"/>
                    </a:lnTo>
                    <a:lnTo>
                      <a:pt x="1127" y="227"/>
                    </a:lnTo>
                    <a:lnTo>
                      <a:pt x="1214" y="240"/>
                    </a:lnTo>
                    <a:lnTo>
                      <a:pt x="1341" y="262"/>
                    </a:lnTo>
                    <a:lnTo>
                      <a:pt x="1456" y="286"/>
                    </a:lnTo>
                    <a:lnTo>
                      <a:pt x="1595" y="318"/>
                    </a:lnTo>
                    <a:lnTo>
                      <a:pt x="1685" y="342"/>
                    </a:lnTo>
                    <a:lnTo>
                      <a:pt x="1744" y="359"/>
                    </a:lnTo>
                    <a:lnTo>
                      <a:pt x="1857" y="393"/>
                    </a:lnTo>
                    <a:lnTo>
                      <a:pt x="1963" y="431"/>
                    </a:lnTo>
                    <a:lnTo>
                      <a:pt x="2042" y="461"/>
                    </a:lnTo>
                    <a:lnTo>
                      <a:pt x="2102" y="486"/>
                    </a:lnTo>
                    <a:lnTo>
                      <a:pt x="2169" y="518"/>
                    </a:lnTo>
                    <a:lnTo>
                      <a:pt x="2225" y="548"/>
                    </a:lnTo>
                    <a:lnTo>
                      <a:pt x="2272" y="575"/>
                    </a:lnTo>
                    <a:lnTo>
                      <a:pt x="2325" y="610"/>
                    </a:lnTo>
                    <a:lnTo>
                      <a:pt x="2371" y="643"/>
                    </a:lnTo>
                    <a:lnTo>
                      <a:pt x="2410" y="676"/>
                    </a:lnTo>
                    <a:lnTo>
                      <a:pt x="2445" y="706"/>
                    </a:lnTo>
                    <a:lnTo>
                      <a:pt x="2472" y="736"/>
                    </a:lnTo>
                    <a:lnTo>
                      <a:pt x="2493" y="763"/>
                    </a:lnTo>
                    <a:lnTo>
                      <a:pt x="2511" y="793"/>
                    </a:lnTo>
                    <a:lnTo>
                      <a:pt x="2526" y="820"/>
                    </a:lnTo>
                    <a:lnTo>
                      <a:pt x="2535" y="844"/>
                    </a:lnTo>
                    <a:lnTo>
                      <a:pt x="2546" y="876"/>
                    </a:lnTo>
                    <a:lnTo>
                      <a:pt x="2550" y="905"/>
                    </a:lnTo>
                    <a:lnTo>
                      <a:pt x="2552" y="935"/>
                    </a:lnTo>
                    <a:lnTo>
                      <a:pt x="3024" y="935"/>
                    </a:lnTo>
                    <a:lnTo>
                      <a:pt x="3020" y="887"/>
                    </a:lnTo>
                    <a:lnTo>
                      <a:pt x="3011" y="846"/>
                    </a:lnTo>
                    <a:lnTo>
                      <a:pt x="2999" y="811"/>
                    </a:lnTo>
                    <a:lnTo>
                      <a:pt x="2984" y="783"/>
                    </a:lnTo>
                    <a:lnTo>
                      <a:pt x="2967" y="753"/>
                    </a:lnTo>
                    <a:lnTo>
                      <a:pt x="2943" y="720"/>
                    </a:lnTo>
                    <a:lnTo>
                      <a:pt x="2922" y="694"/>
                    </a:lnTo>
                    <a:lnTo>
                      <a:pt x="2887" y="658"/>
                    </a:lnTo>
                    <a:lnTo>
                      <a:pt x="2853" y="626"/>
                    </a:lnTo>
                    <a:lnTo>
                      <a:pt x="2817" y="595"/>
                    </a:lnTo>
                    <a:lnTo>
                      <a:pt x="2774" y="563"/>
                    </a:lnTo>
                    <a:lnTo>
                      <a:pt x="2737" y="537"/>
                    </a:lnTo>
                    <a:lnTo>
                      <a:pt x="2675" y="500"/>
                    </a:lnTo>
                    <a:lnTo>
                      <a:pt x="2615" y="465"/>
                    </a:lnTo>
                    <a:lnTo>
                      <a:pt x="2525" y="422"/>
                    </a:lnTo>
                    <a:lnTo>
                      <a:pt x="2436" y="383"/>
                    </a:lnTo>
                    <a:lnTo>
                      <a:pt x="2346" y="347"/>
                    </a:lnTo>
                    <a:lnTo>
                      <a:pt x="2265" y="317"/>
                    </a:lnTo>
                    <a:lnTo>
                      <a:pt x="2151" y="279"/>
                    </a:lnTo>
                    <a:lnTo>
                      <a:pt x="2019" y="240"/>
                    </a:lnTo>
                    <a:lnTo>
                      <a:pt x="1888" y="208"/>
                    </a:lnTo>
                    <a:lnTo>
                      <a:pt x="1769" y="181"/>
                    </a:lnTo>
                    <a:lnTo>
                      <a:pt x="1688" y="163"/>
                    </a:lnTo>
                    <a:lnTo>
                      <a:pt x="1587" y="142"/>
                    </a:lnTo>
                    <a:lnTo>
                      <a:pt x="1514" y="128"/>
                    </a:lnTo>
                    <a:lnTo>
                      <a:pt x="1431" y="115"/>
                    </a:lnTo>
                    <a:lnTo>
                      <a:pt x="1347" y="101"/>
                    </a:lnTo>
                    <a:lnTo>
                      <a:pt x="1265" y="89"/>
                    </a:lnTo>
                    <a:lnTo>
                      <a:pt x="1157" y="74"/>
                    </a:lnTo>
                    <a:lnTo>
                      <a:pt x="1062" y="64"/>
                    </a:lnTo>
                    <a:lnTo>
                      <a:pt x="960" y="52"/>
                    </a:lnTo>
                    <a:lnTo>
                      <a:pt x="838" y="40"/>
                    </a:lnTo>
                    <a:lnTo>
                      <a:pt x="716" y="29"/>
                    </a:lnTo>
                    <a:lnTo>
                      <a:pt x="618" y="23"/>
                    </a:lnTo>
                    <a:lnTo>
                      <a:pt x="505" y="15"/>
                    </a:lnTo>
                    <a:lnTo>
                      <a:pt x="386" y="11"/>
                    </a:lnTo>
                    <a:lnTo>
                      <a:pt x="225" y="5"/>
                    </a:lnTo>
                    <a:lnTo>
                      <a:pt x="79" y="3"/>
                    </a:lnTo>
                    <a:lnTo>
                      <a:pt x="0" y="0"/>
                    </a:lnTo>
                    <a:lnTo>
                      <a:pt x="0" y="14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rot="16200000">
                <a:off x="3103560" y="3006000"/>
                <a:ext cx="1427760" cy="1608480"/>
              </a:xfrm>
              <a:custGeom>
                <a:avLst/>
                <a:gdLst/>
                <a:ahLst/>
                <a:rect l="l" t="t" r="r" b="b"/>
                <a:pathLst>
                  <a:path w="3028" h="1215">
                    <a:moveTo>
                      <a:pt x="0" y="1215"/>
                    </a:moveTo>
                    <a:lnTo>
                      <a:pt x="126" y="1215"/>
                    </a:lnTo>
                    <a:lnTo>
                      <a:pt x="235" y="1212"/>
                    </a:lnTo>
                    <a:lnTo>
                      <a:pt x="354" y="1207"/>
                    </a:lnTo>
                    <a:lnTo>
                      <a:pt x="474" y="1203"/>
                    </a:lnTo>
                    <a:lnTo>
                      <a:pt x="605" y="1194"/>
                    </a:lnTo>
                    <a:lnTo>
                      <a:pt x="731" y="1183"/>
                    </a:lnTo>
                    <a:lnTo>
                      <a:pt x="843" y="1174"/>
                    </a:lnTo>
                    <a:lnTo>
                      <a:pt x="969" y="1161"/>
                    </a:lnTo>
                    <a:lnTo>
                      <a:pt x="1082" y="1147"/>
                    </a:lnTo>
                    <a:lnTo>
                      <a:pt x="1186" y="1134"/>
                    </a:lnTo>
                    <a:lnTo>
                      <a:pt x="1308" y="1116"/>
                    </a:lnTo>
                    <a:lnTo>
                      <a:pt x="1452" y="1089"/>
                    </a:lnTo>
                    <a:lnTo>
                      <a:pt x="1579" y="1066"/>
                    </a:lnTo>
                    <a:lnTo>
                      <a:pt x="1719" y="1035"/>
                    </a:lnTo>
                    <a:lnTo>
                      <a:pt x="1863" y="999"/>
                    </a:lnTo>
                    <a:lnTo>
                      <a:pt x="1999" y="963"/>
                    </a:lnTo>
                    <a:lnTo>
                      <a:pt x="2107" y="927"/>
                    </a:lnTo>
                    <a:lnTo>
                      <a:pt x="2243" y="882"/>
                    </a:lnTo>
                    <a:lnTo>
                      <a:pt x="2355" y="837"/>
                    </a:lnTo>
                    <a:lnTo>
                      <a:pt x="2454" y="797"/>
                    </a:lnTo>
                    <a:lnTo>
                      <a:pt x="2536" y="752"/>
                    </a:lnTo>
                    <a:lnTo>
                      <a:pt x="2617" y="711"/>
                    </a:lnTo>
                    <a:lnTo>
                      <a:pt x="2680" y="671"/>
                    </a:lnTo>
                    <a:lnTo>
                      <a:pt x="2734" y="635"/>
                    </a:lnTo>
                    <a:lnTo>
                      <a:pt x="2793" y="589"/>
                    </a:lnTo>
                    <a:lnTo>
                      <a:pt x="2852" y="544"/>
                    </a:lnTo>
                    <a:lnTo>
                      <a:pt x="2897" y="499"/>
                    </a:lnTo>
                    <a:lnTo>
                      <a:pt x="2960" y="414"/>
                    </a:lnTo>
                    <a:lnTo>
                      <a:pt x="3001" y="341"/>
                    </a:lnTo>
                    <a:lnTo>
                      <a:pt x="3010" y="310"/>
                    </a:lnTo>
                    <a:lnTo>
                      <a:pt x="3028" y="248"/>
                    </a:lnTo>
                    <a:lnTo>
                      <a:pt x="3028" y="198"/>
                    </a:lnTo>
                    <a:lnTo>
                      <a:pt x="3028" y="0"/>
                    </a:lnTo>
                    <a:lnTo>
                      <a:pt x="2901" y="95"/>
                    </a:lnTo>
                    <a:lnTo>
                      <a:pt x="2297" y="531"/>
                    </a:lnTo>
                    <a:lnTo>
                      <a:pt x="1421" y="761"/>
                    </a:lnTo>
                    <a:lnTo>
                      <a:pt x="516" y="882"/>
                    </a:lnTo>
                    <a:lnTo>
                      <a:pt x="0" y="909"/>
                    </a:lnTo>
                    <a:lnTo>
                      <a:pt x="0" y="1215"/>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rot="16200000">
                <a:off x="2943000" y="3050640"/>
                <a:ext cx="484560" cy="33336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rot="16200000">
                <a:off x="2619720" y="3062160"/>
                <a:ext cx="484200" cy="313560"/>
              </a:xfrm>
              <a:custGeom>
                <a:avLst/>
                <a:gdLst/>
                <a:ahLst/>
                <a:rect l="l" t="t" r="r" b="b"/>
                <a:pathLst>
                  <a:path w="1027" h="237">
                    <a:moveTo>
                      <a:pt x="0" y="237"/>
                    </a:moveTo>
                    <a:lnTo>
                      <a:pt x="1027" y="237"/>
                    </a:lnTo>
                    <a:lnTo>
                      <a:pt x="513" y="0"/>
                    </a:lnTo>
                    <a:lnTo>
                      <a:pt x="0" y="23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rot="16200000">
                <a:off x="2924280" y="3192120"/>
                <a:ext cx="1426320" cy="1237680"/>
              </a:xfrm>
              <a:custGeom>
                <a:avLst/>
                <a:gdLst/>
                <a:ahLst/>
                <a:rect l="l" t="t" r="r" b="b"/>
                <a:pathLst>
                  <a:path w="3025" h="935">
                    <a:moveTo>
                      <a:pt x="2" y="789"/>
                    </a:moveTo>
                    <a:lnTo>
                      <a:pt x="80" y="787"/>
                    </a:lnTo>
                    <a:lnTo>
                      <a:pt x="179" y="786"/>
                    </a:lnTo>
                    <a:lnTo>
                      <a:pt x="260" y="784"/>
                    </a:lnTo>
                    <a:lnTo>
                      <a:pt x="342" y="781"/>
                    </a:lnTo>
                    <a:lnTo>
                      <a:pt x="432" y="777"/>
                    </a:lnTo>
                    <a:lnTo>
                      <a:pt x="513" y="772"/>
                    </a:lnTo>
                    <a:lnTo>
                      <a:pt x="606" y="766"/>
                    </a:lnTo>
                    <a:lnTo>
                      <a:pt x="682" y="760"/>
                    </a:lnTo>
                    <a:lnTo>
                      <a:pt x="777" y="751"/>
                    </a:lnTo>
                    <a:lnTo>
                      <a:pt x="869" y="741"/>
                    </a:lnTo>
                    <a:lnTo>
                      <a:pt x="968" y="730"/>
                    </a:lnTo>
                    <a:lnTo>
                      <a:pt x="1051" y="718"/>
                    </a:lnTo>
                    <a:lnTo>
                      <a:pt x="1127" y="708"/>
                    </a:lnTo>
                    <a:lnTo>
                      <a:pt x="1215" y="695"/>
                    </a:lnTo>
                    <a:lnTo>
                      <a:pt x="1341" y="673"/>
                    </a:lnTo>
                    <a:lnTo>
                      <a:pt x="1457" y="649"/>
                    </a:lnTo>
                    <a:lnTo>
                      <a:pt x="1595" y="617"/>
                    </a:lnTo>
                    <a:lnTo>
                      <a:pt x="1686" y="593"/>
                    </a:lnTo>
                    <a:lnTo>
                      <a:pt x="1744" y="576"/>
                    </a:lnTo>
                    <a:lnTo>
                      <a:pt x="1857" y="542"/>
                    </a:lnTo>
                    <a:lnTo>
                      <a:pt x="1964" y="504"/>
                    </a:lnTo>
                    <a:lnTo>
                      <a:pt x="2042" y="474"/>
                    </a:lnTo>
                    <a:lnTo>
                      <a:pt x="2102" y="449"/>
                    </a:lnTo>
                    <a:lnTo>
                      <a:pt x="2170" y="417"/>
                    </a:lnTo>
                    <a:lnTo>
                      <a:pt x="2225" y="387"/>
                    </a:lnTo>
                    <a:lnTo>
                      <a:pt x="2272" y="360"/>
                    </a:lnTo>
                    <a:lnTo>
                      <a:pt x="2325" y="325"/>
                    </a:lnTo>
                    <a:lnTo>
                      <a:pt x="2372" y="292"/>
                    </a:lnTo>
                    <a:lnTo>
                      <a:pt x="2411" y="259"/>
                    </a:lnTo>
                    <a:lnTo>
                      <a:pt x="2445" y="229"/>
                    </a:lnTo>
                    <a:lnTo>
                      <a:pt x="2473" y="199"/>
                    </a:lnTo>
                    <a:lnTo>
                      <a:pt x="2494" y="172"/>
                    </a:lnTo>
                    <a:lnTo>
                      <a:pt x="2512" y="142"/>
                    </a:lnTo>
                    <a:lnTo>
                      <a:pt x="2527" y="115"/>
                    </a:lnTo>
                    <a:lnTo>
                      <a:pt x="2536" y="91"/>
                    </a:lnTo>
                    <a:lnTo>
                      <a:pt x="2546" y="59"/>
                    </a:lnTo>
                    <a:lnTo>
                      <a:pt x="2551" y="30"/>
                    </a:lnTo>
                    <a:lnTo>
                      <a:pt x="2552" y="0"/>
                    </a:lnTo>
                    <a:lnTo>
                      <a:pt x="3025" y="0"/>
                    </a:lnTo>
                    <a:lnTo>
                      <a:pt x="3020" y="48"/>
                    </a:lnTo>
                    <a:lnTo>
                      <a:pt x="3011" y="89"/>
                    </a:lnTo>
                    <a:lnTo>
                      <a:pt x="2999" y="124"/>
                    </a:lnTo>
                    <a:lnTo>
                      <a:pt x="2984" y="152"/>
                    </a:lnTo>
                    <a:lnTo>
                      <a:pt x="2968" y="182"/>
                    </a:lnTo>
                    <a:lnTo>
                      <a:pt x="2943" y="215"/>
                    </a:lnTo>
                    <a:lnTo>
                      <a:pt x="2922" y="241"/>
                    </a:lnTo>
                    <a:lnTo>
                      <a:pt x="2888" y="277"/>
                    </a:lnTo>
                    <a:lnTo>
                      <a:pt x="2853" y="309"/>
                    </a:lnTo>
                    <a:lnTo>
                      <a:pt x="2817" y="340"/>
                    </a:lnTo>
                    <a:lnTo>
                      <a:pt x="2775" y="372"/>
                    </a:lnTo>
                    <a:lnTo>
                      <a:pt x="2737" y="398"/>
                    </a:lnTo>
                    <a:lnTo>
                      <a:pt x="2676" y="435"/>
                    </a:lnTo>
                    <a:lnTo>
                      <a:pt x="2615" y="470"/>
                    </a:lnTo>
                    <a:lnTo>
                      <a:pt x="2525" y="513"/>
                    </a:lnTo>
                    <a:lnTo>
                      <a:pt x="2436" y="552"/>
                    </a:lnTo>
                    <a:lnTo>
                      <a:pt x="2346" y="588"/>
                    </a:lnTo>
                    <a:lnTo>
                      <a:pt x="2266" y="618"/>
                    </a:lnTo>
                    <a:lnTo>
                      <a:pt x="2152" y="656"/>
                    </a:lnTo>
                    <a:lnTo>
                      <a:pt x="2020" y="695"/>
                    </a:lnTo>
                    <a:lnTo>
                      <a:pt x="1889" y="727"/>
                    </a:lnTo>
                    <a:lnTo>
                      <a:pt x="1770" y="754"/>
                    </a:lnTo>
                    <a:lnTo>
                      <a:pt x="1689" y="772"/>
                    </a:lnTo>
                    <a:lnTo>
                      <a:pt x="1588" y="793"/>
                    </a:lnTo>
                    <a:lnTo>
                      <a:pt x="1514" y="807"/>
                    </a:lnTo>
                    <a:lnTo>
                      <a:pt x="1431" y="820"/>
                    </a:lnTo>
                    <a:lnTo>
                      <a:pt x="1347" y="834"/>
                    </a:lnTo>
                    <a:lnTo>
                      <a:pt x="1266" y="846"/>
                    </a:lnTo>
                    <a:lnTo>
                      <a:pt x="1158" y="861"/>
                    </a:lnTo>
                    <a:lnTo>
                      <a:pt x="1063" y="871"/>
                    </a:lnTo>
                    <a:lnTo>
                      <a:pt x="960" y="883"/>
                    </a:lnTo>
                    <a:lnTo>
                      <a:pt x="839" y="895"/>
                    </a:lnTo>
                    <a:lnTo>
                      <a:pt x="716" y="906"/>
                    </a:lnTo>
                    <a:lnTo>
                      <a:pt x="618" y="912"/>
                    </a:lnTo>
                    <a:lnTo>
                      <a:pt x="506" y="920"/>
                    </a:lnTo>
                    <a:lnTo>
                      <a:pt x="387" y="924"/>
                    </a:lnTo>
                    <a:lnTo>
                      <a:pt x="226" y="930"/>
                    </a:lnTo>
                    <a:lnTo>
                      <a:pt x="80" y="932"/>
                    </a:lnTo>
                    <a:lnTo>
                      <a:pt x="0" y="935"/>
                    </a:lnTo>
                    <a:lnTo>
                      <a:pt x="2" y="78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9" name=""/>
              <p:cNvGrpSpPr/>
              <p:nvPr/>
            </p:nvGrpSpPr>
            <p:grpSpPr>
              <a:xfrm>
                <a:off x="3713760" y="2514240"/>
                <a:ext cx="1429560" cy="2008440"/>
                <a:chOff x="3713760" y="2514240"/>
                <a:chExt cx="1429560" cy="2008440"/>
              </a:xfrm>
            </p:grpSpPr>
            <p:sp>
              <p:nvSpPr>
                <p:cNvPr id="320" name=""/>
                <p:cNvSpPr/>
                <p:nvPr/>
              </p:nvSpPr>
              <p:spPr>
                <a:xfrm rot="16200000">
                  <a:off x="4394880" y="2037240"/>
                  <a:ext cx="67320" cy="1429560"/>
                </a:xfrm>
                <a:custGeom>
                  <a:avLst/>
                  <a:gdLst/>
                  <a:ahLst/>
                  <a:rect l="l" t="t" r="r" b="b"/>
                  <a:pathLst>
                    <a:path w="143" h="1080">
                      <a:moveTo>
                        <a:pt x="143" y="0"/>
                      </a:moveTo>
                      <a:lnTo>
                        <a:pt x="143" y="1080"/>
                      </a:lnTo>
                      <a:lnTo>
                        <a:pt x="0" y="792"/>
                      </a:lnTo>
                      <a:lnTo>
                        <a:pt x="0" y="287"/>
                      </a:lnTo>
                      <a:lnTo>
                        <a:pt x="143"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rot="16200000">
                  <a:off x="3424320" y="2803680"/>
                  <a:ext cx="2008440" cy="1429560"/>
                </a:xfrm>
                <a:custGeom>
                  <a:avLst/>
                  <a:gdLst/>
                  <a:ahLst/>
                  <a:rect l="l" t="t" r="r" b="b"/>
                  <a:pathLst>
                    <a:path w="4260" h="1080">
                      <a:moveTo>
                        <a:pt x="3827" y="359"/>
                      </a:moveTo>
                      <a:lnTo>
                        <a:pt x="3827" y="0"/>
                      </a:lnTo>
                      <a:lnTo>
                        <a:pt x="4260" y="576"/>
                      </a:lnTo>
                      <a:lnTo>
                        <a:pt x="3827" y="1080"/>
                      </a:lnTo>
                      <a:lnTo>
                        <a:pt x="3827" y="720"/>
                      </a:lnTo>
                      <a:lnTo>
                        <a:pt x="0" y="720"/>
                      </a:lnTo>
                      <a:lnTo>
                        <a:pt x="0" y="359"/>
                      </a:lnTo>
                      <a:lnTo>
                        <a:pt x="3827" y="35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22" name=""/>
            <p:cNvSpPr/>
            <p:nvPr/>
          </p:nvSpPr>
          <p:spPr>
            <a:xfrm>
              <a:off x="6211080" y="2438640"/>
              <a:ext cx="13284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00"/>
                  </a:solidFill>
                  <a:latin typeface="Arial"/>
                </a:rPr>
                <a:t>Access</a:t>
              </a:r>
              <a:endParaRPr b="0" lang="en-US" sz="2800" spc="-1" strike="noStrike">
                <a:solidFill>
                  <a:srgbClr val="000000"/>
                </a:solidFill>
                <a:latin typeface="Times New Roman"/>
              </a:endParaRPr>
            </a:p>
          </p:txBody>
        </p:sp>
        <p:sp>
          <p:nvSpPr>
            <p:cNvPr id="323" name=""/>
            <p:cNvSpPr/>
            <p:nvPr/>
          </p:nvSpPr>
          <p:spPr>
            <a:xfrm>
              <a:off x="5147280" y="1905120"/>
              <a:ext cx="241488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00"/>
                  </a:solidFill>
                  <a:latin typeface="Arial"/>
                </a:rPr>
                <a:t>Power-Builder</a:t>
              </a:r>
              <a:endParaRPr b="0" lang="en-US" sz="2800" spc="-1" strike="noStrike">
                <a:solidFill>
                  <a:srgbClr val="000000"/>
                </a:solidFill>
                <a:latin typeface="Times New Roman"/>
              </a:endParaRPr>
            </a:p>
          </p:txBody>
        </p:sp>
        <p:sp>
          <p:nvSpPr>
            <p:cNvPr id="324" name=""/>
            <p:cNvSpPr/>
            <p:nvPr/>
          </p:nvSpPr>
          <p:spPr>
            <a:xfrm>
              <a:off x="3316320" y="1371600"/>
              <a:ext cx="234936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00"/>
                  </a:solidFill>
                  <a:latin typeface="Arial"/>
                </a:rPr>
                <a:t>SAP, BAAN...</a:t>
              </a:r>
              <a:endParaRPr b="0" lang="en-US" sz="2800" spc="-1" strike="noStrike">
                <a:solidFill>
                  <a:srgbClr val="000000"/>
                </a:solidFill>
                <a:latin typeface="Times New Roman"/>
              </a:endParaRPr>
            </a:p>
          </p:txBody>
        </p:sp>
        <p:sp>
          <p:nvSpPr>
            <p:cNvPr id="325" name=""/>
            <p:cNvSpPr/>
            <p:nvPr/>
          </p:nvSpPr>
          <p:spPr>
            <a:xfrm>
              <a:off x="877680" y="2971800"/>
              <a:ext cx="105084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00"/>
                  </a:solidFill>
                  <a:latin typeface="Arial"/>
                </a:rPr>
                <a:t>Excel</a:t>
              </a:r>
              <a:endParaRPr b="0" lang="en-US" sz="2800" spc="-1" strike="noStrike">
                <a:solidFill>
                  <a:srgbClr val="000000"/>
                </a:solidFill>
                <a:latin typeface="Times New Roman"/>
              </a:endParaRPr>
            </a:p>
          </p:txBody>
        </p:sp>
        <p:sp>
          <p:nvSpPr>
            <p:cNvPr id="326" name=""/>
            <p:cNvSpPr/>
            <p:nvPr/>
          </p:nvSpPr>
          <p:spPr>
            <a:xfrm>
              <a:off x="1183320" y="2362320"/>
              <a:ext cx="245592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00"/>
                  </a:solidFill>
                  <a:latin typeface="Arial"/>
                </a:rPr>
                <a:t>Crystal Report</a:t>
              </a:r>
              <a:endParaRPr b="0" lang="en-US" sz="2800" spc="-1" strike="noStrike">
                <a:solidFill>
                  <a:srgbClr val="000000"/>
                </a:solidFill>
                <a:latin typeface="Times New Roman"/>
              </a:endParaRPr>
            </a:p>
          </p:txBody>
        </p:sp>
        <p:sp>
          <p:nvSpPr>
            <p:cNvPr id="327" name=""/>
            <p:cNvSpPr/>
            <p:nvPr/>
          </p:nvSpPr>
          <p:spPr>
            <a:xfrm>
              <a:off x="2326320" y="1828800"/>
              <a:ext cx="114984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00"/>
                  </a:solidFill>
                  <a:latin typeface="Arial"/>
                </a:rPr>
                <a:t>Query</a:t>
              </a:r>
              <a:endParaRPr b="0" lang="en-US" sz="2800" spc="-1" strike="noStrike">
                <a:solidFill>
                  <a:srgbClr val="000000"/>
                </a:solidFill>
                <a:latin typeface="Times New Roman"/>
              </a:endParaRPr>
            </a:p>
          </p:txBody>
        </p:sp>
        <p:sp>
          <p:nvSpPr>
            <p:cNvPr id="328" name=""/>
            <p:cNvSpPr/>
            <p:nvPr/>
          </p:nvSpPr>
          <p:spPr>
            <a:xfrm>
              <a:off x="6594840" y="3048120"/>
              <a:ext cx="118512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00"/>
                  </a:solidFill>
                  <a:latin typeface="Arial"/>
                </a:rPr>
                <a:t>SNCC</a:t>
              </a:r>
              <a:endParaRPr b="0" lang="en-US" sz="2800" spc="-1" strike="noStrike">
                <a:solidFill>
                  <a:srgbClr val="000000"/>
                </a:solidFill>
                <a:latin typeface="Times New Roman"/>
              </a:endParaRPr>
            </a:p>
          </p:txBody>
        </p:sp>
      </p:grpSp>
      <p:sp>
        <p:nvSpPr>
          <p:cNvPr id="3" name="PlaceHolder 2"/>
          <p:cNvSpPr>
            <a:spLocks noGrp="1"/>
          </p:cNvSpPr>
          <p:nvPr>
            <p:ph type="sldNum" idx="3"/>
          </p:nvPr>
        </p:nvSpPr>
        <p:spPr/>
        <p:txBody>
          <a:bodyPr/>
          <a:p>
            <a:fld id="{CE1E2733-9DA1-46C2-986F-54BF117C84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ff9"/>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762120" y="304560"/>
            <a:ext cx="624816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c00"/>
                </a:solidFill>
                <a:latin typeface="Arial"/>
              </a:rPr>
              <a:t>Et les impondérables ?</a:t>
            </a:r>
            <a:endParaRPr b="1" lang="en-US" sz="2800" spc="-1" strike="noStrike">
              <a:solidFill>
                <a:srgbClr val="ffcc00"/>
              </a:solidFill>
              <a:latin typeface="Arial"/>
            </a:endParaRPr>
          </a:p>
        </p:txBody>
      </p:sp>
      <p:sp>
        <p:nvSpPr>
          <p:cNvPr id="330" name=""/>
          <p:cNvSpPr/>
          <p:nvPr/>
        </p:nvSpPr>
        <p:spPr>
          <a:xfrm>
            <a:off x="4495680" y="3200400"/>
            <a:ext cx="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6477120" y="3200400"/>
            <a:ext cx="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343400" y="3429000"/>
            <a:ext cx="304920" cy="380880"/>
          </a:xfrm>
          <a:prstGeom prst="flowChartCollate">
            <a:avLst/>
          </a:prstGeom>
          <a:gradFill rotWithShape="0">
            <a:gsLst>
              <a:gs pos="0">
                <a:srgbClr val="5e5e75"/>
              </a:gs>
              <a:gs pos="50000">
                <a:srgbClr val="ccccff"/>
              </a:gs>
              <a:gs pos="100000">
                <a:srgbClr val="5e5e75"/>
              </a:gs>
            </a:gsLst>
            <a:lin ang="108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962520" y="1905120"/>
            <a:ext cx="1066680" cy="1295280"/>
          </a:xfrm>
          <a:custGeom>
            <a:avLst/>
            <a:gdLst>
              <a:gd name="textAreaLeft" fmla="*/ 51840 w 1066680"/>
              <a:gd name="textAreaRight" fmla="*/ 1014840 w 1066680"/>
              <a:gd name="textAreaTop" fmla="*/ 51840 h 1295280"/>
              <a:gd name="textAreaBottom" fmla="*/ 1243440 h 1295280"/>
            </a:gdLst>
            <a:ahLst/>
            <a:rect l="textAreaLeft" t="textAreaTop" r="textAreaRight" b="textAreaBottom"/>
            <a:pathLst>
              <a:path w="21600" h="26228">
                <a:moveTo>
                  <a:pt x="3600" y="0"/>
                </a:moveTo>
                <a:arcTo wR="3600" hR="3600" stAng="16200000" swAng="-5400000"/>
                <a:lnTo>
                  <a:pt x="0" y="22628"/>
                </a:lnTo>
                <a:arcTo wR="3600" hR="3600" stAng="10800000" swAng="-5400000"/>
                <a:lnTo>
                  <a:pt x="18000" y="26228"/>
                </a:lnTo>
                <a:arcTo wR="3600" hR="3600" stAng="5400000" swAng="-5400000"/>
                <a:lnTo>
                  <a:pt x="21600" y="3600"/>
                </a:lnTo>
                <a:arcTo wR="3600" hR="3600" stAng="0" swAng="-5400000"/>
                <a:close/>
              </a:path>
            </a:pathLst>
          </a:custGeom>
          <a:gradFill rotWithShape="0">
            <a:gsLst>
              <a:gs pos="0">
                <a:srgbClr val="757575"/>
              </a:gs>
              <a:gs pos="50000">
                <a:srgbClr val="ffffff"/>
              </a:gs>
              <a:gs pos="100000">
                <a:srgbClr val="757575"/>
              </a:gs>
            </a:gsLst>
            <a:lin ang="10800000"/>
          </a:gra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5943600" y="1905120"/>
            <a:ext cx="1066680" cy="1295280"/>
          </a:xfrm>
          <a:custGeom>
            <a:avLst/>
            <a:gdLst>
              <a:gd name="textAreaLeft" fmla="*/ 51840 w 1066680"/>
              <a:gd name="textAreaRight" fmla="*/ 1014840 w 1066680"/>
              <a:gd name="textAreaTop" fmla="*/ 51840 h 1295280"/>
              <a:gd name="textAreaBottom" fmla="*/ 1243440 h 1295280"/>
            </a:gdLst>
            <a:ahLst/>
            <a:rect l="textAreaLeft" t="textAreaTop" r="textAreaRight" b="textAreaBottom"/>
            <a:pathLst>
              <a:path w="21600" h="26228">
                <a:moveTo>
                  <a:pt x="3600" y="0"/>
                </a:moveTo>
                <a:arcTo wR="3600" hR="3600" stAng="16200000" swAng="-5400000"/>
                <a:lnTo>
                  <a:pt x="0" y="22628"/>
                </a:lnTo>
                <a:arcTo wR="3600" hR="3600" stAng="10800000" swAng="-5400000"/>
                <a:lnTo>
                  <a:pt x="18000" y="26228"/>
                </a:lnTo>
                <a:arcTo wR="3600" hR="3600" stAng="5400000" swAng="-5400000"/>
                <a:lnTo>
                  <a:pt x="21600" y="3600"/>
                </a:lnTo>
                <a:arcTo wR="3600" hR="3600" stAng="0" swAng="-5400000"/>
                <a:close/>
              </a:path>
            </a:pathLst>
          </a:custGeom>
          <a:gradFill rotWithShape="0">
            <a:gsLst>
              <a:gs pos="0">
                <a:srgbClr val="005e46"/>
              </a:gs>
              <a:gs pos="50000">
                <a:srgbClr val="00cc99"/>
              </a:gs>
              <a:gs pos="100000">
                <a:srgbClr val="005e46"/>
              </a:gs>
            </a:gsLst>
            <a:lin ang="10800000"/>
          </a:gra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ot A</a:t>
            </a:r>
            <a:endParaRPr b="0" lang="en-US" sz="2400" spc="-1" strike="noStrike">
              <a:solidFill>
                <a:srgbClr val="000000"/>
              </a:solidFill>
              <a:latin typeface="Times New Roman"/>
            </a:endParaRPr>
          </a:p>
        </p:txBody>
      </p:sp>
      <p:sp>
        <p:nvSpPr>
          <p:cNvPr id="335" name=""/>
          <p:cNvSpPr/>
          <p:nvPr/>
        </p:nvSpPr>
        <p:spPr>
          <a:xfrm>
            <a:off x="6324480" y="3429000"/>
            <a:ext cx="304920" cy="380880"/>
          </a:xfrm>
          <a:prstGeom prst="flowChartCollate">
            <a:avLst/>
          </a:prstGeom>
          <a:gradFill rotWithShape="0">
            <a:gsLst>
              <a:gs pos="0">
                <a:srgbClr val="17175e"/>
              </a:gs>
              <a:gs pos="50000">
                <a:srgbClr val="3333cc"/>
              </a:gs>
              <a:gs pos="100000">
                <a:srgbClr val="17175e"/>
              </a:gs>
            </a:gsLst>
            <a:lin ang="108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181480" y="3962520"/>
            <a:ext cx="0" cy="5331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5791320" y="3962520"/>
            <a:ext cx="0" cy="5331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495320" y="3962520"/>
            <a:ext cx="685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5790960" y="3962520"/>
            <a:ext cx="685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952880" y="4191120"/>
            <a:ext cx="1067040" cy="1295280"/>
          </a:xfrm>
          <a:custGeom>
            <a:avLst/>
            <a:gdLst>
              <a:gd name="textAreaLeft" fmla="*/ 51840 w 1067040"/>
              <a:gd name="textAreaRight" fmla="*/ 1015200 w 1067040"/>
              <a:gd name="textAreaTop" fmla="*/ 51840 h 1295280"/>
              <a:gd name="textAreaBottom" fmla="*/ 1243440 h 1295280"/>
            </a:gdLst>
            <a:ahLst/>
            <a:rect l="textAreaLeft" t="textAreaTop" r="textAreaRight" b="textAreaBottom"/>
            <a:pathLst>
              <a:path w="21600" h="26219">
                <a:moveTo>
                  <a:pt x="3600" y="0"/>
                </a:moveTo>
                <a:arcTo wR="3600" hR="3600" stAng="16200000" swAng="-5400000"/>
                <a:lnTo>
                  <a:pt x="0" y="22619"/>
                </a:lnTo>
                <a:arcTo wR="3600" hR="3600" stAng="10800000" swAng="-5400000"/>
                <a:lnTo>
                  <a:pt x="18000" y="26219"/>
                </a:lnTo>
                <a:arcTo wR="3600" hR="3600" stAng="5400000" swAng="-5400000"/>
                <a:lnTo>
                  <a:pt x="21600" y="3600"/>
                </a:lnTo>
                <a:arcTo wR="3600" hR="3600" stAng="0" swAng="-5400000"/>
                <a:close/>
              </a:path>
            </a:pathLst>
          </a:custGeom>
          <a:gradFill rotWithShape="0">
            <a:gsLst>
              <a:gs pos="0">
                <a:srgbClr val="005e46"/>
              </a:gs>
              <a:gs pos="50000">
                <a:srgbClr val="00cc99"/>
              </a:gs>
              <a:gs pos="100000">
                <a:srgbClr val="005e46"/>
              </a:gs>
            </a:gsLst>
            <a:lin ang="10800000"/>
          </a:gra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ot A</a:t>
            </a:r>
            <a:endParaRPr b="0" lang="en-US" sz="2400" spc="-1" strike="noStrike">
              <a:solidFill>
                <a:srgbClr val="000000"/>
              </a:solidFill>
              <a:latin typeface="Times New Roman"/>
            </a:endParaRPr>
          </a:p>
        </p:txBody>
      </p:sp>
      <p:sp>
        <p:nvSpPr>
          <p:cNvPr id="341" name=""/>
          <p:cNvSpPr/>
          <p:nvPr/>
        </p:nvSpPr>
        <p:spPr>
          <a:xfrm>
            <a:off x="3962520" y="1905120"/>
            <a:ext cx="1066680" cy="1295280"/>
          </a:xfrm>
          <a:custGeom>
            <a:avLst/>
            <a:gdLst>
              <a:gd name="textAreaLeft" fmla="*/ 51840 w 1066680"/>
              <a:gd name="textAreaRight" fmla="*/ 1014840 w 1066680"/>
              <a:gd name="textAreaTop" fmla="*/ 51840 h 1295280"/>
              <a:gd name="textAreaBottom" fmla="*/ 1243440 h 1295280"/>
            </a:gdLst>
            <a:ahLst/>
            <a:rect l="textAreaLeft" t="textAreaTop" r="textAreaRight" b="textAreaBottom"/>
            <a:pathLst>
              <a:path w="21600" h="26228">
                <a:moveTo>
                  <a:pt x="3600" y="0"/>
                </a:moveTo>
                <a:arcTo wR="3600" hR="3600" stAng="16200000" swAng="-5400000"/>
                <a:lnTo>
                  <a:pt x="0" y="22628"/>
                </a:lnTo>
                <a:arcTo wR="3600" hR="3600" stAng="10800000" swAng="-5400000"/>
                <a:lnTo>
                  <a:pt x="18000" y="26228"/>
                </a:lnTo>
                <a:arcTo wR="3600" hR="3600" stAng="5400000" swAng="-5400000"/>
                <a:lnTo>
                  <a:pt x="21600" y="3600"/>
                </a:lnTo>
                <a:arcTo wR="3600" hR="3600" stAng="0" swAng="-5400000"/>
                <a:close/>
              </a:path>
            </a:pathLst>
          </a:custGeom>
          <a:gradFill rotWithShape="0">
            <a:gsLst>
              <a:gs pos="0">
                <a:srgbClr val="757500"/>
              </a:gs>
              <a:gs pos="50000">
                <a:srgbClr val="ffff00"/>
              </a:gs>
              <a:gs pos="100000">
                <a:srgbClr val="757500"/>
              </a:gs>
            </a:gsLst>
            <a:lin ang="10800000"/>
          </a:gra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épa</a:t>
            </a:r>
            <a:endParaRPr b="0" lang="en-US" sz="2400" spc="-1" strike="noStrike">
              <a:solidFill>
                <a:srgbClr val="000000"/>
              </a:solidFill>
              <a:latin typeface="Times New Roman"/>
            </a:endParaRPr>
          </a:p>
        </p:txBody>
      </p:sp>
      <p:grpSp>
        <p:nvGrpSpPr>
          <p:cNvPr id="342" name=""/>
          <p:cNvGrpSpPr/>
          <p:nvPr/>
        </p:nvGrpSpPr>
        <p:grpSpPr>
          <a:xfrm>
            <a:off x="1525320" y="3608280"/>
            <a:ext cx="2490840" cy="1606320"/>
            <a:chOff x="1525320" y="3608280"/>
            <a:chExt cx="2490840" cy="1606320"/>
          </a:xfrm>
        </p:grpSpPr>
        <p:grpSp>
          <p:nvGrpSpPr>
            <p:cNvPr id="343" name=""/>
            <p:cNvGrpSpPr/>
            <p:nvPr/>
          </p:nvGrpSpPr>
          <p:grpSpPr>
            <a:xfrm>
              <a:off x="2511720" y="3608280"/>
              <a:ext cx="1504440" cy="1012680"/>
              <a:chOff x="2511720" y="3608280"/>
              <a:chExt cx="1504440" cy="1012680"/>
            </a:xfrm>
          </p:grpSpPr>
          <p:sp>
            <p:nvSpPr>
              <p:cNvPr id="344" name=""/>
              <p:cNvSpPr/>
              <p:nvPr/>
            </p:nvSpPr>
            <p:spPr>
              <a:xfrm rot="4363800">
                <a:off x="2684880" y="3659040"/>
                <a:ext cx="760680" cy="923400"/>
              </a:xfrm>
              <a:custGeom>
                <a:avLst/>
                <a:gdLst/>
                <a:ahLst/>
                <a:rect l="l" t="t" r="r" b="b"/>
                <a:pathLst>
                  <a:path w="1069" h="1275">
                    <a:moveTo>
                      <a:pt x="832" y="1275"/>
                    </a:moveTo>
                    <a:lnTo>
                      <a:pt x="853" y="1103"/>
                    </a:lnTo>
                    <a:lnTo>
                      <a:pt x="912" y="1011"/>
                    </a:lnTo>
                    <a:lnTo>
                      <a:pt x="972" y="930"/>
                    </a:lnTo>
                    <a:lnTo>
                      <a:pt x="1028" y="828"/>
                    </a:lnTo>
                    <a:lnTo>
                      <a:pt x="1057" y="742"/>
                    </a:lnTo>
                    <a:lnTo>
                      <a:pt x="1069" y="638"/>
                    </a:lnTo>
                    <a:lnTo>
                      <a:pt x="1045" y="525"/>
                    </a:lnTo>
                    <a:lnTo>
                      <a:pt x="1008" y="434"/>
                    </a:lnTo>
                    <a:lnTo>
                      <a:pt x="1014" y="352"/>
                    </a:lnTo>
                    <a:lnTo>
                      <a:pt x="999" y="278"/>
                    </a:lnTo>
                    <a:lnTo>
                      <a:pt x="978" y="236"/>
                    </a:lnTo>
                    <a:lnTo>
                      <a:pt x="949" y="201"/>
                    </a:lnTo>
                    <a:lnTo>
                      <a:pt x="938" y="177"/>
                    </a:lnTo>
                    <a:lnTo>
                      <a:pt x="897" y="153"/>
                    </a:lnTo>
                    <a:lnTo>
                      <a:pt x="863" y="148"/>
                    </a:lnTo>
                    <a:lnTo>
                      <a:pt x="837" y="161"/>
                    </a:lnTo>
                    <a:lnTo>
                      <a:pt x="806" y="242"/>
                    </a:lnTo>
                    <a:lnTo>
                      <a:pt x="749" y="360"/>
                    </a:lnTo>
                    <a:lnTo>
                      <a:pt x="833" y="157"/>
                    </a:lnTo>
                    <a:lnTo>
                      <a:pt x="848" y="132"/>
                    </a:lnTo>
                    <a:lnTo>
                      <a:pt x="829" y="87"/>
                    </a:lnTo>
                    <a:lnTo>
                      <a:pt x="798" y="71"/>
                    </a:lnTo>
                    <a:lnTo>
                      <a:pt x="757" y="54"/>
                    </a:lnTo>
                    <a:lnTo>
                      <a:pt x="701" y="34"/>
                    </a:lnTo>
                    <a:lnTo>
                      <a:pt x="687" y="22"/>
                    </a:lnTo>
                    <a:lnTo>
                      <a:pt x="661" y="0"/>
                    </a:lnTo>
                    <a:lnTo>
                      <a:pt x="506" y="34"/>
                    </a:lnTo>
                    <a:lnTo>
                      <a:pt x="301" y="147"/>
                    </a:lnTo>
                    <a:lnTo>
                      <a:pt x="286" y="177"/>
                    </a:lnTo>
                    <a:lnTo>
                      <a:pt x="239" y="225"/>
                    </a:lnTo>
                    <a:lnTo>
                      <a:pt x="183" y="263"/>
                    </a:lnTo>
                    <a:lnTo>
                      <a:pt x="134" y="283"/>
                    </a:lnTo>
                    <a:lnTo>
                      <a:pt x="89" y="328"/>
                    </a:lnTo>
                    <a:lnTo>
                      <a:pt x="59" y="405"/>
                    </a:lnTo>
                    <a:lnTo>
                      <a:pt x="18" y="507"/>
                    </a:lnTo>
                    <a:lnTo>
                      <a:pt x="0" y="564"/>
                    </a:lnTo>
                    <a:lnTo>
                      <a:pt x="18" y="654"/>
                    </a:lnTo>
                    <a:lnTo>
                      <a:pt x="48" y="748"/>
                    </a:lnTo>
                    <a:lnTo>
                      <a:pt x="96" y="867"/>
                    </a:lnTo>
                    <a:lnTo>
                      <a:pt x="123" y="965"/>
                    </a:lnTo>
                    <a:lnTo>
                      <a:pt x="190" y="1055"/>
                    </a:lnTo>
                    <a:lnTo>
                      <a:pt x="224" y="1071"/>
                    </a:lnTo>
                    <a:lnTo>
                      <a:pt x="243" y="1121"/>
                    </a:lnTo>
                    <a:lnTo>
                      <a:pt x="246" y="1273"/>
                    </a:lnTo>
                    <a:lnTo>
                      <a:pt x="832" y="1275"/>
                    </a:lnTo>
                    <a:close/>
                  </a:path>
                </a:pathLst>
              </a:custGeom>
              <a:solidFill>
                <a:srgbClr val="ff9f9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rot="4363800">
                <a:off x="3044520" y="4210920"/>
                <a:ext cx="333000" cy="173160"/>
              </a:xfrm>
              <a:custGeom>
                <a:avLst/>
                <a:gdLst/>
                <a:ahLst/>
                <a:rect l="l" t="t" r="r" b="b"/>
                <a:pathLst>
                  <a:path w="468" h="239">
                    <a:moveTo>
                      <a:pt x="0" y="0"/>
                    </a:moveTo>
                    <a:lnTo>
                      <a:pt x="204" y="142"/>
                    </a:lnTo>
                    <a:lnTo>
                      <a:pt x="387" y="214"/>
                    </a:lnTo>
                    <a:lnTo>
                      <a:pt x="468" y="239"/>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rot="4363800">
                <a:off x="2905560" y="3937680"/>
                <a:ext cx="371520" cy="404280"/>
              </a:xfrm>
              <a:custGeom>
                <a:avLst/>
                <a:gdLst/>
                <a:ahLst/>
                <a:rect l="l" t="t" r="r" b="b"/>
                <a:pathLst>
                  <a:path w="522" h="558">
                    <a:moveTo>
                      <a:pt x="0" y="0"/>
                    </a:moveTo>
                    <a:lnTo>
                      <a:pt x="293" y="156"/>
                    </a:lnTo>
                    <a:lnTo>
                      <a:pt x="359" y="213"/>
                    </a:lnTo>
                    <a:lnTo>
                      <a:pt x="443" y="313"/>
                    </a:lnTo>
                    <a:lnTo>
                      <a:pt x="479" y="394"/>
                    </a:lnTo>
                    <a:lnTo>
                      <a:pt x="498" y="464"/>
                    </a:lnTo>
                    <a:lnTo>
                      <a:pt x="522" y="558"/>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rot="4363800">
                <a:off x="3213000" y="3958200"/>
                <a:ext cx="244080" cy="391680"/>
              </a:xfrm>
              <a:custGeom>
                <a:avLst/>
                <a:gdLst/>
                <a:ahLst/>
                <a:rect l="l" t="t" r="r" b="b"/>
                <a:pathLst>
                  <a:path w="343" h="541">
                    <a:moveTo>
                      <a:pt x="340" y="121"/>
                    </a:moveTo>
                    <a:lnTo>
                      <a:pt x="343" y="85"/>
                    </a:lnTo>
                    <a:lnTo>
                      <a:pt x="320" y="37"/>
                    </a:lnTo>
                    <a:lnTo>
                      <a:pt x="285" y="13"/>
                    </a:lnTo>
                    <a:lnTo>
                      <a:pt x="252" y="0"/>
                    </a:lnTo>
                    <a:lnTo>
                      <a:pt x="216" y="1"/>
                    </a:lnTo>
                    <a:lnTo>
                      <a:pt x="183" y="9"/>
                    </a:lnTo>
                    <a:lnTo>
                      <a:pt x="157" y="25"/>
                    </a:lnTo>
                    <a:lnTo>
                      <a:pt x="107" y="145"/>
                    </a:lnTo>
                    <a:lnTo>
                      <a:pt x="72" y="259"/>
                    </a:lnTo>
                    <a:lnTo>
                      <a:pt x="39" y="349"/>
                    </a:lnTo>
                    <a:lnTo>
                      <a:pt x="0" y="445"/>
                    </a:lnTo>
                    <a:lnTo>
                      <a:pt x="14" y="505"/>
                    </a:lnTo>
                    <a:lnTo>
                      <a:pt x="33" y="525"/>
                    </a:lnTo>
                    <a:lnTo>
                      <a:pt x="63" y="541"/>
                    </a:lnTo>
                    <a:lnTo>
                      <a:pt x="96" y="537"/>
                    </a:lnTo>
                    <a:lnTo>
                      <a:pt x="129" y="523"/>
                    </a:lnTo>
                    <a:lnTo>
                      <a:pt x="162" y="469"/>
                    </a:lnTo>
                    <a:lnTo>
                      <a:pt x="175" y="394"/>
                    </a:lnTo>
                    <a:lnTo>
                      <a:pt x="204" y="346"/>
                    </a:lnTo>
                    <a:lnTo>
                      <a:pt x="230" y="289"/>
                    </a:lnTo>
                    <a:lnTo>
                      <a:pt x="274" y="232"/>
                    </a:lnTo>
                    <a:lnTo>
                      <a:pt x="316" y="159"/>
                    </a:lnTo>
                    <a:lnTo>
                      <a:pt x="340" y="121"/>
                    </a:lnTo>
                    <a:close/>
                  </a:path>
                </a:pathLst>
              </a:custGeom>
              <a:solidFill>
                <a:srgbClr val="ff9f9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rot="4363800">
                <a:off x="3153960" y="4087440"/>
                <a:ext cx="70200" cy="93240"/>
              </a:xfrm>
              <a:custGeom>
                <a:avLst/>
                <a:gdLst/>
                <a:ahLst/>
                <a:rect l="l" t="t" r="r" b="b"/>
                <a:pathLst>
                  <a:path w="99" h="129">
                    <a:moveTo>
                      <a:pt x="14" y="16"/>
                    </a:moveTo>
                    <a:lnTo>
                      <a:pt x="33" y="0"/>
                    </a:lnTo>
                    <a:lnTo>
                      <a:pt x="67" y="4"/>
                    </a:lnTo>
                    <a:lnTo>
                      <a:pt x="99" y="19"/>
                    </a:lnTo>
                    <a:lnTo>
                      <a:pt x="99" y="67"/>
                    </a:lnTo>
                    <a:lnTo>
                      <a:pt x="94" y="93"/>
                    </a:lnTo>
                    <a:lnTo>
                      <a:pt x="80" y="121"/>
                    </a:lnTo>
                    <a:lnTo>
                      <a:pt x="47" y="129"/>
                    </a:lnTo>
                    <a:lnTo>
                      <a:pt x="30" y="127"/>
                    </a:lnTo>
                    <a:lnTo>
                      <a:pt x="11" y="108"/>
                    </a:lnTo>
                    <a:lnTo>
                      <a:pt x="0" y="85"/>
                    </a:lnTo>
                    <a:lnTo>
                      <a:pt x="14" y="16"/>
                    </a:lnTo>
                    <a:close/>
                  </a:path>
                </a:pathLst>
              </a:custGeom>
              <a:solidFill>
                <a:srgbClr val="ffbfbf"/>
              </a:solidFill>
              <a:ln w="1260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9" name=""/>
              <p:cNvSpPr/>
              <p:nvPr/>
            </p:nvSpPr>
            <p:spPr>
              <a:xfrm rot="4363800">
                <a:off x="3572280" y="3452760"/>
                <a:ext cx="179280" cy="685800"/>
              </a:xfrm>
              <a:custGeom>
                <a:avLst/>
                <a:gdLst/>
                <a:ahLst/>
                <a:rect l="l" t="t" r="r" b="b"/>
                <a:pathLst>
                  <a:path w="252" h="947">
                    <a:moveTo>
                      <a:pt x="247" y="873"/>
                    </a:moveTo>
                    <a:lnTo>
                      <a:pt x="251" y="823"/>
                    </a:lnTo>
                    <a:lnTo>
                      <a:pt x="252" y="711"/>
                    </a:lnTo>
                    <a:lnTo>
                      <a:pt x="244" y="601"/>
                    </a:lnTo>
                    <a:lnTo>
                      <a:pt x="239" y="552"/>
                    </a:lnTo>
                    <a:lnTo>
                      <a:pt x="236" y="516"/>
                    </a:lnTo>
                    <a:lnTo>
                      <a:pt x="236" y="439"/>
                    </a:lnTo>
                    <a:lnTo>
                      <a:pt x="240" y="353"/>
                    </a:lnTo>
                    <a:lnTo>
                      <a:pt x="239" y="289"/>
                    </a:lnTo>
                    <a:lnTo>
                      <a:pt x="237" y="240"/>
                    </a:lnTo>
                    <a:lnTo>
                      <a:pt x="228" y="145"/>
                    </a:lnTo>
                    <a:lnTo>
                      <a:pt x="220" y="77"/>
                    </a:lnTo>
                    <a:lnTo>
                      <a:pt x="205" y="21"/>
                    </a:lnTo>
                    <a:lnTo>
                      <a:pt x="186" y="3"/>
                    </a:lnTo>
                    <a:lnTo>
                      <a:pt x="162" y="1"/>
                    </a:lnTo>
                    <a:lnTo>
                      <a:pt x="136" y="0"/>
                    </a:lnTo>
                    <a:lnTo>
                      <a:pt x="105" y="13"/>
                    </a:lnTo>
                    <a:lnTo>
                      <a:pt x="80" y="61"/>
                    </a:lnTo>
                    <a:lnTo>
                      <a:pt x="74" y="139"/>
                    </a:lnTo>
                    <a:lnTo>
                      <a:pt x="71" y="230"/>
                    </a:lnTo>
                    <a:lnTo>
                      <a:pt x="66" y="289"/>
                    </a:lnTo>
                    <a:lnTo>
                      <a:pt x="58" y="350"/>
                    </a:lnTo>
                    <a:lnTo>
                      <a:pt x="59" y="422"/>
                    </a:lnTo>
                    <a:lnTo>
                      <a:pt x="56" y="504"/>
                    </a:lnTo>
                    <a:lnTo>
                      <a:pt x="44" y="566"/>
                    </a:lnTo>
                    <a:lnTo>
                      <a:pt x="32" y="665"/>
                    </a:lnTo>
                    <a:lnTo>
                      <a:pt x="17" y="769"/>
                    </a:lnTo>
                    <a:lnTo>
                      <a:pt x="3" y="857"/>
                    </a:lnTo>
                    <a:lnTo>
                      <a:pt x="0" y="947"/>
                    </a:lnTo>
                    <a:lnTo>
                      <a:pt x="231" y="943"/>
                    </a:lnTo>
                    <a:lnTo>
                      <a:pt x="247" y="873"/>
                    </a:lnTo>
                    <a:close/>
                  </a:path>
                </a:pathLst>
              </a:custGeom>
              <a:solidFill>
                <a:srgbClr val="ff9f9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rot="4363800">
                <a:off x="3215160" y="4325400"/>
                <a:ext cx="136440" cy="17280"/>
              </a:xfrm>
              <a:custGeom>
                <a:avLst/>
                <a:gdLst/>
                <a:ahLst/>
                <a:rect l="l" t="t" r="r" b="b"/>
                <a:pathLst>
                  <a:path w="192" h="24">
                    <a:moveTo>
                      <a:pt x="192" y="12"/>
                    </a:moveTo>
                    <a:lnTo>
                      <a:pt x="135" y="21"/>
                    </a:lnTo>
                    <a:lnTo>
                      <a:pt x="90" y="24"/>
                    </a:lnTo>
                    <a:lnTo>
                      <a:pt x="30" y="12"/>
                    </a:lnTo>
                    <a:lnTo>
                      <a:pt x="0" y="0"/>
                    </a:lnTo>
                  </a:path>
                </a:pathLst>
              </a:custGeom>
              <a:noFill/>
              <a:ln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1" name=""/>
              <p:cNvSpPr/>
              <p:nvPr/>
            </p:nvSpPr>
            <p:spPr>
              <a:xfrm rot="4363800">
                <a:off x="2649960" y="4063680"/>
                <a:ext cx="111600" cy="8640"/>
              </a:xfrm>
              <a:custGeom>
                <a:avLst/>
                <a:gdLst/>
                <a:ahLst/>
                <a:rect l="l" t="t" r="r" b="b"/>
                <a:pathLst>
                  <a:path w="157" h="12">
                    <a:moveTo>
                      <a:pt x="0" y="0"/>
                    </a:moveTo>
                    <a:lnTo>
                      <a:pt x="61" y="12"/>
                    </a:lnTo>
                    <a:lnTo>
                      <a:pt x="127" y="12"/>
                    </a:lnTo>
                    <a:lnTo>
                      <a:pt x="157" y="6"/>
                    </a:lnTo>
                  </a:path>
                </a:pathLst>
              </a:custGeom>
              <a:noFill/>
              <a:ln w="1260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 name=""/>
              <p:cNvSpPr/>
              <p:nvPr/>
            </p:nvSpPr>
            <p:spPr>
              <a:xfrm rot="4363800">
                <a:off x="3204720" y="4112280"/>
                <a:ext cx="228960" cy="315000"/>
              </a:xfrm>
              <a:custGeom>
                <a:avLst/>
                <a:gdLst/>
                <a:ahLst/>
                <a:rect l="l" t="t" r="r" b="b"/>
                <a:pathLst>
                  <a:path w="322" h="435">
                    <a:moveTo>
                      <a:pt x="322" y="84"/>
                    </a:moveTo>
                    <a:lnTo>
                      <a:pt x="315" y="138"/>
                    </a:lnTo>
                    <a:lnTo>
                      <a:pt x="288" y="186"/>
                    </a:lnTo>
                    <a:lnTo>
                      <a:pt x="240" y="231"/>
                    </a:lnTo>
                    <a:lnTo>
                      <a:pt x="208" y="242"/>
                    </a:lnTo>
                    <a:lnTo>
                      <a:pt x="182" y="255"/>
                    </a:lnTo>
                    <a:lnTo>
                      <a:pt x="166" y="299"/>
                    </a:lnTo>
                    <a:lnTo>
                      <a:pt x="142" y="360"/>
                    </a:lnTo>
                    <a:lnTo>
                      <a:pt x="115" y="417"/>
                    </a:lnTo>
                    <a:lnTo>
                      <a:pt x="84" y="435"/>
                    </a:lnTo>
                    <a:lnTo>
                      <a:pt x="40" y="435"/>
                    </a:lnTo>
                    <a:lnTo>
                      <a:pt x="12" y="422"/>
                    </a:lnTo>
                    <a:lnTo>
                      <a:pt x="0" y="387"/>
                    </a:lnTo>
                    <a:lnTo>
                      <a:pt x="3" y="348"/>
                    </a:lnTo>
                    <a:lnTo>
                      <a:pt x="17" y="276"/>
                    </a:lnTo>
                    <a:lnTo>
                      <a:pt x="45" y="218"/>
                    </a:lnTo>
                    <a:lnTo>
                      <a:pt x="78" y="168"/>
                    </a:lnTo>
                    <a:lnTo>
                      <a:pt x="139" y="60"/>
                    </a:lnTo>
                    <a:lnTo>
                      <a:pt x="180" y="12"/>
                    </a:lnTo>
                    <a:lnTo>
                      <a:pt x="234" y="0"/>
                    </a:lnTo>
                    <a:lnTo>
                      <a:pt x="265" y="8"/>
                    </a:lnTo>
                    <a:lnTo>
                      <a:pt x="288" y="24"/>
                    </a:lnTo>
                    <a:lnTo>
                      <a:pt x="310" y="53"/>
                    </a:lnTo>
                    <a:lnTo>
                      <a:pt x="322" y="84"/>
                    </a:lnTo>
                    <a:close/>
                  </a:path>
                </a:pathLst>
              </a:custGeom>
              <a:solidFill>
                <a:srgbClr val="ff9f9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rot="4363800">
                <a:off x="3159360" y="4196880"/>
                <a:ext cx="60120" cy="71640"/>
              </a:xfrm>
              <a:custGeom>
                <a:avLst/>
                <a:gdLst/>
                <a:ahLst/>
                <a:rect l="l" t="t" r="r" b="b"/>
                <a:pathLst>
                  <a:path w="85" h="99">
                    <a:moveTo>
                      <a:pt x="15" y="0"/>
                    </a:moveTo>
                    <a:lnTo>
                      <a:pt x="49" y="0"/>
                    </a:lnTo>
                    <a:lnTo>
                      <a:pt x="83" y="12"/>
                    </a:lnTo>
                    <a:lnTo>
                      <a:pt x="85" y="51"/>
                    </a:lnTo>
                    <a:lnTo>
                      <a:pt x="75" y="80"/>
                    </a:lnTo>
                    <a:lnTo>
                      <a:pt x="42" y="99"/>
                    </a:lnTo>
                    <a:lnTo>
                      <a:pt x="18" y="89"/>
                    </a:lnTo>
                    <a:lnTo>
                      <a:pt x="9" y="72"/>
                    </a:lnTo>
                    <a:lnTo>
                      <a:pt x="0" y="47"/>
                    </a:lnTo>
                    <a:lnTo>
                      <a:pt x="3" y="14"/>
                    </a:lnTo>
                    <a:lnTo>
                      <a:pt x="15" y="0"/>
                    </a:lnTo>
                    <a:close/>
                  </a:path>
                </a:pathLst>
              </a:custGeom>
              <a:solidFill>
                <a:srgbClr val="ffbfbf"/>
              </a:solidFill>
              <a:ln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4" name=""/>
              <p:cNvSpPr/>
              <p:nvPr/>
            </p:nvSpPr>
            <p:spPr>
              <a:xfrm rot="4363800">
                <a:off x="3234240" y="3852360"/>
                <a:ext cx="196200" cy="393480"/>
              </a:xfrm>
              <a:custGeom>
                <a:avLst/>
                <a:gdLst/>
                <a:ahLst/>
                <a:rect l="l" t="t" r="r" b="b"/>
                <a:pathLst>
                  <a:path w="276" h="543">
                    <a:moveTo>
                      <a:pt x="276" y="78"/>
                    </a:moveTo>
                    <a:lnTo>
                      <a:pt x="264" y="41"/>
                    </a:lnTo>
                    <a:lnTo>
                      <a:pt x="244" y="15"/>
                    </a:lnTo>
                    <a:lnTo>
                      <a:pt x="213" y="6"/>
                    </a:lnTo>
                    <a:lnTo>
                      <a:pt x="174" y="0"/>
                    </a:lnTo>
                    <a:lnTo>
                      <a:pt x="120" y="18"/>
                    </a:lnTo>
                    <a:lnTo>
                      <a:pt x="80" y="42"/>
                    </a:lnTo>
                    <a:lnTo>
                      <a:pt x="46" y="102"/>
                    </a:lnTo>
                    <a:lnTo>
                      <a:pt x="26" y="240"/>
                    </a:lnTo>
                    <a:lnTo>
                      <a:pt x="3" y="342"/>
                    </a:lnTo>
                    <a:lnTo>
                      <a:pt x="0" y="444"/>
                    </a:lnTo>
                    <a:lnTo>
                      <a:pt x="7" y="492"/>
                    </a:lnTo>
                    <a:lnTo>
                      <a:pt x="29" y="528"/>
                    </a:lnTo>
                    <a:lnTo>
                      <a:pt x="79" y="543"/>
                    </a:lnTo>
                    <a:lnTo>
                      <a:pt x="126" y="522"/>
                    </a:lnTo>
                    <a:lnTo>
                      <a:pt x="151" y="468"/>
                    </a:lnTo>
                    <a:lnTo>
                      <a:pt x="168" y="378"/>
                    </a:lnTo>
                    <a:lnTo>
                      <a:pt x="192" y="296"/>
                    </a:lnTo>
                    <a:lnTo>
                      <a:pt x="232" y="219"/>
                    </a:lnTo>
                    <a:lnTo>
                      <a:pt x="261" y="134"/>
                    </a:lnTo>
                    <a:lnTo>
                      <a:pt x="276" y="78"/>
                    </a:lnTo>
                    <a:close/>
                  </a:path>
                </a:pathLst>
              </a:custGeom>
              <a:solidFill>
                <a:srgbClr val="ff9f9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rot="4363800">
                <a:off x="3154320" y="3995640"/>
                <a:ext cx="81720" cy="95400"/>
              </a:xfrm>
              <a:custGeom>
                <a:avLst/>
                <a:gdLst/>
                <a:ahLst/>
                <a:rect l="l" t="t" r="r" b="b"/>
                <a:pathLst>
                  <a:path w="115" h="132">
                    <a:moveTo>
                      <a:pt x="114" y="21"/>
                    </a:moveTo>
                    <a:lnTo>
                      <a:pt x="115" y="70"/>
                    </a:lnTo>
                    <a:lnTo>
                      <a:pt x="98" y="119"/>
                    </a:lnTo>
                    <a:lnTo>
                      <a:pt x="68" y="132"/>
                    </a:lnTo>
                    <a:lnTo>
                      <a:pt x="23" y="119"/>
                    </a:lnTo>
                    <a:lnTo>
                      <a:pt x="9" y="97"/>
                    </a:lnTo>
                    <a:lnTo>
                      <a:pt x="2" y="71"/>
                    </a:lnTo>
                    <a:lnTo>
                      <a:pt x="0" y="34"/>
                    </a:lnTo>
                    <a:lnTo>
                      <a:pt x="19" y="9"/>
                    </a:lnTo>
                    <a:lnTo>
                      <a:pt x="80" y="0"/>
                    </a:lnTo>
                    <a:lnTo>
                      <a:pt x="114" y="21"/>
                    </a:lnTo>
                    <a:close/>
                  </a:path>
                </a:pathLst>
              </a:custGeom>
              <a:solidFill>
                <a:srgbClr val="ffbfb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rot="4363800">
                <a:off x="2970720" y="3585600"/>
                <a:ext cx="357120" cy="591840"/>
              </a:xfrm>
              <a:custGeom>
                <a:avLst/>
                <a:gdLst/>
                <a:ahLst/>
                <a:rect l="l" t="t" r="r" b="b"/>
                <a:pathLst>
                  <a:path w="502" h="817">
                    <a:moveTo>
                      <a:pt x="210" y="102"/>
                    </a:moveTo>
                    <a:lnTo>
                      <a:pt x="283" y="84"/>
                    </a:lnTo>
                    <a:lnTo>
                      <a:pt x="331" y="54"/>
                    </a:lnTo>
                    <a:lnTo>
                      <a:pt x="391" y="18"/>
                    </a:lnTo>
                    <a:lnTo>
                      <a:pt x="457" y="0"/>
                    </a:lnTo>
                    <a:lnTo>
                      <a:pt x="481" y="9"/>
                    </a:lnTo>
                    <a:lnTo>
                      <a:pt x="499" y="29"/>
                    </a:lnTo>
                    <a:lnTo>
                      <a:pt x="502" y="62"/>
                    </a:lnTo>
                    <a:lnTo>
                      <a:pt x="493" y="102"/>
                    </a:lnTo>
                    <a:lnTo>
                      <a:pt x="484" y="137"/>
                    </a:lnTo>
                    <a:lnTo>
                      <a:pt x="457" y="180"/>
                    </a:lnTo>
                    <a:lnTo>
                      <a:pt x="394" y="240"/>
                    </a:lnTo>
                    <a:lnTo>
                      <a:pt x="349" y="270"/>
                    </a:lnTo>
                    <a:lnTo>
                      <a:pt x="313" y="288"/>
                    </a:lnTo>
                    <a:lnTo>
                      <a:pt x="319" y="354"/>
                    </a:lnTo>
                    <a:lnTo>
                      <a:pt x="325" y="414"/>
                    </a:lnTo>
                    <a:lnTo>
                      <a:pt x="319" y="504"/>
                    </a:lnTo>
                    <a:lnTo>
                      <a:pt x="307" y="558"/>
                    </a:lnTo>
                    <a:lnTo>
                      <a:pt x="301" y="612"/>
                    </a:lnTo>
                    <a:lnTo>
                      <a:pt x="274" y="668"/>
                    </a:lnTo>
                    <a:lnTo>
                      <a:pt x="249" y="708"/>
                    </a:lnTo>
                    <a:lnTo>
                      <a:pt x="204" y="746"/>
                    </a:lnTo>
                    <a:lnTo>
                      <a:pt x="162" y="781"/>
                    </a:lnTo>
                    <a:lnTo>
                      <a:pt x="117" y="804"/>
                    </a:lnTo>
                    <a:lnTo>
                      <a:pt x="84" y="817"/>
                    </a:lnTo>
                    <a:lnTo>
                      <a:pt x="54" y="751"/>
                    </a:lnTo>
                    <a:lnTo>
                      <a:pt x="36" y="684"/>
                    </a:lnTo>
                    <a:lnTo>
                      <a:pt x="6" y="582"/>
                    </a:lnTo>
                    <a:lnTo>
                      <a:pt x="0" y="534"/>
                    </a:lnTo>
                    <a:lnTo>
                      <a:pt x="24" y="456"/>
                    </a:lnTo>
                    <a:lnTo>
                      <a:pt x="48" y="348"/>
                    </a:lnTo>
                    <a:lnTo>
                      <a:pt x="78" y="210"/>
                    </a:lnTo>
                    <a:lnTo>
                      <a:pt x="108" y="144"/>
                    </a:lnTo>
                    <a:lnTo>
                      <a:pt x="162" y="114"/>
                    </a:lnTo>
                    <a:lnTo>
                      <a:pt x="210" y="102"/>
                    </a:lnTo>
                    <a:close/>
                  </a:path>
                </a:pathLst>
              </a:custGeom>
              <a:solidFill>
                <a:srgbClr val="ff9f9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rot="4363800">
                <a:off x="3350160" y="3857400"/>
                <a:ext cx="129960" cy="93240"/>
              </a:xfrm>
              <a:custGeom>
                <a:avLst/>
                <a:gdLst/>
                <a:ahLst/>
                <a:rect l="l" t="t" r="r" b="b"/>
                <a:pathLst>
                  <a:path w="183" h="129">
                    <a:moveTo>
                      <a:pt x="0" y="72"/>
                    </a:moveTo>
                    <a:lnTo>
                      <a:pt x="24" y="117"/>
                    </a:lnTo>
                    <a:lnTo>
                      <a:pt x="48" y="129"/>
                    </a:lnTo>
                    <a:lnTo>
                      <a:pt x="105" y="114"/>
                    </a:lnTo>
                    <a:lnTo>
                      <a:pt x="159" y="90"/>
                    </a:lnTo>
                    <a:lnTo>
                      <a:pt x="180" y="72"/>
                    </a:lnTo>
                    <a:lnTo>
                      <a:pt x="183" y="27"/>
                    </a:lnTo>
                    <a:lnTo>
                      <a:pt x="165" y="0"/>
                    </a:lnTo>
                    <a:lnTo>
                      <a:pt x="123" y="3"/>
                    </a:lnTo>
                    <a:lnTo>
                      <a:pt x="90" y="17"/>
                    </a:lnTo>
                    <a:lnTo>
                      <a:pt x="54" y="35"/>
                    </a:lnTo>
                    <a:lnTo>
                      <a:pt x="0" y="72"/>
                    </a:lnTo>
                    <a:close/>
                  </a:path>
                </a:pathLst>
              </a:custGeom>
              <a:solidFill>
                <a:srgbClr val="ffbfbf"/>
              </a:solidFill>
              <a:ln w="1260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8" name=""/>
              <p:cNvSpPr/>
              <p:nvPr/>
            </p:nvSpPr>
            <p:spPr>
              <a:xfrm rot="4363800">
                <a:off x="3305160" y="4270680"/>
                <a:ext cx="3960" cy="25920"/>
              </a:xfrm>
              <a:custGeom>
                <a:avLst/>
                <a:gdLst/>
                <a:ahLst/>
                <a:rect l="l" t="t" r="r" b="b"/>
                <a:pathLst>
                  <a:path w="6" h="36">
                    <a:moveTo>
                      <a:pt x="6" y="36"/>
                    </a:moveTo>
                    <a:lnTo>
                      <a:pt x="6" y="15"/>
                    </a:lnTo>
                    <a:lnTo>
                      <a:pt x="0" y="0"/>
                    </a:lnTo>
                  </a:path>
                </a:pathLst>
              </a:custGeom>
              <a:noFill/>
              <a:ln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sp>
          <p:nvSpPr>
            <p:cNvPr id="359" name=""/>
            <p:cNvSpPr/>
            <p:nvPr/>
          </p:nvSpPr>
          <p:spPr>
            <a:xfrm>
              <a:off x="1525320" y="3657600"/>
              <a:ext cx="925920" cy="1557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600" spc="-1" strike="noStrike">
                  <a:solidFill>
                    <a:srgbClr val="ff3300"/>
                  </a:solidFill>
                  <a:latin typeface="Arial"/>
                </a:rPr>
                <a:t>?</a:t>
              </a:r>
              <a:endParaRPr b="0" lang="en-US" sz="9600" spc="-1" strike="noStrike">
                <a:solidFill>
                  <a:srgbClr val="000000"/>
                </a:solidFill>
                <a:latin typeface="Times New Roman"/>
              </a:endParaRPr>
            </a:p>
          </p:txBody>
        </p:sp>
      </p:grpSp>
      <p:sp>
        <p:nvSpPr>
          <p:cNvPr id="3" name="PlaceHolder 2"/>
          <p:cNvSpPr>
            <a:spLocks noGrp="1"/>
          </p:cNvSpPr>
          <p:nvPr>
            <p:ph type="sldNum" idx="3"/>
          </p:nvPr>
        </p:nvSpPr>
        <p:spPr/>
        <p:txBody>
          <a:bodyPr/>
          <a:p>
            <a:fld id="{9BAF2522-4CCC-405C-9D2A-C458B82CE0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ff9"/>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762120" y="304560"/>
            <a:ext cx="624816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c00"/>
                </a:solidFill>
                <a:latin typeface="Arial"/>
              </a:rPr>
              <a:t>Solutions</a:t>
            </a:r>
            <a:endParaRPr b="1" lang="en-US" sz="2800" spc="-1" strike="noStrike">
              <a:solidFill>
                <a:srgbClr val="ffcc00"/>
              </a:solidFill>
              <a:latin typeface="Arial"/>
            </a:endParaRPr>
          </a:p>
        </p:txBody>
      </p:sp>
      <p:grpSp>
        <p:nvGrpSpPr>
          <p:cNvPr id="361" name=""/>
          <p:cNvGrpSpPr/>
          <p:nvPr/>
        </p:nvGrpSpPr>
        <p:grpSpPr>
          <a:xfrm>
            <a:off x="5105520" y="1600200"/>
            <a:ext cx="3047760" cy="3581280"/>
            <a:chOff x="5105520" y="1600200"/>
            <a:chExt cx="3047760" cy="3581280"/>
          </a:xfrm>
        </p:grpSpPr>
        <p:sp>
          <p:nvSpPr>
            <p:cNvPr id="362" name=""/>
            <p:cNvSpPr/>
            <p:nvPr/>
          </p:nvSpPr>
          <p:spPr>
            <a:xfrm>
              <a:off x="5638680" y="2895480"/>
              <a:ext cx="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620120" y="2895480"/>
              <a:ext cx="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486400" y="3124080"/>
              <a:ext cx="304920" cy="381240"/>
            </a:xfrm>
            <a:prstGeom prst="flowChartCollate">
              <a:avLst/>
            </a:prstGeom>
            <a:gradFill rotWithShape="0">
              <a:gsLst>
                <a:gs pos="0">
                  <a:srgbClr val="5e5e75"/>
                </a:gs>
                <a:gs pos="50000">
                  <a:srgbClr val="ccccff"/>
                </a:gs>
                <a:gs pos="100000">
                  <a:srgbClr val="5e5e75"/>
                </a:gs>
              </a:gsLst>
              <a:lin ang="108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086600" y="1600200"/>
              <a:ext cx="1066680" cy="1295280"/>
            </a:xfrm>
            <a:custGeom>
              <a:avLst/>
              <a:gdLst>
                <a:gd name="textAreaLeft" fmla="*/ 51840 w 1066680"/>
                <a:gd name="textAreaRight" fmla="*/ 1014840 w 1066680"/>
                <a:gd name="textAreaTop" fmla="*/ 51840 h 1295280"/>
                <a:gd name="textAreaBottom" fmla="*/ 1243440 h 1295280"/>
              </a:gdLst>
              <a:ahLst/>
              <a:rect l="textAreaLeft" t="textAreaTop" r="textAreaRight" b="textAreaBottom"/>
              <a:pathLst>
                <a:path w="21600" h="26228">
                  <a:moveTo>
                    <a:pt x="3600" y="0"/>
                  </a:moveTo>
                  <a:arcTo wR="3600" hR="3600" stAng="16200000" swAng="-5400000"/>
                  <a:lnTo>
                    <a:pt x="0" y="22628"/>
                  </a:lnTo>
                  <a:arcTo wR="3600" hR="3600" stAng="10800000" swAng="-5400000"/>
                  <a:lnTo>
                    <a:pt x="18000" y="26228"/>
                  </a:lnTo>
                  <a:arcTo wR="3600" hR="3600" stAng="5400000" swAng="-5400000"/>
                  <a:lnTo>
                    <a:pt x="21600" y="3600"/>
                  </a:lnTo>
                  <a:arcTo wR="3600" hR="3600" stAng="0" swAng="-5400000"/>
                  <a:close/>
                </a:path>
              </a:pathLst>
            </a:custGeom>
            <a:gradFill rotWithShape="0">
              <a:gsLst>
                <a:gs pos="0">
                  <a:srgbClr val="005e46"/>
                </a:gs>
                <a:gs pos="50000">
                  <a:srgbClr val="00cc99"/>
                </a:gs>
                <a:gs pos="100000">
                  <a:srgbClr val="005e46"/>
                </a:gs>
              </a:gsLst>
              <a:lin ang="10800000"/>
            </a:gra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ot A</a:t>
              </a:r>
              <a:endParaRPr b="0" lang="en-US" sz="2400" spc="-1" strike="noStrike">
                <a:solidFill>
                  <a:srgbClr val="000000"/>
                </a:solidFill>
                <a:latin typeface="Times New Roman"/>
              </a:endParaRPr>
            </a:p>
          </p:txBody>
        </p:sp>
        <p:sp>
          <p:nvSpPr>
            <p:cNvPr id="366" name=""/>
            <p:cNvSpPr/>
            <p:nvPr/>
          </p:nvSpPr>
          <p:spPr>
            <a:xfrm>
              <a:off x="7467480" y="3124080"/>
              <a:ext cx="304920" cy="381240"/>
            </a:xfrm>
            <a:prstGeom prst="flowChartCollate">
              <a:avLst/>
            </a:prstGeom>
            <a:gradFill rotWithShape="0">
              <a:gsLst>
                <a:gs pos="0">
                  <a:srgbClr val="17175e"/>
                </a:gs>
                <a:gs pos="50000">
                  <a:srgbClr val="3333cc"/>
                </a:gs>
                <a:gs pos="100000">
                  <a:srgbClr val="17175e"/>
                </a:gs>
              </a:gsLst>
              <a:lin ang="108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6324480" y="3657600"/>
              <a:ext cx="0" cy="533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934320" y="3657600"/>
              <a:ext cx="0" cy="533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5638320" y="3657600"/>
              <a:ext cx="685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6933960" y="3657600"/>
              <a:ext cx="685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6095880" y="3886200"/>
              <a:ext cx="1067040" cy="1295280"/>
            </a:xfrm>
            <a:custGeom>
              <a:avLst/>
              <a:gdLst>
                <a:gd name="textAreaLeft" fmla="*/ 51840 w 1067040"/>
                <a:gd name="textAreaRight" fmla="*/ 1015200 w 1067040"/>
                <a:gd name="textAreaTop" fmla="*/ 51840 h 1295280"/>
                <a:gd name="textAreaBottom" fmla="*/ 1243440 h 1295280"/>
              </a:gdLst>
              <a:ahLst/>
              <a:rect l="textAreaLeft" t="textAreaTop" r="textAreaRight" b="textAreaBottom"/>
              <a:pathLst>
                <a:path w="21600" h="26219">
                  <a:moveTo>
                    <a:pt x="3600" y="0"/>
                  </a:moveTo>
                  <a:arcTo wR="3600" hR="3600" stAng="16200000" swAng="-5400000"/>
                  <a:lnTo>
                    <a:pt x="0" y="22619"/>
                  </a:lnTo>
                  <a:arcTo wR="3600" hR="3600" stAng="10800000" swAng="-5400000"/>
                  <a:lnTo>
                    <a:pt x="18000" y="26219"/>
                  </a:lnTo>
                  <a:arcTo wR="3600" hR="3600" stAng="5400000" swAng="-5400000"/>
                  <a:lnTo>
                    <a:pt x="21600" y="3600"/>
                  </a:lnTo>
                  <a:arcTo wR="3600" hR="3600" stAng="0" swAng="-5400000"/>
                  <a:close/>
                </a:path>
              </a:pathLst>
            </a:custGeom>
            <a:gradFill rotWithShape="0">
              <a:gsLst>
                <a:gs pos="0">
                  <a:srgbClr val="005e46"/>
                </a:gs>
                <a:gs pos="50000">
                  <a:srgbClr val="00cc99"/>
                </a:gs>
                <a:gs pos="100000">
                  <a:srgbClr val="005e46"/>
                </a:gs>
              </a:gsLst>
              <a:lin ang="10800000"/>
            </a:gra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ot A</a:t>
              </a:r>
              <a:endParaRPr b="0" lang="en-US" sz="2400" spc="-1" strike="noStrike">
                <a:solidFill>
                  <a:srgbClr val="000000"/>
                </a:solidFill>
                <a:latin typeface="Times New Roman"/>
              </a:endParaRPr>
            </a:p>
          </p:txBody>
        </p:sp>
        <p:sp>
          <p:nvSpPr>
            <p:cNvPr id="372" name=""/>
            <p:cNvSpPr/>
            <p:nvPr/>
          </p:nvSpPr>
          <p:spPr>
            <a:xfrm>
              <a:off x="5105520" y="1600200"/>
              <a:ext cx="1066680" cy="1295280"/>
            </a:xfrm>
            <a:custGeom>
              <a:avLst/>
              <a:gdLst>
                <a:gd name="textAreaLeft" fmla="*/ 51840 w 1066680"/>
                <a:gd name="textAreaRight" fmla="*/ 1014840 w 1066680"/>
                <a:gd name="textAreaTop" fmla="*/ 51840 h 1295280"/>
                <a:gd name="textAreaBottom" fmla="*/ 1243440 h 1295280"/>
              </a:gdLst>
              <a:ahLst/>
              <a:rect l="textAreaLeft" t="textAreaTop" r="textAreaRight" b="textAreaBottom"/>
              <a:pathLst>
                <a:path w="21600" h="26228">
                  <a:moveTo>
                    <a:pt x="3600" y="0"/>
                  </a:moveTo>
                  <a:arcTo wR="3600" hR="3600" stAng="16200000" swAng="-5400000"/>
                  <a:lnTo>
                    <a:pt x="0" y="22628"/>
                  </a:lnTo>
                  <a:arcTo wR="3600" hR="3600" stAng="10800000" swAng="-5400000"/>
                  <a:lnTo>
                    <a:pt x="18000" y="26228"/>
                  </a:lnTo>
                  <a:arcTo wR="3600" hR="3600" stAng="5400000" swAng="-5400000"/>
                  <a:lnTo>
                    <a:pt x="21600" y="3600"/>
                  </a:lnTo>
                  <a:arcTo wR="3600" hR="3600" stAng="0" swAng="-5400000"/>
                  <a:close/>
                </a:path>
              </a:pathLst>
            </a:custGeom>
            <a:gradFill rotWithShape="0">
              <a:gsLst>
                <a:gs pos="0">
                  <a:srgbClr val="757500"/>
                </a:gs>
                <a:gs pos="50000">
                  <a:srgbClr val="ffff00"/>
                </a:gs>
                <a:gs pos="100000">
                  <a:srgbClr val="757500"/>
                </a:gs>
              </a:gsLst>
              <a:lin ang="10800000"/>
            </a:gra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épa</a:t>
              </a:r>
              <a:endParaRPr b="0" lang="en-US" sz="2400" spc="-1" strike="noStrike">
                <a:solidFill>
                  <a:srgbClr val="000000"/>
                </a:solidFill>
                <a:latin typeface="Times New Roman"/>
              </a:endParaRPr>
            </a:p>
          </p:txBody>
        </p:sp>
      </p:grpSp>
      <p:grpSp>
        <p:nvGrpSpPr>
          <p:cNvPr id="373" name=""/>
          <p:cNvGrpSpPr/>
          <p:nvPr/>
        </p:nvGrpSpPr>
        <p:grpSpPr>
          <a:xfrm>
            <a:off x="1981080" y="1905120"/>
            <a:ext cx="2133720" cy="3657600"/>
            <a:chOff x="1981080" y="1905120"/>
            <a:chExt cx="2133720" cy="3657600"/>
          </a:xfrm>
        </p:grpSpPr>
        <p:sp>
          <p:nvSpPr>
            <p:cNvPr id="374" name=""/>
            <p:cNvSpPr/>
            <p:nvPr/>
          </p:nvSpPr>
          <p:spPr>
            <a:xfrm>
              <a:off x="1981080" y="5258160"/>
              <a:ext cx="2133720" cy="304560"/>
            </a:xfrm>
            <a:prstGeom prst="parallelogram">
              <a:avLst>
                <a:gd name="adj" fmla="val 23979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1981080" y="5181840"/>
              <a:ext cx="2133720" cy="304920"/>
            </a:xfrm>
            <a:prstGeom prst="parallelogram">
              <a:avLst>
                <a:gd name="adj" fmla="val 239507"/>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1981080" y="5105520"/>
              <a:ext cx="2133720" cy="304920"/>
            </a:xfrm>
            <a:prstGeom prst="parallelogram">
              <a:avLst>
                <a:gd name="adj" fmla="val 239507"/>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981080" y="5029560"/>
              <a:ext cx="2133720" cy="304560"/>
            </a:xfrm>
            <a:prstGeom prst="parallelogram">
              <a:avLst>
                <a:gd name="adj" fmla="val 23979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981080" y="4953240"/>
              <a:ext cx="2133720" cy="304920"/>
            </a:xfrm>
            <a:prstGeom prst="parallelogram">
              <a:avLst>
                <a:gd name="adj" fmla="val 239507"/>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1981080" y="4876920"/>
              <a:ext cx="2133720" cy="304920"/>
            </a:xfrm>
            <a:prstGeom prst="parallelogram">
              <a:avLst>
                <a:gd name="adj" fmla="val 239507"/>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981080" y="4800960"/>
              <a:ext cx="2133720" cy="304560"/>
            </a:xfrm>
            <a:prstGeom prst="parallelogram">
              <a:avLst>
                <a:gd name="adj" fmla="val 23979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981080" y="4724640"/>
              <a:ext cx="2133720" cy="304920"/>
            </a:xfrm>
            <a:prstGeom prst="parallelogram">
              <a:avLst>
                <a:gd name="adj" fmla="val 239507"/>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1981080" y="4648320"/>
              <a:ext cx="2133720" cy="304920"/>
            </a:xfrm>
            <a:prstGeom prst="parallelogram">
              <a:avLst>
                <a:gd name="adj" fmla="val 239507"/>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1981080" y="4572360"/>
              <a:ext cx="2133720" cy="304560"/>
            </a:xfrm>
            <a:prstGeom prst="parallelogram">
              <a:avLst>
                <a:gd name="adj" fmla="val 23979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1981080" y="4496040"/>
              <a:ext cx="2133720" cy="304920"/>
            </a:xfrm>
            <a:prstGeom prst="parallelogram">
              <a:avLst>
                <a:gd name="adj" fmla="val 239507"/>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1981080" y="4419720"/>
              <a:ext cx="2133720" cy="304920"/>
            </a:xfrm>
            <a:prstGeom prst="parallelogram">
              <a:avLst>
                <a:gd name="adj" fmla="val 239507"/>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1981080" y="4343760"/>
              <a:ext cx="2133720" cy="304560"/>
            </a:xfrm>
            <a:prstGeom prst="parallelogram">
              <a:avLst>
                <a:gd name="adj" fmla="val 23979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981080" y="4267440"/>
              <a:ext cx="2133720" cy="304920"/>
            </a:xfrm>
            <a:prstGeom prst="parallelogram">
              <a:avLst>
                <a:gd name="adj" fmla="val 239507"/>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1981080" y="4191120"/>
              <a:ext cx="2133720" cy="304920"/>
            </a:xfrm>
            <a:prstGeom prst="parallelogram">
              <a:avLst>
                <a:gd name="adj" fmla="val 239507"/>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981080" y="4115160"/>
              <a:ext cx="2133720" cy="304560"/>
            </a:xfrm>
            <a:prstGeom prst="parallelogram">
              <a:avLst>
                <a:gd name="adj" fmla="val 23979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1981080" y="4038840"/>
              <a:ext cx="2133720" cy="304920"/>
            </a:xfrm>
            <a:prstGeom prst="parallelogram">
              <a:avLst>
                <a:gd name="adj" fmla="val 239507"/>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1981080" y="3962520"/>
              <a:ext cx="2133720" cy="304920"/>
            </a:xfrm>
            <a:prstGeom prst="parallelogram">
              <a:avLst>
                <a:gd name="adj" fmla="val 239507"/>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1981080" y="3886560"/>
              <a:ext cx="2133720" cy="304560"/>
            </a:xfrm>
            <a:prstGeom prst="parallelogram">
              <a:avLst>
                <a:gd name="adj" fmla="val 23979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1981080" y="3810240"/>
              <a:ext cx="2133720" cy="304920"/>
            </a:xfrm>
            <a:prstGeom prst="parallelogram">
              <a:avLst>
                <a:gd name="adj" fmla="val 239507"/>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1981080" y="3733920"/>
              <a:ext cx="2133720" cy="304920"/>
            </a:xfrm>
            <a:prstGeom prst="parallelogram">
              <a:avLst>
                <a:gd name="adj" fmla="val 239507"/>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1981080" y="3657960"/>
              <a:ext cx="2133720" cy="304560"/>
            </a:xfrm>
            <a:prstGeom prst="parallelogram">
              <a:avLst>
                <a:gd name="adj" fmla="val 23979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1981080" y="3581640"/>
              <a:ext cx="2133720" cy="304920"/>
            </a:xfrm>
            <a:prstGeom prst="parallelogram">
              <a:avLst>
                <a:gd name="adj" fmla="val 239507"/>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1981080" y="3505320"/>
              <a:ext cx="2133720" cy="304920"/>
            </a:xfrm>
            <a:prstGeom prst="parallelogram">
              <a:avLst>
                <a:gd name="adj" fmla="val 239507"/>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981080" y="3429360"/>
              <a:ext cx="2133720" cy="304560"/>
            </a:xfrm>
            <a:prstGeom prst="parallelogram">
              <a:avLst>
                <a:gd name="adj" fmla="val 23979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981080" y="3353040"/>
              <a:ext cx="2133720" cy="304920"/>
            </a:xfrm>
            <a:prstGeom prst="parallelogram">
              <a:avLst>
                <a:gd name="adj" fmla="val 239507"/>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1981080" y="3276720"/>
              <a:ext cx="2133720" cy="304920"/>
            </a:xfrm>
            <a:prstGeom prst="parallelogram">
              <a:avLst>
                <a:gd name="adj" fmla="val 239507"/>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1981080" y="3200760"/>
              <a:ext cx="2133720" cy="304560"/>
            </a:xfrm>
            <a:prstGeom prst="parallelogram">
              <a:avLst>
                <a:gd name="adj" fmla="val 23979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981080" y="3124440"/>
              <a:ext cx="2133720" cy="304920"/>
            </a:xfrm>
            <a:prstGeom prst="parallelogram">
              <a:avLst>
                <a:gd name="adj" fmla="val 239507"/>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981080" y="3048120"/>
              <a:ext cx="2133720" cy="304920"/>
            </a:xfrm>
            <a:prstGeom prst="parallelogram">
              <a:avLst>
                <a:gd name="adj" fmla="val 239507"/>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1981080" y="2972160"/>
              <a:ext cx="2133720" cy="304560"/>
            </a:xfrm>
            <a:prstGeom prst="parallelogram">
              <a:avLst>
                <a:gd name="adj" fmla="val 23979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1981080" y="2895840"/>
              <a:ext cx="2133720" cy="304920"/>
            </a:xfrm>
            <a:prstGeom prst="parallelogram">
              <a:avLst>
                <a:gd name="adj" fmla="val 239507"/>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1981080" y="2819520"/>
              <a:ext cx="2133720" cy="304920"/>
            </a:xfrm>
            <a:prstGeom prst="parallelogram">
              <a:avLst>
                <a:gd name="adj" fmla="val 239507"/>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981080" y="2743560"/>
              <a:ext cx="2133720" cy="304560"/>
            </a:xfrm>
            <a:prstGeom prst="parallelogram">
              <a:avLst>
                <a:gd name="adj" fmla="val 23979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1981080" y="2667240"/>
              <a:ext cx="2133720" cy="304920"/>
            </a:xfrm>
            <a:prstGeom prst="parallelogram">
              <a:avLst>
                <a:gd name="adj" fmla="val 239507"/>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1981080" y="2590920"/>
              <a:ext cx="2133720" cy="304920"/>
            </a:xfrm>
            <a:prstGeom prst="parallelogram">
              <a:avLst>
                <a:gd name="adj" fmla="val 239507"/>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1981080" y="2514960"/>
              <a:ext cx="2133720" cy="304560"/>
            </a:xfrm>
            <a:prstGeom prst="parallelogram">
              <a:avLst>
                <a:gd name="adj" fmla="val 23979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1981080" y="2438640"/>
              <a:ext cx="2133720" cy="304920"/>
            </a:xfrm>
            <a:prstGeom prst="parallelogram">
              <a:avLst>
                <a:gd name="adj" fmla="val 239507"/>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981080" y="2362320"/>
              <a:ext cx="2133720" cy="304920"/>
            </a:xfrm>
            <a:prstGeom prst="parallelogram">
              <a:avLst>
                <a:gd name="adj" fmla="val 239507"/>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981080" y="2286360"/>
              <a:ext cx="2133720" cy="304560"/>
            </a:xfrm>
            <a:prstGeom prst="parallelogram">
              <a:avLst>
                <a:gd name="adj" fmla="val 23979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981080" y="2210040"/>
              <a:ext cx="2133720" cy="304920"/>
            </a:xfrm>
            <a:prstGeom prst="parallelogram">
              <a:avLst>
                <a:gd name="adj" fmla="val 239507"/>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981080" y="2133720"/>
              <a:ext cx="2133720" cy="304920"/>
            </a:xfrm>
            <a:prstGeom prst="parallelogram">
              <a:avLst>
                <a:gd name="adj" fmla="val 239507"/>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1981080" y="2057760"/>
              <a:ext cx="2133720" cy="304560"/>
            </a:xfrm>
            <a:prstGeom prst="parallelogram">
              <a:avLst>
                <a:gd name="adj" fmla="val 23979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981080" y="1981440"/>
              <a:ext cx="2133720" cy="304920"/>
            </a:xfrm>
            <a:prstGeom prst="parallelogram">
              <a:avLst>
                <a:gd name="adj" fmla="val 239507"/>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1981080" y="1905120"/>
              <a:ext cx="2133720" cy="304920"/>
            </a:xfrm>
            <a:prstGeom prst="parallelogram">
              <a:avLst>
                <a:gd name="adj" fmla="val 239507"/>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9" name=""/>
          <p:cNvSpPr/>
          <p:nvPr/>
        </p:nvSpPr>
        <p:spPr>
          <a:xfrm>
            <a:off x="608760" y="3809880"/>
            <a:ext cx="51530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rPr>
              <a:t> </a:t>
            </a:r>
            <a:r>
              <a:rPr b="1" lang="fr-FR" sz="3200" spc="-1" strike="noStrike">
                <a:solidFill>
                  <a:srgbClr val="ffff00"/>
                </a:solidFill>
                <a:latin typeface="Arial"/>
              </a:rPr>
              <a:t>Rapporter « plus épais »</a:t>
            </a:r>
            <a:endParaRPr b="0" lang="en-US" sz="3200" spc="-1" strike="noStrike">
              <a:solidFill>
                <a:srgbClr val="000000"/>
              </a:solidFill>
              <a:latin typeface="Times New Roman"/>
            </a:endParaRPr>
          </a:p>
        </p:txBody>
      </p:sp>
      <p:sp>
        <p:nvSpPr>
          <p:cNvPr id="420" name=""/>
          <p:cNvSpPr/>
          <p:nvPr/>
        </p:nvSpPr>
        <p:spPr>
          <a:xfrm>
            <a:off x="610560" y="4800600"/>
            <a:ext cx="395676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ff00"/>
                </a:solidFill>
                <a:latin typeface="Arial"/>
              </a:rPr>
              <a:t> </a:t>
            </a:r>
            <a:r>
              <a:rPr b="1" lang="fr-FR" sz="3200" spc="-1" strike="noStrike">
                <a:solidFill>
                  <a:srgbClr val="00ff00"/>
                </a:solidFill>
                <a:latin typeface="Arial"/>
              </a:rPr>
              <a:t>Éviter le problème</a:t>
            </a:r>
            <a:endParaRPr b="0" lang="en-US" sz="3200" spc="-1" strike="noStrike">
              <a:solidFill>
                <a:srgbClr val="000000"/>
              </a:solidFill>
              <a:latin typeface="Times New Roman"/>
            </a:endParaRPr>
          </a:p>
        </p:txBody>
      </p:sp>
      <p:sp>
        <p:nvSpPr>
          <p:cNvPr id="421" name=""/>
          <p:cNvSpPr/>
          <p:nvPr/>
        </p:nvSpPr>
        <p:spPr>
          <a:xfrm>
            <a:off x="609480" y="2819520"/>
            <a:ext cx="454356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rPr>
              <a:t> </a:t>
            </a:r>
            <a:r>
              <a:rPr b="1" lang="fr-FR" sz="3200" spc="-1" strike="noStrike">
                <a:solidFill>
                  <a:srgbClr val="ffff00"/>
                </a:solidFill>
                <a:latin typeface="Arial"/>
              </a:rPr>
              <a:t>Allouer « plus large »</a:t>
            </a:r>
            <a:endParaRPr b="0" lang="en-US" sz="3200" spc="-1" strike="noStrike">
              <a:solidFill>
                <a:srgbClr val="000000"/>
              </a:solidFill>
              <a:latin typeface="Times New Roman"/>
            </a:endParaRPr>
          </a:p>
        </p:txBody>
      </p:sp>
      <p:sp>
        <p:nvSpPr>
          <p:cNvPr id="422" name=""/>
          <p:cNvSpPr/>
          <p:nvPr/>
        </p:nvSpPr>
        <p:spPr>
          <a:xfrm>
            <a:off x="5599080" y="1133640"/>
            <a:ext cx="3367080" cy="4695840"/>
          </a:xfrm>
          <a:custGeom>
            <a:avLst/>
            <a:gdLst/>
            <a:ahLst/>
            <a:rect l="l" t="t" r="r" b="b"/>
            <a:pathLst>
              <a:path w="2121" h="2958">
                <a:moveTo>
                  <a:pt x="1593" y="31"/>
                </a:moveTo>
                <a:cubicBezTo>
                  <a:pt x="1532" y="20"/>
                  <a:pt x="1480" y="8"/>
                  <a:pt x="1418" y="0"/>
                </a:cubicBezTo>
                <a:cubicBezTo>
                  <a:pt x="1311" y="3"/>
                  <a:pt x="1204" y="4"/>
                  <a:pt x="1097" y="10"/>
                </a:cubicBezTo>
                <a:cubicBezTo>
                  <a:pt x="1049" y="12"/>
                  <a:pt x="1031" y="18"/>
                  <a:pt x="993" y="41"/>
                </a:cubicBezTo>
                <a:cubicBezTo>
                  <a:pt x="972" y="54"/>
                  <a:pt x="931" y="82"/>
                  <a:pt x="931" y="82"/>
                </a:cubicBezTo>
                <a:cubicBezTo>
                  <a:pt x="903" y="125"/>
                  <a:pt x="887" y="166"/>
                  <a:pt x="859" y="207"/>
                </a:cubicBezTo>
                <a:cubicBezTo>
                  <a:pt x="844" y="254"/>
                  <a:pt x="814" y="299"/>
                  <a:pt x="787" y="341"/>
                </a:cubicBezTo>
                <a:cubicBezTo>
                  <a:pt x="751" y="541"/>
                  <a:pt x="731" y="743"/>
                  <a:pt x="683" y="941"/>
                </a:cubicBezTo>
                <a:cubicBezTo>
                  <a:pt x="670" y="993"/>
                  <a:pt x="661" y="1072"/>
                  <a:pt x="631" y="1117"/>
                </a:cubicBezTo>
                <a:cubicBezTo>
                  <a:pt x="617" y="1138"/>
                  <a:pt x="604" y="1158"/>
                  <a:pt x="590" y="1179"/>
                </a:cubicBezTo>
                <a:cubicBezTo>
                  <a:pt x="583" y="1189"/>
                  <a:pt x="569" y="1210"/>
                  <a:pt x="569" y="1210"/>
                </a:cubicBezTo>
                <a:cubicBezTo>
                  <a:pt x="545" y="1284"/>
                  <a:pt x="579" y="1195"/>
                  <a:pt x="528" y="1272"/>
                </a:cubicBezTo>
                <a:cubicBezTo>
                  <a:pt x="522" y="1281"/>
                  <a:pt x="523" y="1294"/>
                  <a:pt x="518" y="1303"/>
                </a:cubicBezTo>
                <a:cubicBezTo>
                  <a:pt x="492" y="1349"/>
                  <a:pt x="488" y="1337"/>
                  <a:pt x="456" y="1375"/>
                </a:cubicBezTo>
                <a:cubicBezTo>
                  <a:pt x="401" y="1441"/>
                  <a:pt x="341" y="1511"/>
                  <a:pt x="280" y="1572"/>
                </a:cubicBezTo>
                <a:cubicBezTo>
                  <a:pt x="252" y="1652"/>
                  <a:pt x="205" y="1729"/>
                  <a:pt x="145" y="1789"/>
                </a:cubicBezTo>
                <a:cubicBezTo>
                  <a:pt x="121" y="1838"/>
                  <a:pt x="86" y="1876"/>
                  <a:pt x="62" y="1924"/>
                </a:cubicBezTo>
                <a:cubicBezTo>
                  <a:pt x="38" y="1973"/>
                  <a:pt x="24" y="2026"/>
                  <a:pt x="11" y="2079"/>
                </a:cubicBezTo>
                <a:cubicBezTo>
                  <a:pt x="7" y="2113"/>
                  <a:pt x="0" y="2147"/>
                  <a:pt x="0" y="2182"/>
                </a:cubicBezTo>
                <a:cubicBezTo>
                  <a:pt x="0" y="2378"/>
                  <a:pt x="9" y="2559"/>
                  <a:pt x="125" y="2720"/>
                </a:cubicBezTo>
                <a:cubicBezTo>
                  <a:pt x="166" y="2777"/>
                  <a:pt x="210" y="2827"/>
                  <a:pt x="280" y="2844"/>
                </a:cubicBezTo>
                <a:cubicBezTo>
                  <a:pt x="397" y="2904"/>
                  <a:pt x="542" y="2941"/>
                  <a:pt x="673" y="2958"/>
                </a:cubicBezTo>
                <a:cubicBezTo>
                  <a:pt x="832" y="2951"/>
                  <a:pt x="978" y="2954"/>
                  <a:pt x="1128" y="2906"/>
                </a:cubicBezTo>
                <a:cubicBezTo>
                  <a:pt x="1170" y="2878"/>
                  <a:pt x="1223" y="2875"/>
                  <a:pt x="1262" y="2844"/>
                </a:cubicBezTo>
                <a:cubicBezTo>
                  <a:pt x="1362" y="2764"/>
                  <a:pt x="1295" y="2810"/>
                  <a:pt x="1345" y="2751"/>
                </a:cubicBezTo>
                <a:cubicBezTo>
                  <a:pt x="1407" y="2677"/>
                  <a:pt x="1482" y="2604"/>
                  <a:pt x="1521" y="2513"/>
                </a:cubicBezTo>
                <a:cubicBezTo>
                  <a:pt x="1543" y="2462"/>
                  <a:pt x="1545" y="2401"/>
                  <a:pt x="1552" y="2348"/>
                </a:cubicBezTo>
                <a:cubicBezTo>
                  <a:pt x="1555" y="2213"/>
                  <a:pt x="1556" y="2079"/>
                  <a:pt x="1562" y="1944"/>
                </a:cubicBezTo>
                <a:cubicBezTo>
                  <a:pt x="1569" y="1799"/>
                  <a:pt x="1649" y="1643"/>
                  <a:pt x="1718" y="1520"/>
                </a:cubicBezTo>
                <a:cubicBezTo>
                  <a:pt x="1764" y="1438"/>
                  <a:pt x="1812" y="1345"/>
                  <a:pt x="1893" y="1293"/>
                </a:cubicBezTo>
                <a:cubicBezTo>
                  <a:pt x="1983" y="1160"/>
                  <a:pt x="1834" y="1376"/>
                  <a:pt x="1945" y="1231"/>
                </a:cubicBezTo>
                <a:cubicBezTo>
                  <a:pt x="2006" y="1151"/>
                  <a:pt x="2047" y="1056"/>
                  <a:pt x="2080" y="962"/>
                </a:cubicBezTo>
                <a:cubicBezTo>
                  <a:pt x="2090" y="900"/>
                  <a:pt x="2102" y="835"/>
                  <a:pt x="2121" y="775"/>
                </a:cubicBezTo>
                <a:cubicBezTo>
                  <a:pt x="2118" y="665"/>
                  <a:pt x="2120" y="554"/>
                  <a:pt x="2111" y="444"/>
                </a:cubicBezTo>
                <a:cubicBezTo>
                  <a:pt x="2109" y="426"/>
                  <a:pt x="2078" y="388"/>
                  <a:pt x="2069" y="372"/>
                </a:cubicBezTo>
                <a:cubicBezTo>
                  <a:pt x="2026" y="296"/>
                  <a:pt x="1955" y="238"/>
                  <a:pt x="1893" y="176"/>
                </a:cubicBezTo>
                <a:cubicBezTo>
                  <a:pt x="1827" y="110"/>
                  <a:pt x="1736" y="66"/>
                  <a:pt x="1645" y="51"/>
                </a:cubicBezTo>
                <a:cubicBezTo>
                  <a:pt x="1614" y="46"/>
                  <a:pt x="1581" y="52"/>
                  <a:pt x="1552" y="41"/>
                </a:cubicBezTo>
                <a:cubicBezTo>
                  <a:pt x="1539" y="36"/>
                  <a:pt x="1579" y="34"/>
                  <a:pt x="1593" y="31"/>
                </a:cubicBezTo>
                <a:close/>
              </a:path>
            </a:pathLst>
          </a:custGeom>
          <a:noFill/>
          <a:ln w="76320">
            <a:solidFill>
              <a:srgbClr val="cc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713120" y="763560"/>
            <a:ext cx="4300560" cy="4933800"/>
          </a:xfrm>
          <a:custGeom>
            <a:avLst/>
            <a:gdLst/>
            <a:ahLst/>
            <a:rect l="l" t="t" r="r" b="b"/>
            <a:pathLst>
              <a:path w="2709" h="3108">
                <a:moveTo>
                  <a:pt x="1996" y="119"/>
                </a:moveTo>
                <a:cubicBezTo>
                  <a:pt x="1899" y="107"/>
                  <a:pt x="1804" y="88"/>
                  <a:pt x="1707" y="78"/>
                </a:cubicBezTo>
                <a:cubicBezTo>
                  <a:pt x="1526" y="31"/>
                  <a:pt x="1334" y="24"/>
                  <a:pt x="1148" y="15"/>
                </a:cubicBezTo>
                <a:cubicBezTo>
                  <a:pt x="878" y="20"/>
                  <a:pt x="675" y="0"/>
                  <a:pt x="434" y="57"/>
                </a:cubicBezTo>
                <a:cubicBezTo>
                  <a:pt x="393" y="82"/>
                  <a:pt x="364" y="94"/>
                  <a:pt x="320" y="109"/>
                </a:cubicBezTo>
                <a:cubicBezTo>
                  <a:pt x="306" y="119"/>
                  <a:pt x="294" y="131"/>
                  <a:pt x="279" y="140"/>
                </a:cubicBezTo>
                <a:cubicBezTo>
                  <a:pt x="266" y="148"/>
                  <a:pt x="251" y="152"/>
                  <a:pt x="238" y="160"/>
                </a:cubicBezTo>
                <a:cubicBezTo>
                  <a:pt x="153" y="217"/>
                  <a:pt x="219" y="191"/>
                  <a:pt x="155" y="212"/>
                </a:cubicBezTo>
                <a:cubicBezTo>
                  <a:pt x="128" y="232"/>
                  <a:pt x="92" y="257"/>
                  <a:pt x="72" y="284"/>
                </a:cubicBezTo>
                <a:cubicBezTo>
                  <a:pt x="63" y="296"/>
                  <a:pt x="60" y="313"/>
                  <a:pt x="52" y="326"/>
                </a:cubicBezTo>
                <a:cubicBezTo>
                  <a:pt x="43" y="341"/>
                  <a:pt x="31" y="353"/>
                  <a:pt x="20" y="367"/>
                </a:cubicBezTo>
                <a:cubicBezTo>
                  <a:pt x="11" y="415"/>
                  <a:pt x="0" y="463"/>
                  <a:pt x="0" y="512"/>
                </a:cubicBezTo>
                <a:cubicBezTo>
                  <a:pt x="0" y="688"/>
                  <a:pt x="1" y="864"/>
                  <a:pt x="10" y="1039"/>
                </a:cubicBezTo>
                <a:cubicBezTo>
                  <a:pt x="17" y="1176"/>
                  <a:pt x="102" y="1334"/>
                  <a:pt x="145" y="1464"/>
                </a:cubicBezTo>
                <a:cubicBezTo>
                  <a:pt x="181" y="1572"/>
                  <a:pt x="216" y="1703"/>
                  <a:pt x="310" y="1774"/>
                </a:cubicBezTo>
                <a:cubicBezTo>
                  <a:pt x="325" y="1820"/>
                  <a:pt x="353" y="1860"/>
                  <a:pt x="362" y="1908"/>
                </a:cubicBezTo>
                <a:cubicBezTo>
                  <a:pt x="374" y="1971"/>
                  <a:pt x="366" y="1943"/>
                  <a:pt x="383" y="1991"/>
                </a:cubicBezTo>
                <a:cubicBezTo>
                  <a:pt x="386" y="2022"/>
                  <a:pt x="392" y="2053"/>
                  <a:pt x="393" y="2084"/>
                </a:cubicBezTo>
                <a:cubicBezTo>
                  <a:pt x="398" y="2225"/>
                  <a:pt x="395" y="2367"/>
                  <a:pt x="403" y="2508"/>
                </a:cubicBezTo>
                <a:cubicBezTo>
                  <a:pt x="405" y="2543"/>
                  <a:pt x="408" y="2581"/>
                  <a:pt x="424" y="2612"/>
                </a:cubicBezTo>
                <a:cubicBezTo>
                  <a:pt x="459" y="2680"/>
                  <a:pt x="492" y="2735"/>
                  <a:pt x="538" y="2798"/>
                </a:cubicBezTo>
                <a:cubicBezTo>
                  <a:pt x="598" y="2881"/>
                  <a:pt x="642" y="2959"/>
                  <a:pt x="745" y="2984"/>
                </a:cubicBezTo>
                <a:cubicBezTo>
                  <a:pt x="822" y="3031"/>
                  <a:pt x="912" y="3076"/>
                  <a:pt x="1003" y="3087"/>
                </a:cubicBezTo>
                <a:cubicBezTo>
                  <a:pt x="1079" y="3096"/>
                  <a:pt x="1231" y="3108"/>
                  <a:pt x="1231" y="3108"/>
                </a:cubicBezTo>
                <a:cubicBezTo>
                  <a:pt x="1405" y="3101"/>
                  <a:pt x="1481" y="3104"/>
                  <a:pt x="1624" y="3056"/>
                </a:cubicBezTo>
                <a:cubicBezTo>
                  <a:pt x="1665" y="3042"/>
                  <a:pt x="1700" y="3038"/>
                  <a:pt x="1738" y="3015"/>
                </a:cubicBezTo>
                <a:cubicBezTo>
                  <a:pt x="1798" y="2979"/>
                  <a:pt x="1852" y="2937"/>
                  <a:pt x="1903" y="2891"/>
                </a:cubicBezTo>
                <a:cubicBezTo>
                  <a:pt x="1932" y="2865"/>
                  <a:pt x="1986" y="2808"/>
                  <a:pt x="1986" y="2808"/>
                </a:cubicBezTo>
                <a:cubicBezTo>
                  <a:pt x="2005" y="2748"/>
                  <a:pt x="2045" y="2705"/>
                  <a:pt x="2079" y="2653"/>
                </a:cubicBezTo>
                <a:cubicBezTo>
                  <a:pt x="2111" y="2605"/>
                  <a:pt x="2137" y="2549"/>
                  <a:pt x="2162" y="2498"/>
                </a:cubicBezTo>
                <a:cubicBezTo>
                  <a:pt x="2175" y="2472"/>
                  <a:pt x="2180" y="2441"/>
                  <a:pt x="2193" y="2415"/>
                </a:cubicBezTo>
                <a:cubicBezTo>
                  <a:pt x="2270" y="2259"/>
                  <a:pt x="2345" y="2101"/>
                  <a:pt x="2451" y="1960"/>
                </a:cubicBezTo>
                <a:cubicBezTo>
                  <a:pt x="2455" y="1946"/>
                  <a:pt x="2457" y="1932"/>
                  <a:pt x="2462" y="1919"/>
                </a:cubicBezTo>
                <a:cubicBezTo>
                  <a:pt x="2474" y="1891"/>
                  <a:pt x="2503" y="1836"/>
                  <a:pt x="2503" y="1836"/>
                </a:cubicBezTo>
                <a:cubicBezTo>
                  <a:pt x="2537" y="1692"/>
                  <a:pt x="2484" y="1900"/>
                  <a:pt x="2534" y="1753"/>
                </a:cubicBezTo>
                <a:cubicBezTo>
                  <a:pt x="2586" y="1599"/>
                  <a:pt x="2528" y="1726"/>
                  <a:pt x="2575" y="1629"/>
                </a:cubicBezTo>
                <a:cubicBezTo>
                  <a:pt x="2592" y="1547"/>
                  <a:pt x="2578" y="1593"/>
                  <a:pt x="2627" y="1495"/>
                </a:cubicBezTo>
                <a:cubicBezTo>
                  <a:pt x="2634" y="1481"/>
                  <a:pt x="2648" y="1453"/>
                  <a:pt x="2648" y="1453"/>
                </a:cubicBezTo>
                <a:cubicBezTo>
                  <a:pt x="2659" y="1397"/>
                  <a:pt x="2672" y="1342"/>
                  <a:pt x="2689" y="1288"/>
                </a:cubicBezTo>
                <a:cubicBezTo>
                  <a:pt x="2683" y="1058"/>
                  <a:pt x="2709" y="724"/>
                  <a:pt x="2565" y="512"/>
                </a:cubicBezTo>
                <a:cubicBezTo>
                  <a:pt x="2542" y="442"/>
                  <a:pt x="2487" y="400"/>
                  <a:pt x="2441" y="346"/>
                </a:cubicBezTo>
                <a:cubicBezTo>
                  <a:pt x="2433" y="336"/>
                  <a:pt x="2429" y="323"/>
                  <a:pt x="2420" y="315"/>
                </a:cubicBezTo>
                <a:cubicBezTo>
                  <a:pt x="2401" y="299"/>
                  <a:pt x="2358" y="274"/>
                  <a:pt x="2358" y="274"/>
                </a:cubicBezTo>
                <a:cubicBezTo>
                  <a:pt x="2322" y="218"/>
                  <a:pt x="2260" y="207"/>
                  <a:pt x="2203" y="181"/>
                </a:cubicBezTo>
                <a:cubicBezTo>
                  <a:pt x="2175" y="168"/>
                  <a:pt x="2150" y="148"/>
                  <a:pt x="2120" y="140"/>
                </a:cubicBezTo>
                <a:cubicBezTo>
                  <a:pt x="2112" y="138"/>
                  <a:pt x="2014" y="103"/>
                  <a:pt x="1996" y="119"/>
                </a:cubicBezTo>
                <a:close/>
              </a:path>
            </a:pathLst>
          </a:custGeom>
          <a:noFill/>
          <a:ln w="76320">
            <a:solidFill>
              <a:srgbClr val="cc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4" name=""/>
          <p:cNvGrpSpPr/>
          <p:nvPr/>
        </p:nvGrpSpPr>
        <p:grpSpPr>
          <a:xfrm>
            <a:off x="5257800" y="2666880"/>
            <a:ext cx="685800" cy="914400"/>
            <a:chOff x="5257800" y="2666880"/>
            <a:chExt cx="685800" cy="914400"/>
          </a:xfrm>
        </p:grpSpPr>
        <p:sp>
          <p:nvSpPr>
            <p:cNvPr id="425" name=""/>
            <p:cNvSpPr/>
            <p:nvPr/>
          </p:nvSpPr>
          <p:spPr>
            <a:xfrm>
              <a:off x="5303880" y="2666880"/>
              <a:ext cx="593640" cy="639720"/>
            </a:xfrm>
            <a:prstGeom prst="blockArc">
              <a:avLst>
                <a:gd name="adj1" fmla="val 10612180"/>
                <a:gd name="adj2" fmla="val 187820"/>
                <a:gd name="adj3" fmla="val 19991"/>
              </a:avLst>
            </a:prstGeom>
            <a:gradFill rotWithShape="0">
              <a:gsLst>
                <a:gs pos="0">
                  <a:srgbClr val="00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5257800" y="2987640"/>
              <a:ext cx="685800" cy="593640"/>
            </a:xfrm>
            <a:prstGeom prst="rect">
              <a:avLst/>
            </a:prstGeom>
            <a:gradFill rotWithShape="0">
              <a:gsLst>
                <a:gs pos="0">
                  <a:srgbClr val="0f0f0f"/>
                </a:gs>
                <a:gs pos="50000">
                  <a:srgbClr val="ffffff"/>
                </a:gs>
                <a:gs pos="100000">
                  <a:srgbClr val="0f0f0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7" name=""/>
            <p:cNvGrpSpPr/>
            <p:nvPr/>
          </p:nvGrpSpPr>
          <p:grpSpPr>
            <a:xfrm>
              <a:off x="5486400" y="3048120"/>
              <a:ext cx="228600" cy="457200"/>
              <a:chOff x="5486400" y="3048120"/>
              <a:chExt cx="228600" cy="457200"/>
            </a:xfrm>
          </p:grpSpPr>
          <p:sp>
            <p:nvSpPr>
              <p:cNvPr id="428" name=""/>
              <p:cNvSpPr/>
              <p:nvPr/>
            </p:nvSpPr>
            <p:spPr>
              <a:xfrm flipV="1">
                <a:off x="5486400" y="3259080"/>
                <a:ext cx="228600" cy="246240"/>
              </a:xfrm>
              <a:custGeom>
                <a:avLst/>
                <a:gdLst>
                  <a:gd name="textAreaLeft" fmla="*/ 50040 w 228600"/>
                  <a:gd name="textAreaRight" fmla="*/ 178560 w 228600"/>
                  <a:gd name="textAreaTop" fmla="*/ 54000 h 246240"/>
                  <a:gd name="textAreaBottom" fmla="*/ 192240 h 246240"/>
                </a:gdLst>
                <a:ahLst/>
                <a:rect l="textAreaLeft" t="textAreaTop" r="textAreaRight" b="textAreaBottom"/>
                <a:pathLst>
                  <a:path w="21600" h="21600">
                    <a:moveTo>
                      <a:pt x="0" y="0"/>
                    </a:moveTo>
                    <a:lnTo>
                      <a:pt x="21600" y="0"/>
                    </a:lnTo>
                    <a:lnTo>
                      <a:pt x="16200" y="21600"/>
                    </a:lnTo>
                    <a:lnTo>
                      <a:pt x="5400" y="2160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V="1">
                <a:off x="5486400" y="3048120"/>
                <a:ext cx="228600" cy="2462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B9F6FFAB-816B-4FCB-9353-DF1FB5BEFB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ff9"/>
        </a:solidFill>
      </p:bgPr>
    </p:bg>
    <p:spTree>
      <p:nvGrpSpPr>
        <p:cNvPr id="1" name=""/>
        <p:cNvGrpSpPr/>
        <p:nvPr/>
      </p:nvGrpSpPr>
      <p:grpSpPr>
        <a:xfrm>
          <a:off x="0" y="0"/>
          <a:ext cx="0" cy="0"/>
          <a:chOff x="0" y="0"/>
          <a:chExt cx="0" cy="0"/>
        </a:xfrm>
      </p:grpSpPr>
      <p:grpSp>
        <p:nvGrpSpPr>
          <p:cNvPr id="430" name=""/>
          <p:cNvGrpSpPr/>
          <p:nvPr/>
        </p:nvGrpSpPr>
        <p:grpSpPr>
          <a:xfrm>
            <a:off x="1448280" y="5257440"/>
            <a:ext cx="5943240" cy="762480"/>
            <a:chOff x="1448280" y="5257440"/>
            <a:chExt cx="5943240" cy="762480"/>
          </a:xfrm>
        </p:grpSpPr>
        <p:grpSp>
          <p:nvGrpSpPr>
            <p:cNvPr id="431" name=""/>
            <p:cNvGrpSpPr/>
            <p:nvPr/>
          </p:nvGrpSpPr>
          <p:grpSpPr>
            <a:xfrm>
              <a:off x="1448280" y="5257800"/>
              <a:ext cx="456840" cy="685800"/>
              <a:chOff x="1448280" y="5257800"/>
              <a:chExt cx="456840" cy="685800"/>
            </a:xfrm>
          </p:grpSpPr>
          <p:grpSp>
            <p:nvGrpSpPr>
              <p:cNvPr id="432" name=""/>
              <p:cNvGrpSpPr/>
              <p:nvPr/>
            </p:nvGrpSpPr>
            <p:grpSpPr>
              <a:xfrm>
                <a:off x="1448280" y="5486400"/>
                <a:ext cx="456840" cy="457200"/>
                <a:chOff x="1448280" y="5486400"/>
                <a:chExt cx="456840" cy="457200"/>
              </a:xfrm>
            </p:grpSpPr>
            <p:sp>
              <p:nvSpPr>
                <p:cNvPr id="433" name=""/>
                <p:cNvSpPr/>
                <p:nvPr/>
              </p:nvSpPr>
              <p:spPr>
                <a:xfrm rot="5400000">
                  <a:off x="1333800" y="5600520"/>
                  <a:ext cx="457200" cy="228600"/>
                </a:xfrm>
                <a:prstGeom prst="triangle">
                  <a:avLst>
                    <a:gd name="adj" fmla="val 50000"/>
                  </a:avLst>
                </a:prstGeom>
                <a:gradFill rotWithShape="0">
                  <a:gsLst>
                    <a:gs pos="0">
                      <a:srgbClr val="5e5e75"/>
                    </a:gs>
                    <a:gs pos="100000">
                      <a:srgbClr val="ccccff"/>
                    </a:gs>
                  </a:gsLst>
                  <a:lin ang="135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34" name=""/>
                <p:cNvSpPr/>
                <p:nvPr/>
              </p:nvSpPr>
              <p:spPr>
                <a:xfrm flipV="1" rot="5400000">
                  <a:off x="1562400" y="5600880"/>
                  <a:ext cx="457200" cy="228240"/>
                </a:xfrm>
                <a:prstGeom prst="triangle">
                  <a:avLst>
                    <a:gd name="adj" fmla="val 50000"/>
                  </a:avLst>
                </a:prstGeom>
                <a:gradFill rotWithShape="0">
                  <a:gsLst>
                    <a:gs pos="0">
                      <a:srgbClr val="5e5e75"/>
                    </a:gs>
                    <a:gs pos="100000">
                      <a:srgbClr val="ccccff"/>
                    </a:gs>
                  </a:gsLst>
                  <a:lin ang="135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435" name=""/>
              <p:cNvSpPr/>
              <p:nvPr/>
            </p:nvSpPr>
            <p:spPr>
              <a:xfrm flipV="1">
                <a:off x="1676520" y="525780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6" name=""/>
            <p:cNvGrpSpPr/>
            <p:nvPr/>
          </p:nvGrpSpPr>
          <p:grpSpPr>
            <a:xfrm>
              <a:off x="4496040" y="5257440"/>
              <a:ext cx="762120" cy="762480"/>
              <a:chOff x="4496040" y="5257440"/>
              <a:chExt cx="762120" cy="762480"/>
            </a:xfrm>
          </p:grpSpPr>
          <p:grpSp>
            <p:nvGrpSpPr>
              <p:cNvPr id="437" name=""/>
              <p:cNvGrpSpPr/>
              <p:nvPr/>
            </p:nvGrpSpPr>
            <p:grpSpPr>
              <a:xfrm>
                <a:off x="4496040" y="5486400"/>
                <a:ext cx="762120" cy="533520"/>
                <a:chOff x="4496040" y="5486400"/>
                <a:chExt cx="762120" cy="533520"/>
              </a:xfrm>
            </p:grpSpPr>
            <p:sp>
              <p:nvSpPr>
                <p:cNvPr id="438" name=""/>
                <p:cNvSpPr/>
                <p:nvPr/>
              </p:nvSpPr>
              <p:spPr>
                <a:xfrm>
                  <a:off x="4953240" y="5486400"/>
                  <a:ext cx="304920" cy="152280"/>
                </a:xfrm>
                <a:prstGeom prst="rect">
                  <a:avLst/>
                </a:prstGeom>
                <a:gradFill rotWithShape="0">
                  <a:gsLst>
                    <a:gs pos="0">
                      <a:srgbClr val="5e5e75"/>
                    </a:gs>
                    <a:gs pos="100000">
                      <a:srgbClr val="ccccff"/>
                    </a:gs>
                  </a:gsLst>
                  <a:lin ang="135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496040" y="5715000"/>
                  <a:ext cx="304920" cy="152280"/>
                </a:xfrm>
                <a:prstGeom prst="rect">
                  <a:avLst/>
                </a:prstGeom>
                <a:gradFill rotWithShape="0">
                  <a:gsLst>
                    <a:gs pos="0">
                      <a:srgbClr val="5e5e75"/>
                    </a:gs>
                    <a:gs pos="100000">
                      <a:srgbClr val="ccccff"/>
                    </a:gs>
                  </a:gsLst>
                  <a:lin ang="135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648320" y="5486400"/>
                  <a:ext cx="533520" cy="533520"/>
                </a:xfrm>
                <a:prstGeom prst="ellipse">
                  <a:avLst/>
                </a:prstGeom>
                <a:gradFill rotWithShape="0">
                  <a:gsLst>
                    <a:gs pos="0">
                      <a:srgbClr val="5e5e75"/>
                    </a:gs>
                    <a:gs pos="100000">
                      <a:srgbClr val="ccccff"/>
                    </a:gs>
                  </a:gsLst>
                  <a:lin ang="135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flipV="1">
                <a:off x="4953240" y="525744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2" name=""/>
            <p:cNvGrpSpPr/>
            <p:nvPr/>
          </p:nvGrpSpPr>
          <p:grpSpPr>
            <a:xfrm>
              <a:off x="6934320" y="5257440"/>
              <a:ext cx="457200" cy="762120"/>
              <a:chOff x="6934320" y="5257440"/>
              <a:chExt cx="457200" cy="762120"/>
            </a:xfrm>
          </p:grpSpPr>
          <p:sp>
            <p:nvSpPr>
              <p:cNvPr id="443" name=""/>
              <p:cNvSpPr/>
              <p:nvPr/>
            </p:nvSpPr>
            <p:spPr>
              <a:xfrm flipV="1">
                <a:off x="7010640" y="5714280"/>
                <a:ext cx="304920" cy="304920"/>
              </a:xfrm>
              <a:custGeom>
                <a:avLst/>
                <a:gdLst>
                  <a:gd name="textAreaLeft" fmla="*/ 66960 w 304920"/>
                  <a:gd name="textAreaRight" fmla="*/ 237960 w 304920"/>
                  <a:gd name="textAreaTop" fmla="*/ 66960 h 304920"/>
                  <a:gd name="textAreaBottom" fmla="*/ 237960 h 30492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5e5e75"/>
                  </a:gs>
                  <a:gs pos="100000">
                    <a:srgbClr val="ccccf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6934320" y="5486400"/>
                <a:ext cx="457200" cy="457200"/>
              </a:xfrm>
              <a:prstGeom prst="ellipse">
                <a:avLst/>
              </a:prstGeom>
              <a:gradFill rotWithShape="0">
                <a:gsLst>
                  <a:gs pos="0">
                    <a:srgbClr val="5e5e75"/>
                  </a:gs>
                  <a:gs pos="100000">
                    <a:srgbClr val="ccccff"/>
                  </a:gs>
                </a:gsLst>
                <a:lin ang="135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V="1">
                <a:off x="7162920" y="525744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6" name=""/>
            <p:cNvGrpSpPr/>
            <p:nvPr/>
          </p:nvGrpSpPr>
          <p:grpSpPr>
            <a:xfrm>
              <a:off x="2515320" y="5257800"/>
              <a:ext cx="456840" cy="685800"/>
              <a:chOff x="2515320" y="5257800"/>
              <a:chExt cx="456840" cy="685800"/>
            </a:xfrm>
          </p:grpSpPr>
          <p:grpSp>
            <p:nvGrpSpPr>
              <p:cNvPr id="447" name=""/>
              <p:cNvGrpSpPr/>
              <p:nvPr/>
            </p:nvGrpSpPr>
            <p:grpSpPr>
              <a:xfrm>
                <a:off x="2515320" y="5486400"/>
                <a:ext cx="456840" cy="457200"/>
                <a:chOff x="2515320" y="5486400"/>
                <a:chExt cx="456840" cy="457200"/>
              </a:xfrm>
            </p:grpSpPr>
            <p:sp>
              <p:nvSpPr>
                <p:cNvPr id="448" name=""/>
                <p:cNvSpPr/>
                <p:nvPr/>
              </p:nvSpPr>
              <p:spPr>
                <a:xfrm rot="5400000">
                  <a:off x="2400840" y="5600520"/>
                  <a:ext cx="457200" cy="228600"/>
                </a:xfrm>
                <a:prstGeom prst="triangle">
                  <a:avLst>
                    <a:gd name="adj" fmla="val 50000"/>
                  </a:avLst>
                </a:prstGeom>
                <a:gradFill rotWithShape="0">
                  <a:gsLst>
                    <a:gs pos="0">
                      <a:srgbClr val="5e5e75"/>
                    </a:gs>
                    <a:gs pos="100000">
                      <a:srgbClr val="ccccff"/>
                    </a:gs>
                  </a:gsLst>
                  <a:lin ang="135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49" name=""/>
                <p:cNvSpPr/>
                <p:nvPr/>
              </p:nvSpPr>
              <p:spPr>
                <a:xfrm flipV="1" rot="5400000">
                  <a:off x="2629440" y="5600880"/>
                  <a:ext cx="457200" cy="228240"/>
                </a:xfrm>
                <a:prstGeom prst="triangle">
                  <a:avLst>
                    <a:gd name="adj" fmla="val 50000"/>
                  </a:avLst>
                </a:prstGeom>
                <a:gradFill rotWithShape="0">
                  <a:gsLst>
                    <a:gs pos="0">
                      <a:srgbClr val="5e5e75"/>
                    </a:gs>
                    <a:gs pos="100000">
                      <a:srgbClr val="ccccff"/>
                    </a:gs>
                  </a:gsLst>
                  <a:lin ang="135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450" name=""/>
              <p:cNvSpPr/>
              <p:nvPr/>
            </p:nvSpPr>
            <p:spPr>
              <a:xfrm flipV="1">
                <a:off x="2743560" y="525780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1" name=""/>
            <p:cNvGrpSpPr/>
            <p:nvPr/>
          </p:nvGrpSpPr>
          <p:grpSpPr>
            <a:xfrm>
              <a:off x="3582000" y="5257800"/>
              <a:ext cx="456840" cy="685800"/>
              <a:chOff x="3582000" y="5257800"/>
              <a:chExt cx="456840" cy="685800"/>
            </a:xfrm>
          </p:grpSpPr>
          <p:grpSp>
            <p:nvGrpSpPr>
              <p:cNvPr id="452" name=""/>
              <p:cNvGrpSpPr/>
              <p:nvPr/>
            </p:nvGrpSpPr>
            <p:grpSpPr>
              <a:xfrm>
                <a:off x="3582000" y="5486400"/>
                <a:ext cx="456840" cy="457200"/>
                <a:chOff x="3582000" y="5486400"/>
                <a:chExt cx="456840" cy="457200"/>
              </a:xfrm>
            </p:grpSpPr>
            <p:sp>
              <p:nvSpPr>
                <p:cNvPr id="453" name=""/>
                <p:cNvSpPr/>
                <p:nvPr/>
              </p:nvSpPr>
              <p:spPr>
                <a:xfrm rot="5400000">
                  <a:off x="3467520" y="5600520"/>
                  <a:ext cx="457200" cy="228600"/>
                </a:xfrm>
                <a:prstGeom prst="triangle">
                  <a:avLst>
                    <a:gd name="adj" fmla="val 50000"/>
                  </a:avLst>
                </a:prstGeom>
                <a:gradFill rotWithShape="0">
                  <a:gsLst>
                    <a:gs pos="0">
                      <a:srgbClr val="5e5e75"/>
                    </a:gs>
                    <a:gs pos="100000">
                      <a:srgbClr val="ccccff"/>
                    </a:gs>
                  </a:gsLst>
                  <a:lin ang="135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54" name=""/>
                <p:cNvSpPr/>
                <p:nvPr/>
              </p:nvSpPr>
              <p:spPr>
                <a:xfrm flipV="1" rot="5400000">
                  <a:off x="3696120" y="5600880"/>
                  <a:ext cx="457200" cy="228240"/>
                </a:xfrm>
                <a:prstGeom prst="triangle">
                  <a:avLst>
                    <a:gd name="adj" fmla="val 50000"/>
                  </a:avLst>
                </a:prstGeom>
                <a:gradFill rotWithShape="0">
                  <a:gsLst>
                    <a:gs pos="0">
                      <a:srgbClr val="5e5e75"/>
                    </a:gs>
                    <a:gs pos="100000">
                      <a:srgbClr val="ccccff"/>
                    </a:gs>
                  </a:gsLst>
                  <a:lin ang="135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455" name=""/>
              <p:cNvSpPr/>
              <p:nvPr/>
            </p:nvSpPr>
            <p:spPr>
              <a:xfrm flipV="1">
                <a:off x="3810240" y="525780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6" name=""/>
            <p:cNvGrpSpPr/>
            <p:nvPr/>
          </p:nvGrpSpPr>
          <p:grpSpPr>
            <a:xfrm>
              <a:off x="5868000" y="5257800"/>
              <a:ext cx="456840" cy="685800"/>
              <a:chOff x="5868000" y="5257800"/>
              <a:chExt cx="456840" cy="685800"/>
            </a:xfrm>
          </p:grpSpPr>
          <p:grpSp>
            <p:nvGrpSpPr>
              <p:cNvPr id="457" name=""/>
              <p:cNvGrpSpPr/>
              <p:nvPr/>
            </p:nvGrpSpPr>
            <p:grpSpPr>
              <a:xfrm>
                <a:off x="5868000" y="5486400"/>
                <a:ext cx="456840" cy="457200"/>
                <a:chOff x="5868000" y="5486400"/>
                <a:chExt cx="456840" cy="457200"/>
              </a:xfrm>
            </p:grpSpPr>
            <p:sp>
              <p:nvSpPr>
                <p:cNvPr id="458" name=""/>
                <p:cNvSpPr/>
                <p:nvPr/>
              </p:nvSpPr>
              <p:spPr>
                <a:xfrm rot="5400000">
                  <a:off x="5753520" y="5600520"/>
                  <a:ext cx="457200" cy="228600"/>
                </a:xfrm>
                <a:prstGeom prst="triangle">
                  <a:avLst>
                    <a:gd name="adj" fmla="val 50000"/>
                  </a:avLst>
                </a:prstGeom>
                <a:gradFill rotWithShape="0">
                  <a:gsLst>
                    <a:gs pos="0">
                      <a:srgbClr val="5e5e75"/>
                    </a:gs>
                    <a:gs pos="100000">
                      <a:srgbClr val="ccccff"/>
                    </a:gs>
                  </a:gsLst>
                  <a:lin ang="135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59" name=""/>
                <p:cNvSpPr/>
                <p:nvPr/>
              </p:nvSpPr>
              <p:spPr>
                <a:xfrm flipV="1" rot="5400000">
                  <a:off x="5982120" y="5600880"/>
                  <a:ext cx="457200" cy="228240"/>
                </a:xfrm>
                <a:prstGeom prst="triangle">
                  <a:avLst>
                    <a:gd name="adj" fmla="val 50000"/>
                  </a:avLst>
                </a:prstGeom>
                <a:gradFill rotWithShape="0">
                  <a:gsLst>
                    <a:gs pos="0">
                      <a:srgbClr val="5e5e75"/>
                    </a:gs>
                    <a:gs pos="100000">
                      <a:srgbClr val="ccccff"/>
                    </a:gs>
                  </a:gsLst>
                  <a:lin ang="135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460" name=""/>
              <p:cNvSpPr/>
              <p:nvPr/>
            </p:nvSpPr>
            <p:spPr>
              <a:xfrm flipV="1">
                <a:off x="6096240" y="525780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61" name=""/>
          <p:cNvGrpSpPr/>
          <p:nvPr/>
        </p:nvGrpSpPr>
        <p:grpSpPr>
          <a:xfrm>
            <a:off x="1219320" y="3886200"/>
            <a:ext cx="6781680" cy="1447920"/>
            <a:chOff x="1219320" y="3886200"/>
            <a:chExt cx="6781680" cy="1447920"/>
          </a:xfrm>
        </p:grpSpPr>
        <p:sp>
          <p:nvSpPr>
            <p:cNvPr id="462" name=""/>
            <p:cNvSpPr/>
            <p:nvPr/>
          </p:nvSpPr>
          <p:spPr>
            <a:xfrm>
              <a:off x="1219320" y="3886200"/>
              <a:ext cx="6781680" cy="144792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7056000" y="4311720"/>
              <a:ext cx="9428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API</a:t>
              </a:r>
              <a:endParaRPr b="0" lang="en-US" sz="3600" spc="-1" strike="noStrike">
                <a:solidFill>
                  <a:srgbClr val="000000"/>
                </a:solidFill>
                <a:latin typeface="Times New Roman"/>
              </a:endParaRPr>
            </a:p>
          </p:txBody>
        </p:sp>
      </p:grpSp>
      <p:grpSp>
        <p:nvGrpSpPr>
          <p:cNvPr id="464" name=""/>
          <p:cNvGrpSpPr/>
          <p:nvPr/>
        </p:nvGrpSpPr>
        <p:grpSpPr>
          <a:xfrm>
            <a:off x="1219320" y="1219320"/>
            <a:ext cx="6811560" cy="2438280"/>
            <a:chOff x="1219320" y="1219320"/>
            <a:chExt cx="6811560" cy="2438280"/>
          </a:xfrm>
        </p:grpSpPr>
        <p:sp>
          <p:nvSpPr>
            <p:cNvPr id="465" name=""/>
            <p:cNvSpPr/>
            <p:nvPr/>
          </p:nvSpPr>
          <p:spPr>
            <a:xfrm>
              <a:off x="1219320" y="1219320"/>
              <a:ext cx="6781680" cy="2438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6173640" y="1981080"/>
              <a:ext cx="18572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InBatch</a:t>
              </a:r>
              <a:endParaRPr b="0" lang="en-US" sz="3600" spc="-1" strike="noStrike">
                <a:solidFill>
                  <a:srgbClr val="000000"/>
                </a:solidFill>
                <a:latin typeface="Times New Roman"/>
              </a:endParaRPr>
            </a:p>
          </p:txBody>
        </p:sp>
      </p:grpSp>
      <p:sp>
        <p:nvSpPr>
          <p:cNvPr id="467" name="PlaceHolder 1"/>
          <p:cNvSpPr>
            <a:spLocks noGrp="1"/>
          </p:cNvSpPr>
          <p:nvPr>
            <p:ph type="title"/>
          </p:nvPr>
        </p:nvSpPr>
        <p:spPr>
          <a:xfrm>
            <a:off x="762120" y="304560"/>
            <a:ext cx="624816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c00"/>
                </a:solidFill>
                <a:latin typeface="Arial"/>
              </a:rPr>
              <a:t>Problème ?</a:t>
            </a:r>
            <a:endParaRPr b="1" lang="en-US" sz="2800" spc="-1" strike="noStrike">
              <a:solidFill>
                <a:srgbClr val="ffcc00"/>
              </a:solidFill>
              <a:latin typeface="Arial"/>
            </a:endParaRPr>
          </a:p>
        </p:txBody>
      </p:sp>
      <p:grpSp>
        <p:nvGrpSpPr>
          <p:cNvPr id="468" name=""/>
          <p:cNvGrpSpPr/>
          <p:nvPr/>
        </p:nvGrpSpPr>
        <p:grpSpPr>
          <a:xfrm>
            <a:off x="1599840" y="4419720"/>
            <a:ext cx="3200760" cy="914400"/>
            <a:chOff x="1599840" y="4419720"/>
            <a:chExt cx="3200760" cy="914400"/>
          </a:xfrm>
        </p:grpSpPr>
        <p:sp>
          <p:nvSpPr>
            <p:cNvPr id="469" name=""/>
            <p:cNvSpPr/>
            <p:nvPr/>
          </p:nvSpPr>
          <p:spPr>
            <a:xfrm flipH="1">
              <a:off x="1599840" y="4419720"/>
              <a:ext cx="152280" cy="914400"/>
            </a:xfrm>
            <a:prstGeom prst="line">
              <a:avLst/>
            </a:prstGeom>
            <a:ln w="28440">
              <a:solidFill>
                <a:srgbClr val="3333cc"/>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1981080" y="4419720"/>
              <a:ext cx="762120" cy="914400"/>
            </a:xfrm>
            <a:prstGeom prst="line">
              <a:avLst/>
            </a:prstGeom>
            <a:ln w="28440">
              <a:solidFill>
                <a:srgbClr val="3333cc"/>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2209680" y="4419720"/>
              <a:ext cx="2590920" cy="914400"/>
            </a:xfrm>
            <a:prstGeom prst="line">
              <a:avLst/>
            </a:prstGeom>
            <a:ln w="28440">
              <a:solidFill>
                <a:srgbClr val="3333cc"/>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2" name=""/>
          <p:cNvGrpSpPr/>
          <p:nvPr/>
        </p:nvGrpSpPr>
        <p:grpSpPr>
          <a:xfrm>
            <a:off x="5105160" y="4419720"/>
            <a:ext cx="2286360" cy="914400"/>
            <a:chOff x="5105160" y="4419720"/>
            <a:chExt cx="2286360" cy="914400"/>
          </a:xfrm>
        </p:grpSpPr>
        <p:sp>
          <p:nvSpPr>
            <p:cNvPr id="473" name=""/>
            <p:cNvSpPr/>
            <p:nvPr/>
          </p:nvSpPr>
          <p:spPr>
            <a:xfrm>
              <a:off x="6705720" y="4419720"/>
              <a:ext cx="685800" cy="914400"/>
            </a:xfrm>
            <a:prstGeom prst="line">
              <a:avLst/>
            </a:prstGeom>
            <a:ln w="28440">
              <a:solidFill>
                <a:srgbClr val="3333cc"/>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H="1">
              <a:off x="6096240" y="4419720"/>
              <a:ext cx="533520" cy="914400"/>
            </a:xfrm>
            <a:prstGeom prst="line">
              <a:avLst/>
            </a:prstGeom>
            <a:ln w="28440">
              <a:solidFill>
                <a:srgbClr val="3333cc"/>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H="1">
              <a:off x="5105160" y="4419720"/>
              <a:ext cx="1295640" cy="914400"/>
            </a:xfrm>
            <a:prstGeom prst="line">
              <a:avLst/>
            </a:prstGeom>
            <a:ln w="28440">
              <a:solidFill>
                <a:srgbClr val="3333cc"/>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6" name=""/>
          <p:cNvGrpSpPr/>
          <p:nvPr/>
        </p:nvGrpSpPr>
        <p:grpSpPr>
          <a:xfrm>
            <a:off x="1905120" y="4419720"/>
            <a:ext cx="4114800" cy="914400"/>
            <a:chOff x="1905120" y="4419720"/>
            <a:chExt cx="4114800" cy="914400"/>
          </a:xfrm>
        </p:grpSpPr>
        <p:sp>
          <p:nvSpPr>
            <p:cNvPr id="477" name=""/>
            <p:cNvSpPr/>
            <p:nvPr/>
          </p:nvSpPr>
          <p:spPr>
            <a:xfrm flipH="1">
              <a:off x="1905120" y="4419720"/>
              <a:ext cx="2895840" cy="914400"/>
            </a:xfrm>
            <a:prstGeom prst="line">
              <a:avLst/>
            </a:prstGeom>
            <a:ln w="28440">
              <a:solidFill>
                <a:srgbClr val="3333cc"/>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H="1">
              <a:off x="3810240" y="4419720"/>
              <a:ext cx="1295280" cy="914400"/>
            </a:xfrm>
            <a:prstGeom prst="line">
              <a:avLst/>
            </a:prstGeom>
            <a:ln w="28440">
              <a:solidFill>
                <a:srgbClr val="3333cc"/>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5334120" y="4419720"/>
              <a:ext cx="685800" cy="914400"/>
            </a:xfrm>
            <a:prstGeom prst="line">
              <a:avLst/>
            </a:prstGeom>
            <a:ln w="28440">
              <a:solidFill>
                <a:srgbClr val="3333cc"/>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0" name=""/>
          <p:cNvGrpSpPr/>
          <p:nvPr/>
        </p:nvGrpSpPr>
        <p:grpSpPr>
          <a:xfrm>
            <a:off x="1752480" y="4419720"/>
            <a:ext cx="5334120" cy="914400"/>
            <a:chOff x="1752480" y="4419720"/>
            <a:chExt cx="5334120" cy="914400"/>
          </a:xfrm>
        </p:grpSpPr>
        <p:sp>
          <p:nvSpPr>
            <p:cNvPr id="481" name=""/>
            <p:cNvSpPr/>
            <p:nvPr/>
          </p:nvSpPr>
          <p:spPr>
            <a:xfrm flipH="1">
              <a:off x="1752480" y="4419720"/>
              <a:ext cx="1752480" cy="914400"/>
            </a:xfrm>
            <a:prstGeom prst="line">
              <a:avLst/>
            </a:prstGeom>
            <a:ln w="28440">
              <a:solidFill>
                <a:srgbClr val="3333cc"/>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657600" y="4419720"/>
              <a:ext cx="3429000" cy="914400"/>
            </a:xfrm>
            <a:prstGeom prst="line">
              <a:avLst/>
            </a:prstGeom>
            <a:ln w="28440">
              <a:solidFill>
                <a:srgbClr val="3333cc"/>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3" name=""/>
          <p:cNvSpPr/>
          <p:nvPr/>
        </p:nvSpPr>
        <p:spPr>
          <a:xfrm>
            <a:off x="1676520" y="4800600"/>
            <a:ext cx="2057400" cy="533520"/>
          </a:xfrm>
          <a:custGeom>
            <a:avLst/>
            <a:gdLst/>
            <a:ahLst/>
            <a:rect l="l" t="t" r="r" b="b"/>
            <a:pathLst>
              <a:path w="912" h="336">
                <a:moveTo>
                  <a:pt x="0" y="336"/>
                </a:moveTo>
                <a:cubicBezTo>
                  <a:pt x="20" y="298"/>
                  <a:pt x="68" y="163"/>
                  <a:pt x="119" y="110"/>
                </a:cubicBezTo>
                <a:cubicBezTo>
                  <a:pt x="170" y="57"/>
                  <a:pt x="222" y="32"/>
                  <a:pt x="305" y="17"/>
                </a:cubicBezTo>
                <a:cubicBezTo>
                  <a:pt x="388" y="2"/>
                  <a:pt x="528" y="0"/>
                  <a:pt x="616" y="17"/>
                </a:cubicBezTo>
                <a:cubicBezTo>
                  <a:pt x="704" y="34"/>
                  <a:pt x="784" y="67"/>
                  <a:pt x="833" y="120"/>
                </a:cubicBezTo>
                <a:cubicBezTo>
                  <a:pt x="882" y="173"/>
                  <a:pt x="896" y="291"/>
                  <a:pt x="912" y="336"/>
                </a:cubicBezTo>
              </a:path>
            </a:pathLst>
          </a:custGeom>
          <a:noFill/>
          <a:ln w="28440">
            <a:solidFill>
              <a:srgbClr val="ccccff"/>
            </a:solidFill>
            <a:round/>
            <a:headEnd len="med" type="stealth"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962520" y="4952880"/>
            <a:ext cx="914400" cy="381240"/>
          </a:xfrm>
          <a:custGeom>
            <a:avLst/>
            <a:gdLst/>
            <a:ahLst/>
            <a:rect l="l" t="t" r="r" b="b"/>
            <a:pathLst>
              <a:path w="912" h="336">
                <a:moveTo>
                  <a:pt x="0" y="336"/>
                </a:moveTo>
                <a:cubicBezTo>
                  <a:pt x="20" y="298"/>
                  <a:pt x="68" y="163"/>
                  <a:pt x="119" y="110"/>
                </a:cubicBezTo>
                <a:cubicBezTo>
                  <a:pt x="170" y="57"/>
                  <a:pt x="222" y="32"/>
                  <a:pt x="305" y="17"/>
                </a:cubicBezTo>
                <a:cubicBezTo>
                  <a:pt x="388" y="2"/>
                  <a:pt x="528" y="0"/>
                  <a:pt x="616" y="17"/>
                </a:cubicBezTo>
                <a:cubicBezTo>
                  <a:pt x="704" y="34"/>
                  <a:pt x="784" y="67"/>
                  <a:pt x="833" y="120"/>
                </a:cubicBezTo>
                <a:cubicBezTo>
                  <a:pt x="882" y="173"/>
                  <a:pt x="896" y="291"/>
                  <a:pt x="912" y="336"/>
                </a:cubicBezTo>
              </a:path>
            </a:pathLst>
          </a:custGeom>
          <a:noFill/>
          <a:ln w="28440">
            <a:solidFill>
              <a:srgbClr val="ccccff"/>
            </a:solidFill>
            <a:round/>
            <a:headEnd len="med" type="stealth"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5181480" y="4952880"/>
            <a:ext cx="1981440" cy="381240"/>
          </a:xfrm>
          <a:custGeom>
            <a:avLst/>
            <a:gdLst/>
            <a:ahLst/>
            <a:rect l="l" t="t" r="r" b="b"/>
            <a:pathLst>
              <a:path w="912" h="336">
                <a:moveTo>
                  <a:pt x="0" y="336"/>
                </a:moveTo>
                <a:cubicBezTo>
                  <a:pt x="20" y="298"/>
                  <a:pt x="68" y="163"/>
                  <a:pt x="119" y="110"/>
                </a:cubicBezTo>
                <a:cubicBezTo>
                  <a:pt x="170" y="57"/>
                  <a:pt x="222" y="32"/>
                  <a:pt x="305" y="17"/>
                </a:cubicBezTo>
                <a:cubicBezTo>
                  <a:pt x="388" y="2"/>
                  <a:pt x="528" y="0"/>
                  <a:pt x="616" y="17"/>
                </a:cubicBezTo>
                <a:cubicBezTo>
                  <a:pt x="704" y="34"/>
                  <a:pt x="784" y="67"/>
                  <a:pt x="833" y="120"/>
                </a:cubicBezTo>
                <a:cubicBezTo>
                  <a:pt x="882" y="173"/>
                  <a:pt x="896" y="291"/>
                  <a:pt x="912" y="336"/>
                </a:cubicBezTo>
              </a:path>
            </a:pathLst>
          </a:custGeom>
          <a:noFill/>
          <a:ln w="28440">
            <a:solidFill>
              <a:srgbClr val="ccccff"/>
            </a:solidFill>
            <a:round/>
            <a:headEnd len="med" type="stealth"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2743200" y="4648320"/>
            <a:ext cx="2286000" cy="685800"/>
          </a:xfrm>
          <a:custGeom>
            <a:avLst/>
            <a:gdLst/>
            <a:ahLst/>
            <a:rect l="l" t="t" r="r" b="b"/>
            <a:pathLst>
              <a:path w="912" h="336">
                <a:moveTo>
                  <a:pt x="0" y="336"/>
                </a:moveTo>
                <a:cubicBezTo>
                  <a:pt x="20" y="298"/>
                  <a:pt x="68" y="163"/>
                  <a:pt x="119" y="110"/>
                </a:cubicBezTo>
                <a:cubicBezTo>
                  <a:pt x="170" y="57"/>
                  <a:pt x="222" y="32"/>
                  <a:pt x="305" y="17"/>
                </a:cubicBezTo>
                <a:cubicBezTo>
                  <a:pt x="388" y="2"/>
                  <a:pt x="528" y="0"/>
                  <a:pt x="616" y="17"/>
                </a:cubicBezTo>
                <a:cubicBezTo>
                  <a:pt x="704" y="34"/>
                  <a:pt x="784" y="67"/>
                  <a:pt x="833" y="120"/>
                </a:cubicBezTo>
                <a:cubicBezTo>
                  <a:pt x="882" y="173"/>
                  <a:pt x="896" y="291"/>
                  <a:pt x="912" y="336"/>
                </a:cubicBezTo>
              </a:path>
            </a:pathLst>
          </a:custGeom>
          <a:noFill/>
          <a:ln w="28440">
            <a:solidFill>
              <a:srgbClr val="ccccff"/>
            </a:solidFill>
            <a:round/>
            <a:headEnd len="med" type="stealth"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1447920" y="4038480"/>
            <a:ext cx="838080" cy="381240"/>
          </a:xfrm>
          <a:prstGeom prst="rect">
            <a:avLst/>
          </a:prstGeom>
          <a:gradFill rotWithShape="0">
            <a:gsLst>
              <a:gs pos="0">
                <a:srgbClr val="3333cc"/>
              </a:gs>
              <a:gs pos="100000">
                <a:srgbClr val="17175e"/>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oser</a:t>
            </a:r>
            <a:endParaRPr b="0" lang="en-US" sz="1400" spc="-1" strike="noStrike">
              <a:solidFill>
                <a:srgbClr val="000000"/>
              </a:solidFill>
              <a:latin typeface="Times New Roman"/>
            </a:endParaRPr>
          </a:p>
        </p:txBody>
      </p:sp>
      <p:sp>
        <p:nvSpPr>
          <p:cNvPr id="488" name=""/>
          <p:cNvSpPr/>
          <p:nvPr/>
        </p:nvSpPr>
        <p:spPr>
          <a:xfrm>
            <a:off x="3048120" y="4038480"/>
            <a:ext cx="838080" cy="381240"/>
          </a:xfrm>
          <a:prstGeom prst="rect">
            <a:avLst/>
          </a:prstGeom>
          <a:gradFill rotWithShape="0">
            <a:gsLst>
              <a:gs pos="0">
                <a:srgbClr val="ffff00"/>
              </a:gs>
              <a:gs pos="100000">
                <a:srgbClr val="757500"/>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ire</a:t>
            </a:r>
            <a:endParaRPr b="0" lang="en-US" sz="1400" spc="-1" strike="noStrike">
              <a:solidFill>
                <a:srgbClr val="000000"/>
              </a:solidFill>
              <a:latin typeface="Times New Roman"/>
            </a:endParaRPr>
          </a:p>
        </p:txBody>
      </p:sp>
      <p:sp>
        <p:nvSpPr>
          <p:cNvPr id="489" name=""/>
          <p:cNvSpPr/>
          <p:nvPr/>
        </p:nvSpPr>
        <p:spPr>
          <a:xfrm>
            <a:off x="4648320" y="4038480"/>
            <a:ext cx="838080" cy="381240"/>
          </a:xfrm>
          <a:prstGeom prst="rect">
            <a:avLst/>
          </a:prstGeom>
          <a:gradFill rotWithShape="0">
            <a:gsLst>
              <a:gs pos="0">
                <a:srgbClr val="ffffff"/>
              </a:gs>
              <a:gs pos="100000">
                <a:srgbClr val="757575"/>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Vidanger</a:t>
            </a:r>
            <a:endParaRPr b="0" lang="en-US" sz="1400" spc="-1" strike="noStrike">
              <a:solidFill>
                <a:srgbClr val="000000"/>
              </a:solidFill>
              <a:latin typeface="Times New Roman"/>
            </a:endParaRPr>
          </a:p>
        </p:txBody>
      </p:sp>
      <p:sp>
        <p:nvSpPr>
          <p:cNvPr id="490" name=""/>
          <p:cNvSpPr/>
          <p:nvPr/>
        </p:nvSpPr>
        <p:spPr>
          <a:xfrm>
            <a:off x="6248520" y="4038480"/>
            <a:ext cx="838080" cy="381240"/>
          </a:xfrm>
          <a:prstGeom prst="rect">
            <a:avLst/>
          </a:prstGeom>
          <a:gradFill rotWithShape="0">
            <a:gsLst>
              <a:gs pos="0">
                <a:srgbClr val="ffffff"/>
              </a:gs>
              <a:gs pos="100000">
                <a:srgbClr val="757575"/>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élanger</a:t>
            </a:r>
            <a:endParaRPr b="0" lang="en-US" sz="1400" spc="-1" strike="noStrike">
              <a:solidFill>
                <a:srgbClr val="000000"/>
              </a:solidFill>
              <a:latin typeface="Times New Roman"/>
            </a:endParaRPr>
          </a:p>
        </p:txBody>
      </p:sp>
      <p:sp>
        <p:nvSpPr>
          <p:cNvPr id="491" name=""/>
          <p:cNvSpPr/>
          <p:nvPr/>
        </p:nvSpPr>
        <p:spPr>
          <a:xfrm>
            <a:off x="1752480" y="3581280"/>
            <a:ext cx="304920" cy="381240"/>
          </a:xfrm>
          <a:prstGeom prst="upDownArrow">
            <a:avLst>
              <a:gd name="adj1" fmla="val 50000"/>
              <a:gd name="adj2" fmla="val 2489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1447920" y="3200400"/>
            <a:ext cx="838080" cy="380880"/>
          </a:xfrm>
          <a:prstGeom prst="rect">
            <a:avLst/>
          </a:prstGeom>
          <a:gradFill rotWithShape="0">
            <a:gsLst>
              <a:gs pos="0">
                <a:srgbClr val="3333cc"/>
              </a:gs>
              <a:gs pos="100000">
                <a:srgbClr val="17175e"/>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oser</a:t>
            </a:r>
            <a:endParaRPr b="0" lang="en-US" sz="1400" spc="-1" strike="noStrike">
              <a:solidFill>
                <a:srgbClr val="000000"/>
              </a:solidFill>
              <a:latin typeface="Times New Roman"/>
            </a:endParaRPr>
          </a:p>
        </p:txBody>
      </p:sp>
      <p:sp>
        <p:nvSpPr>
          <p:cNvPr id="493" name=""/>
          <p:cNvSpPr/>
          <p:nvPr/>
        </p:nvSpPr>
        <p:spPr>
          <a:xfrm>
            <a:off x="3352680" y="3581280"/>
            <a:ext cx="304920" cy="381240"/>
          </a:xfrm>
          <a:prstGeom prst="upDownArrow">
            <a:avLst>
              <a:gd name="adj1" fmla="val 50000"/>
              <a:gd name="adj2" fmla="val 2489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4952880" y="3581280"/>
            <a:ext cx="304920" cy="381240"/>
          </a:xfrm>
          <a:prstGeom prst="upDownArrow">
            <a:avLst>
              <a:gd name="adj1" fmla="val 50000"/>
              <a:gd name="adj2" fmla="val 2489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6553080" y="3581280"/>
            <a:ext cx="304920" cy="381240"/>
          </a:xfrm>
          <a:prstGeom prst="upDownArrow">
            <a:avLst>
              <a:gd name="adj1" fmla="val 50000"/>
              <a:gd name="adj2" fmla="val 2489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3048120" y="3200400"/>
            <a:ext cx="838080" cy="380880"/>
          </a:xfrm>
          <a:prstGeom prst="rect">
            <a:avLst/>
          </a:prstGeom>
          <a:gradFill rotWithShape="0">
            <a:gsLst>
              <a:gs pos="0">
                <a:srgbClr val="ffff00"/>
              </a:gs>
              <a:gs pos="100000">
                <a:srgbClr val="757500"/>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ire</a:t>
            </a:r>
            <a:endParaRPr b="0" lang="en-US" sz="1400" spc="-1" strike="noStrike">
              <a:solidFill>
                <a:srgbClr val="000000"/>
              </a:solidFill>
              <a:latin typeface="Times New Roman"/>
            </a:endParaRPr>
          </a:p>
        </p:txBody>
      </p:sp>
      <p:sp>
        <p:nvSpPr>
          <p:cNvPr id="497" name=""/>
          <p:cNvSpPr/>
          <p:nvPr/>
        </p:nvSpPr>
        <p:spPr>
          <a:xfrm>
            <a:off x="4648320" y="3200400"/>
            <a:ext cx="838080" cy="380880"/>
          </a:xfrm>
          <a:prstGeom prst="rect">
            <a:avLst/>
          </a:prstGeom>
          <a:gradFill rotWithShape="0">
            <a:gsLst>
              <a:gs pos="0">
                <a:srgbClr val="ffffff"/>
              </a:gs>
              <a:gs pos="100000">
                <a:srgbClr val="757575"/>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Vidanger</a:t>
            </a:r>
            <a:endParaRPr b="0" lang="en-US" sz="1400" spc="-1" strike="noStrike">
              <a:solidFill>
                <a:srgbClr val="000000"/>
              </a:solidFill>
              <a:latin typeface="Times New Roman"/>
            </a:endParaRPr>
          </a:p>
        </p:txBody>
      </p:sp>
      <p:sp>
        <p:nvSpPr>
          <p:cNvPr id="498" name=""/>
          <p:cNvSpPr/>
          <p:nvPr/>
        </p:nvSpPr>
        <p:spPr>
          <a:xfrm>
            <a:off x="6248520" y="3200400"/>
            <a:ext cx="838080" cy="380880"/>
          </a:xfrm>
          <a:prstGeom prst="rect">
            <a:avLst/>
          </a:prstGeom>
          <a:gradFill rotWithShape="0">
            <a:gsLst>
              <a:gs pos="0">
                <a:srgbClr val="ffffff"/>
              </a:gs>
              <a:gs pos="100000">
                <a:srgbClr val="757575"/>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élanger</a:t>
            </a:r>
            <a:endParaRPr b="0" lang="en-US" sz="1400" spc="-1" strike="noStrike">
              <a:solidFill>
                <a:srgbClr val="000000"/>
              </a:solidFill>
              <a:latin typeface="Times New Roman"/>
            </a:endParaRPr>
          </a:p>
        </p:txBody>
      </p:sp>
      <p:sp>
        <p:nvSpPr>
          <p:cNvPr id="499" name=""/>
          <p:cNvSpPr/>
          <p:nvPr/>
        </p:nvSpPr>
        <p:spPr>
          <a:xfrm flipH="1">
            <a:off x="1904760" y="2666880"/>
            <a:ext cx="685800" cy="4572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2819520" y="2666880"/>
            <a:ext cx="685800" cy="4572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048120" y="2666880"/>
            <a:ext cx="3352680" cy="4572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H="1">
            <a:off x="3580920" y="2666880"/>
            <a:ext cx="1143000" cy="4572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4952880" y="2666880"/>
            <a:ext cx="228600" cy="4572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5181480" y="2666880"/>
            <a:ext cx="1600200" cy="4572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2133720" y="1447920"/>
            <a:ext cx="1371600" cy="1218960"/>
            <a:chOff x="2133720" y="1447920"/>
            <a:chExt cx="1371600" cy="1218960"/>
          </a:xfrm>
        </p:grpSpPr>
        <p:sp>
          <p:nvSpPr>
            <p:cNvPr id="506" name=""/>
            <p:cNvSpPr/>
            <p:nvPr/>
          </p:nvSpPr>
          <p:spPr>
            <a:xfrm>
              <a:off x="2133720" y="1447920"/>
              <a:ext cx="1371600" cy="1218960"/>
            </a:xfrm>
            <a:prstGeom prst="rect">
              <a:avLst/>
            </a:prstGeom>
            <a:solidFill>
              <a:srgbClr val="b2b2b2"/>
            </a:solidFill>
            <a:ln w="255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Recette A</a:t>
              </a:r>
              <a:endParaRPr b="0" lang="en-US" sz="1400" spc="-1" strike="noStrike">
                <a:solidFill>
                  <a:srgbClr val="000000"/>
                </a:solidFill>
                <a:latin typeface="Times New Roman"/>
              </a:endParaRPr>
            </a:p>
          </p:txBody>
        </p:sp>
        <p:grpSp>
          <p:nvGrpSpPr>
            <p:cNvPr id="507" name=""/>
            <p:cNvGrpSpPr/>
            <p:nvPr/>
          </p:nvGrpSpPr>
          <p:grpSpPr>
            <a:xfrm>
              <a:off x="2438640" y="1752480"/>
              <a:ext cx="761400" cy="837720"/>
              <a:chOff x="2438640" y="1752480"/>
              <a:chExt cx="761400" cy="837720"/>
            </a:xfrm>
          </p:grpSpPr>
          <p:sp>
            <p:nvSpPr>
              <p:cNvPr id="508" name=""/>
              <p:cNvSpPr/>
              <p:nvPr/>
            </p:nvSpPr>
            <p:spPr>
              <a:xfrm>
                <a:off x="2614680" y="1752480"/>
                <a:ext cx="0" cy="20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2497320" y="1953360"/>
                <a:ext cx="64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2497320" y="1986840"/>
                <a:ext cx="64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2439720" y="1783800"/>
                <a:ext cx="350640" cy="102600"/>
              </a:xfrm>
              <a:prstGeom prst="rect">
                <a:avLst/>
              </a:prstGeom>
              <a:gradFill rotWithShape="0">
                <a:gsLst>
                  <a:gs pos="0">
                    <a:srgbClr val="b2b2b2"/>
                  </a:gs>
                  <a:gs pos="100000">
                    <a:srgbClr val="525252"/>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2614680" y="1986840"/>
                <a:ext cx="0" cy="50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2438640" y="2288520"/>
                <a:ext cx="350640" cy="102600"/>
              </a:xfrm>
              <a:prstGeom prst="rect">
                <a:avLst/>
              </a:prstGeom>
              <a:gradFill rotWithShape="0">
                <a:gsLst>
                  <a:gs pos="0">
                    <a:srgbClr val="ffffff"/>
                  </a:gs>
                  <a:gs pos="100000">
                    <a:srgbClr val="757575"/>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2438640" y="2053800"/>
                <a:ext cx="350640" cy="102600"/>
              </a:xfrm>
              <a:prstGeom prst="rect">
                <a:avLst/>
              </a:prstGeom>
              <a:gradFill rotWithShape="0">
                <a:gsLst>
                  <a:gs pos="0">
                    <a:srgbClr val="00ff00"/>
                  </a:gs>
                  <a:gs pos="100000">
                    <a:srgbClr val="0075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025440" y="1986840"/>
                <a:ext cx="0" cy="50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2497320" y="2489760"/>
                <a:ext cx="64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2497320" y="2523240"/>
                <a:ext cx="64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2849400" y="2053800"/>
                <a:ext cx="350640" cy="102600"/>
              </a:xfrm>
              <a:prstGeom prst="rect">
                <a:avLst/>
              </a:prstGeom>
              <a:gradFill rotWithShape="0">
                <a:gsLst>
                  <a:gs pos="0">
                    <a:srgbClr val="ffff00"/>
                  </a:gs>
                  <a:gs pos="100000">
                    <a:srgbClr val="7575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556000" y="1919880"/>
                <a:ext cx="117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2556000" y="2221560"/>
                <a:ext cx="117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2966760" y="222156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2556000" y="2456280"/>
                <a:ext cx="117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2614680" y="252324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grpSp>
      </p:grpSp>
      <p:grpSp>
        <p:nvGrpSpPr>
          <p:cNvPr id="524" name=""/>
          <p:cNvGrpSpPr/>
          <p:nvPr/>
        </p:nvGrpSpPr>
        <p:grpSpPr>
          <a:xfrm>
            <a:off x="4191120" y="1447920"/>
            <a:ext cx="1371600" cy="1218960"/>
            <a:chOff x="4191120" y="1447920"/>
            <a:chExt cx="1371600" cy="1218960"/>
          </a:xfrm>
        </p:grpSpPr>
        <p:sp>
          <p:nvSpPr>
            <p:cNvPr id="525" name=""/>
            <p:cNvSpPr/>
            <p:nvPr/>
          </p:nvSpPr>
          <p:spPr>
            <a:xfrm>
              <a:off x="4191120" y="1447920"/>
              <a:ext cx="1371600" cy="1218960"/>
            </a:xfrm>
            <a:prstGeom prst="rect">
              <a:avLst/>
            </a:prstGeom>
            <a:solidFill>
              <a:srgbClr val="b2b2b2"/>
            </a:solidFill>
            <a:ln w="255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Recette B</a:t>
              </a:r>
              <a:endParaRPr b="0" lang="en-US" sz="1400" spc="-1" strike="noStrike">
                <a:solidFill>
                  <a:srgbClr val="000000"/>
                </a:solidFill>
                <a:latin typeface="Times New Roman"/>
              </a:endParaRPr>
            </a:p>
          </p:txBody>
        </p:sp>
        <p:grpSp>
          <p:nvGrpSpPr>
            <p:cNvPr id="526" name=""/>
            <p:cNvGrpSpPr/>
            <p:nvPr/>
          </p:nvGrpSpPr>
          <p:grpSpPr>
            <a:xfrm>
              <a:off x="4496400" y="1752480"/>
              <a:ext cx="761400" cy="838080"/>
              <a:chOff x="4496400" y="1752480"/>
              <a:chExt cx="761400" cy="838080"/>
            </a:xfrm>
          </p:grpSpPr>
          <p:sp>
            <p:nvSpPr>
              <p:cNvPr id="527" name=""/>
              <p:cNvSpPr/>
              <p:nvPr/>
            </p:nvSpPr>
            <p:spPr>
              <a:xfrm>
                <a:off x="5081760" y="1752480"/>
                <a:ext cx="0" cy="20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H="1">
                <a:off x="4554000" y="1953720"/>
                <a:ext cx="64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a:off x="4554000" y="1987200"/>
                <a:ext cx="64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4906080" y="1783800"/>
                <a:ext cx="350640" cy="102600"/>
              </a:xfrm>
              <a:prstGeom prst="rect">
                <a:avLst/>
              </a:prstGeom>
              <a:gradFill rotWithShape="0">
                <a:gsLst>
                  <a:gs pos="0">
                    <a:srgbClr val="b2b2b2"/>
                  </a:gs>
                  <a:gs pos="100000">
                    <a:srgbClr val="525252"/>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081760" y="1987200"/>
                <a:ext cx="0" cy="50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H="1">
                <a:off x="4907160" y="2288880"/>
                <a:ext cx="350640" cy="102600"/>
              </a:xfrm>
              <a:prstGeom prst="rect">
                <a:avLst/>
              </a:prstGeom>
              <a:gradFill rotWithShape="0">
                <a:gsLst>
                  <a:gs pos="0">
                    <a:srgbClr val="ffffff"/>
                  </a:gs>
                  <a:gs pos="100000">
                    <a:srgbClr val="757575"/>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a:off x="4907160" y="2054160"/>
                <a:ext cx="350640" cy="102600"/>
              </a:xfrm>
              <a:prstGeom prst="rect">
                <a:avLst/>
              </a:prstGeom>
              <a:gradFill rotWithShape="0">
                <a:gsLst>
                  <a:gs pos="0">
                    <a:srgbClr val="00ff00"/>
                  </a:gs>
                  <a:gs pos="100000">
                    <a:srgbClr val="0075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4671000" y="1987200"/>
                <a:ext cx="0" cy="50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flipH="1">
                <a:off x="4554000" y="2490480"/>
                <a:ext cx="64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flipH="1">
                <a:off x="4554000" y="2523600"/>
                <a:ext cx="64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flipH="1">
                <a:off x="4496400" y="2054160"/>
                <a:ext cx="350640" cy="102600"/>
              </a:xfrm>
              <a:prstGeom prst="rect">
                <a:avLst/>
              </a:prstGeom>
              <a:gradFill rotWithShape="0">
                <a:gsLst>
                  <a:gs pos="0">
                    <a:srgbClr val="ffff00"/>
                  </a:gs>
                  <a:gs pos="100000">
                    <a:srgbClr val="7575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H="1">
                <a:off x="5023440" y="1919880"/>
                <a:ext cx="117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H="1">
                <a:off x="5023440" y="2221920"/>
                <a:ext cx="117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H="1">
                <a:off x="4612320" y="222192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flipH="1">
                <a:off x="5023440" y="2456640"/>
                <a:ext cx="117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5081760" y="25236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grpSp>
      </p:grpSp>
      <p:sp>
        <p:nvSpPr>
          <p:cNvPr id="543" name=""/>
          <p:cNvSpPr/>
          <p:nvPr/>
        </p:nvSpPr>
        <p:spPr>
          <a:xfrm>
            <a:off x="5105520" y="838080"/>
            <a:ext cx="3504960" cy="3657600"/>
          </a:xfrm>
          <a:prstGeom prst="rect">
            <a:avLst/>
          </a:prstGeom>
          <a:solidFill>
            <a:srgbClr val="99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PlaceHolder 2"/>
          <p:cNvSpPr>
            <a:spLocks noGrp="1"/>
          </p:cNvSpPr>
          <p:nvPr>
            <p:ph/>
          </p:nvPr>
        </p:nvSpPr>
        <p:spPr>
          <a:xfrm>
            <a:off x="5143320" y="895320"/>
            <a:ext cx="3485880" cy="3828960"/>
          </a:xfrm>
          <a:prstGeom prst="rect">
            <a:avLst/>
          </a:prstGeom>
          <a:noFill/>
          <a:ln w="0">
            <a:noFill/>
          </a:ln>
        </p:spPr>
        <p:txBody>
          <a:bodyPr lIns="90000" rIns="90000" tIns="46800" bIns="46800" anchor="t">
            <a:normAutofit/>
          </a:bodyPr>
          <a:p>
            <a:pPr marL="343080" indent="-34308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00"/>
                </a:solidFill>
                <a:latin typeface="Arial"/>
              </a:rPr>
              <a:t>Logique de phase COMPLEXE</a:t>
            </a:r>
            <a:endParaRPr b="0" lang="en-US" sz="2800" spc="-1" strike="noStrike">
              <a:solidFill>
                <a:srgbClr val="ff6600"/>
              </a:solidFill>
              <a:latin typeface="Arial"/>
            </a:endParaRPr>
          </a:p>
          <a:p>
            <a:pPr marL="343080" indent="-34308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00"/>
                </a:solidFill>
                <a:latin typeface="Arial"/>
              </a:rPr>
              <a:t>PAS de SEGREGATION</a:t>
            </a:r>
            <a:endParaRPr b="0" lang="en-US" sz="2800" spc="-1" strike="noStrike">
              <a:solidFill>
                <a:srgbClr val="ff6600"/>
              </a:solidFill>
              <a:latin typeface="Arial"/>
            </a:endParaRPr>
          </a:p>
          <a:p>
            <a:pPr lvl="1" marL="743040" indent="-28584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6600"/>
                </a:solidFill>
                <a:latin typeface="Arial"/>
              </a:rPr>
              <a:t>VALIDATION difficile</a:t>
            </a:r>
            <a:endParaRPr b="0" lang="en-US" sz="2400" spc="-1" strike="noStrike">
              <a:solidFill>
                <a:srgbClr val="ff6600"/>
              </a:solidFill>
              <a:latin typeface="Arial"/>
            </a:endParaRPr>
          </a:p>
          <a:p>
            <a:pPr lvl="1" marL="743040" indent="-28584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6600"/>
                </a:solidFill>
                <a:latin typeface="Arial"/>
              </a:rPr>
              <a:t>MAINTENANCE délicate</a:t>
            </a:r>
            <a:endParaRPr b="0" lang="en-US" sz="2400" spc="-1" strike="noStrike">
              <a:solidFill>
                <a:srgbClr val="ff6600"/>
              </a:solidFill>
              <a:latin typeface="Arial"/>
            </a:endParaRPr>
          </a:p>
        </p:txBody>
      </p:sp>
      <p:sp>
        <p:nvSpPr>
          <p:cNvPr id="4" name="PlaceHolder 3"/>
          <p:cNvSpPr>
            <a:spLocks noGrp="1"/>
          </p:cNvSpPr>
          <p:nvPr>
            <p:ph type="sldNum" idx="3"/>
          </p:nvPr>
        </p:nvSpPr>
        <p:spPr/>
        <p:txBody>
          <a:bodyPr/>
          <a:p>
            <a:fld id="{C8914E04-237F-4A58-95EB-D229B97280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ff9"/>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762120" y="304560"/>
            <a:ext cx="624816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c00"/>
                </a:solidFill>
                <a:latin typeface="Arial"/>
              </a:rPr>
              <a:t>ASTRID ( survol )</a:t>
            </a:r>
            <a:endParaRPr b="1" lang="en-US" sz="2800" spc="-1" strike="noStrike">
              <a:solidFill>
                <a:srgbClr val="ffcc00"/>
              </a:solidFill>
              <a:latin typeface="Arial"/>
            </a:endParaRPr>
          </a:p>
        </p:txBody>
      </p:sp>
      <p:sp>
        <p:nvSpPr>
          <p:cNvPr id="546" name="PlaceHolder 2"/>
          <p:cNvSpPr>
            <a:spLocks noGrp="1"/>
          </p:cNvSpPr>
          <p:nvPr>
            <p:ph/>
          </p:nvPr>
        </p:nvSpPr>
        <p:spPr>
          <a:xfrm>
            <a:off x="990360" y="1143000"/>
            <a:ext cx="7924680" cy="5029200"/>
          </a:xfrm>
          <a:prstGeom prst="rect">
            <a:avLst/>
          </a:prstGeom>
          <a:noFill/>
          <a:ln w="0">
            <a:noFill/>
          </a:ln>
          <a:effectLst>
            <a:outerShdw dist="36147" dir="2700000" blurRad="0" rotWithShape="0">
              <a:srgbClr val="000000"/>
            </a:outerShdw>
          </a:effectLst>
        </p:spPr>
        <p:txBody>
          <a:bodyPr lIns="90000" rIns="90000" tIns="46800" bIns="46800" anchor="t">
            <a:normAutofit/>
          </a:bodyPr>
          <a:p>
            <a:pPr marL="343080" indent="-34308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6600"/>
                </a:solidFill>
                <a:latin typeface="Arial"/>
              </a:rPr>
              <a:t>Méthodologie Rhône-Poulenc</a:t>
            </a:r>
            <a:endParaRPr b="0" lang="en-US" sz="2800" spc="-1" strike="noStrike">
              <a:solidFill>
                <a:srgbClr val="ff6600"/>
              </a:solidFill>
              <a:latin typeface="Arial"/>
            </a:endParaRPr>
          </a:p>
          <a:p>
            <a:pPr lvl="1" marL="743040" indent="-285840">
              <a:spcBef>
                <a:spcPts val="601"/>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ccff"/>
                </a:solidFill>
                <a:latin typeface="Arial"/>
              </a:rPr>
              <a:t>A</a:t>
            </a:r>
            <a:r>
              <a:rPr b="1" lang="fr-FR" sz="2400" spc="-1" strike="noStrike">
                <a:solidFill>
                  <a:srgbClr val="ff6600"/>
                </a:solidFill>
                <a:latin typeface="Arial"/>
              </a:rPr>
              <a:t>nalyse </a:t>
            </a:r>
            <a:r>
              <a:rPr b="1" lang="fr-FR" sz="2400" spc="-1" strike="noStrike">
                <a:solidFill>
                  <a:srgbClr val="ccccff"/>
                </a:solidFill>
                <a:latin typeface="Arial"/>
              </a:rPr>
              <a:t>STR</a:t>
            </a:r>
            <a:r>
              <a:rPr b="1" lang="fr-FR" sz="2400" spc="-1" strike="noStrike">
                <a:solidFill>
                  <a:srgbClr val="ff6600"/>
                </a:solidFill>
                <a:latin typeface="Arial"/>
              </a:rPr>
              <a:t>ucturée pour l’</a:t>
            </a:r>
            <a:r>
              <a:rPr b="1" lang="fr-FR" sz="2400" spc="-1" strike="noStrike">
                <a:solidFill>
                  <a:srgbClr val="ccccff"/>
                </a:solidFill>
                <a:latin typeface="Arial"/>
              </a:rPr>
              <a:t>I</a:t>
            </a:r>
            <a:r>
              <a:rPr b="1" lang="fr-FR" sz="2400" spc="-1" strike="noStrike">
                <a:solidFill>
                  <a:srgbClr val="ff6600"/>
                </a:solidFill>
                <a:latin typeface="Arial"/>
              </a:rPr>
              <a:t>ndustrialisation des ateliers </a:t>
            </a:r>
            <a:r>
              <a:rPr b="1" lang="fr-FR" sz="2400" spc="-1" strike="noStrike">
                <a:solidFill>
                  <a:srgbClr val="ccccff"/>
                </a:solidFill>
                <a:latin typeface="Arial"/>
              </a:rPr>
              <a:t>D</a:t>
            </a:r>
            <a:r>
              <a:rPr b="1" lang="fr-FR" sz="2400" spc="-1" strike="noStrike">
                <a:solidFill>
                  <a:srgbClr val="ff6600"/>
                </a:solidFill>
                <a:latin typeface="Arial"/>
              </a:rPr>
              <a:t>iscontinus</a:t>
            </a:r>
            <a:endParaRPr b="0" lang="en-US" sz="2400" spc="-1" strike="noStrike">
              <a:solidFill>
                <a:srgbClr val="ff6600"/>
              </a:solidFill>
              <a:latin typeface="Arial"/>
            </a:endParaRPr>
          </a:p>
          <a:p>
            <a:pPr marL="343080" indent="-34308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6600"/>
                </a:solidFill>
                <a:latin typeface="Arial"/>
              </a:rPr>
              <a:t>Garantir</a:t>
            </a:r>
            <a:endParaRPr b="0" lang="en-US" sz="2800" spc="-1" strike="noStrike">
              <a:solidFill>
                <a:srgbClr val="ff6600"/>
              </a:solidFill>
              <a:latin typeface="Arial"/>
            </a:endParaRPr>
          </a:p>
          <a:p>
            <a:pPr lvl="1" marL="743040" indent="-28584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6600"/>
                </a:solidFill>
                <a:latin typeface="Arial"/>
              </a:rPr>
              <a:t>la sûreté de fonctionnement des installations</a:t>
            </a:r>
            <a:endParaRPr b="0" lang="en-US" sz="2400" spc="-1" strike="noStrike">
              <a:solidFill>
                <a:srgbClr val="ff6600"/>
              </a:solidFill>
              <a:latin typeface="Arial"/>
            </a:endParaRPr>
          </a:p>
          <a:p>
            <a:pPr lvl="1" marL="743040" indent="-28584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6600"/>
                </a:solidFill>
                <a:latin typeface="Arial"/>
              </a:rPr>
              <a:t>la pérennité des installations</a:t>
            </a:r>
            <a:endParaRPr b="0" lang="en-US" sz="2400" spc="-1" strike="noStrike">
              <a:solidFill>
                <a:srgbClr val="ff6600"/>
              </a:solidFill>
              <a:latin typeface="Arial"/>
            </a:endParaRPr>
          </a:p>
          <a:p>
            <a:pPr lvl="1" marL="743040" indent="-28584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6600"/>
                </a:solidFill>
                <a:latin typeface="Arial"/>
              </a:rPr>
              <a:t>la flexibilité des installations</a:t>
            </a:r>
            <a:endParaRPr b="0" lang="en-US" sz="2400" spc="-1" strike="noStrike">
              <a:solidFill>
                <a:srgbClr val="ff6600"/>
              </a:solidFill>
              <a:latin typeface="Arial"/>
            </a:endParaRPr>
          </a:p>
          <a:p>
            <a:pPr marL="343080" indent="-34308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6600"/>
                </a:solidFill>
                <a:latin typeface="Arial"/>
              </a:rPr>
              <a:t>Réduire les coûts de</a:t>
            </a:r>
            <a:endParaRPr b="0" lang="en-US" sz="2800" spc="-1" strike="noStrike">
              <a:solidFill>
                <a:srgbClr val="ff6600"/>
              </a:solidFill>
              <a:latin typeface="Arial"/>
            </a:endParaRPr>
          </a:p>
          <a:p>
            <a:pPr lvl="1" marL="743040" indent="-28584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6600"/>
                </a:solidFill>
                <a:latin typeface="Arial"/>
              </a:rPr>
              <a:t>mise en œuvre</a:t>
            </a:r>
            <a:endParaRPr b="0" lang="en-US" sz="2400" spc="-1" strike="noStrike">
              <a:solidFill>
                <a:srgbClr val="ff6600"/>
              </a:solidFill>
              <a:latin typeface="Arial"/>
            </a:endParaRPr>
          </a:p>
          <a:p>
            <a:pPr lvl="1" marL="743040" indent="-28584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6600"/>
                </a:solidFill>
                <a:latin typeface="Arial"/>
              </a:rPr>
              <a:t>validation</a:t>
            </a:r>
            <a:endParaRPr b="0" lang="en-US" sz="2400" spc="-1" strike="noStrike">
              <a:solidFill>
                <a:srgbClr val="ff6600"/>
              </a:solidFill>
              <a:latin typeface="Arial"/>
            </a:endParaRPr>
          </a:p>
          <a:p>
            <a:pPr lvl="1" marL="743040" indent="-28584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6600"/>
                </a:solidFill>
                <a:latin typeface="Arial"/>
              </a:rPr>
              <a:t>maintenance</a:t>
            </a:r>
            <a:endParaRPr b="0" lang="en-US" sz="2400" spc="-1" strike="noStrike">
              <a:solidFill>
                <a:srgbClr val="ff6600"/>
              </a:solidFill>
              <a:latin typeface="Arial"/>
            </a:endParaRPr>
          </a:p>
        </p:txBody>
      </p:sp>
      <p:sp>
        <p:nvSpPr>
          <p:cNvPr id="4" name="PlaceHolder 3"/>
          <p:cNvSpPr>
            <a:spLocks noGrp="1"/>
          </p:cNvSpPr>
          <p:nvPr>
            <p:ph type="sldNum" idx="3"/>
          </p:nvPr>
        </p:nvSpPr>
        <p:spPr/>
        <p:txBody>
          <a:bodyPr/>
          <a:p>
            <a:fld id="{481E702A-2C37-418C-90F3-D53663539E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ff9"/>
        </a:solidFill>
      </p:bgPr>
    </p:bg>
    <p:spTree>
      <p:nvGrpSpPr>
        <p:cNvPr id="1" name=""/>
        <p:cNvGrpSpPr/>
        <p:nvPr/>
      </p:nvGrpSpPr>
      <p:grpSpPr>
        <a:xfrm>
          <a:off x="0" y="0"/>
          <a:ext cx="0" cy="0"/>
          <a:chOff x="0" y="0"/>
          <a:chExt cx="0" cy="0"/>
        </a:xfrm>
      </p:grpSpPr>
      <p:graphicFrame>
        <p:nvGraphicFramePr>
          <p:cNvPr id="547" name=""/>
          <p:cNvGraphicFramePr/>
          <p:nvPr/>
        </p:nvGraphicFramePr>
        <p:xfrm>
          <a:off x="1698480" y="2003400"/>
          <a:ext cx="6954840" cy="3449520"/>
        </p:xfrm>
        <a:graphic>
          <a:graphicData uri="http://schemas.openxmlformats.org/presentationml/2006/ole">
            <p:oleObj progId="Word.Document.12" r:id="rId1" spid="">
              <p:embed/>
              <p:pic>
                <p:nvPicPr>
                  <p:cNvPr id="548" name="" descr=""/>
                  <p:cNvPicPr/>
                  <p:nvPr/>
                </p:nvPicPr>
                <p:blipFill>
                  <a:blip r:embed="rId2"/>
                  <a:stretch/>
                </p:blipFill>
                <p:spPr>
                  <a:xfrm>
                    <a:off x="1698480" y="2003400"/>
                    <a:ext cx="6954840" cy="3449520"/>
                  </a:xfrm>
                  <a:prstGeom prst="rect">
                    <a:avLst/>
                  </a:prstGeom>
                  <a:ln w="0">
                    <a:noFill/>
                  </a:ln>
                </p:spPr>
              </p:pic>
            </p:oleObj>
          </a:graphicData>
        </a:graphic>
      </p:graphicFrame>
      <p:sp>
        <p:nvSpPr>
          <p:cNvPr id="549" name=""/>
          <p:cNvSpPr/>
          <p:nvPr/>
        </p:nvSpPr>
        <p:spPr>
          <a:xfrm>
            <a:off x="762120" y="304920"/>
            <a:ext cx="624816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c00"/>
                </a:solidFill>
                <a:latin typeface="Arial"/>
              </a:rPr>
              <a:t>Comparatif Astrid / S88</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8400BC4F-3F38-48AE-8EAA-77D81C1F36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ff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304560"/>
            <a:ext cx="624816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c00"/>
                </a:solidFill>
                <a:latin typeface="Arial"/>
              </a:rPr>
              <a:t>Pourquoi tracer ?</a:t>
            </a:r>
            <a:endParaRPr b="1" lang="en-US" sz="2800" spc="-1" strike="noStrike">
              <a:solidFill>
                <a:srgbClr val="ffcc00"/>
              </a:solidFill>
              <a:latin typeface="Arial"/>
            </a:endParaRPr>
          </a:p>
        </p:txBody>
      </p:sp>
      <p:sp>
        <p:nvSpPr>
          <p:cNvPr id="61" name="PlaceHolder 2"/>
          <p:cNvSpPr>
            <a:spLocks noGrp="1"/>
          </p:cNvSpPr>
          <p:nvPr>
            <p:ph/>
          </p:nvPr>
        </p:nvSpPr>
        <p:spPr>
          <a:xfrm>
            <a:off x="990360" y="1143000"/>
            <a:ext cx="7924680" cy="5029200"/>
          </a:xfrm>
          <a:prstGeom prst="rect">
            <a:avLst/>
          </a:prstGeom>
          <a:noFill/>
          <a:ln w="0">
            <a:noFill/>
          </a:ln>
        </p:spPr>
        <p:txBody>
          <a:bodyPr lIns="90000" rIns="90000" tIns="46800" bIns="46800" anchor="t">
            <a:normAutofit/>
          </a:bodyPr>
          <a:p>
            <a:pPr marL="343080" indent="-343080">
              <a:lnSpc>
                <a:spcPct val="180000"/>
              </a:lnSpc>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6600"/>
                </a:solidFill>
                <a:latin typeface="Arial"/>
              </a:rPr>
              <a:t>Obligation légale</a:t>
            </a:r>
            <a:endParaRPr b="0" lang="en-US" sz="3200" spc="-1" strike="noStrike">
              <a:solidFill>
                <a:srgbClr val="ff6600"/>
              </a:solidFill>
              <a:latin typeface="Arial"/>
            </a:endParaRPr>
          </a:p>
          <a:p>
            <a:pPr marL="343080" indent="-343080">
              <a:lnSpc>
                <a:spcPct val="180000"/>
              </a:lnSpc>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6600"/>
                </a:solidFill>
                <a:latin typeface="Arial"/>
              </a:rPr>
              <a:t>Démarche Qualité</a:t>
            </a:r>
            <a:endParaRPr b="0" lang="en-US" sz="3200" spc="-1" strike="noStrike">
              <a:solidFill>
                <a:srgbClr val="ff6600"/>
              </a:solidFill>
              <a:latin typeface="Arial"/>
            </a:endParaRPr>
          </a:p>
          <a:p>
            <a:pPr marL="343080" indent="-343080">
              <a:lnSpc>
                <a:spcPct val="180000"/>
              </a:lnSpc>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6600"/>
                </a:solidFill>
                <a:latin typeface="Arial"/>
              </a:rPr>
              <a:t>Optimisation</a:t>
            </a:r>
            <a:endParaRPr b="0" lang="en-US" sz="3200" spc="-1" strike="noStrike">
              <a:solidFill>
                <a:srgbClr val="ff6600"/>
              </a:solidFill>
              <a:latin typeface="Arial"/>
            </a:endParaRPr>
          </a:p>
          <a:p>
            <a:pPr marL="343080" indent="-343080">
              <a:lnSpc>
                <a:spcPct val="180000"/>
              </a:lnSpc>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6600"/>
                </a:solidFill>
                <a:latin typeface="Arial"/>
              </a:rPr>
              <a:t>Conduite</a:t>
            </a:r>
            <a:endParaRPr b="0" lang="en-US" sz="3200" spc="-1" strike="noStrike">
              <a:solidFill>
                <a:srgbClr val="ff6600"/>
              </a:solidFill>
              <a:latin typeface="Arial"/>
            </a:endParaRPr>
          </a:p>
        </p:txBody>
      </p:sp>
      <p:sp>
        <p:nvSpPr>
          <p:cNvPr id="62" name=""/>
          <p:cNvSpPr/>
          <p:nvPr/>
        </p:nvSpPr>
        <p:spPr>
          <a:xfrm>
            <a:off x="5410080" y="1447920"/>
            <a:ext cx="3063960" cy="423180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Rapport de Fabric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aef iahf oihu azdfiu oiuafi iua aoiuuad oi aoiu oiuaf ou oiuafadfopiu adiu asdifuasdf oiuasdf adfoiu sadfiuaef iahf oihu azdfiu oiuafi iua aoiuuad oi aoiu oiuaf ou oiuafadfopiu adiu asdifuasdf oiuasdf adfoiu sadfiu</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aef iahf oihu azdfiu oiuafi iua aoiuuad oi aoiu oiuaf ou oiuafadfopiu adiu asdg difuasdf oiuasd sdhf adfoiu sadfiu</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aef iahf oihu azdfiu oiuafi iua aoiuuad oi aoiu oiuaf ou oiuafadf opiu adiu asdifuasdf oiuasdf adfoiu sadfiu</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aef iahf oihu azdfiu oiuafi iua aoiuuad oi aoiu oiuaf ou oiuafadfopiu adiu asdifuasdf oiuasdf adfsghghboiu sadfiu</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aef iahf oihu azdfiu oiuafi iua aoiuuad oi aoiu oiuaf ou oiuafadsdgb fopiu adiu asdifuasdf oiuasdf adfoiu sadfiu</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aef iahf oihu azdfiu oixcvcuafi iua aoiuuad oi aoiu oiuaf ou oiuafadfopiu adiu asdifuasdf oiuasdf adfoiu sadfiu</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aef iahf oihu azdfiu oiuafi iua aoiuuad oi aoiu oiuaf ou oiuafadf fdgopiu adiu asdifuasdf oiuasdf adfoiu sadfiu</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aef iahf oihu azdfiu oiuafi iua acvbnoiuuad oi aoiu oiuaf ou oiuafadfopiu adiu asdifuasdf oiuasdf adfoiu sadfiu</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aef iahf oihu azdfiu oiuafi iua aoiuuad oi aoiu oiuaf ou oiuafadfop   iu adiu asdifuasdf oiuasdf adfoiu sadfiu</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aef iahf oihu azdfiu oiuafi bxb  ua aoiuuad oi aoiu oiuaf ou oiuafadfopiu adiu asdifua sdf oiuasdf adfoiu sadfiu</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aef iahf oihu azdfiu oiuafi iua aoiuuad oi aoiu oiuaf ou oiuafad   fopiu adiu asdifuasdf oiuasdf adfoiu sadfiu</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aef iasgb  hf oihu azdfiu oiuafi iua aoiuuad oi aoiu oiuaf ou oiuafadfopiu adiu asdifuasdf oiuasdf adfoiu sadfiu</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aef iahf oihu azdfiu oiuafi iua aoiuuad oi aoiu oiuaf ou oiuafad    fopiu adiu asdifuasdf oiuasdf adfoiu sadfiu</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 name="PlaceHolder 3"/>
          <p:cNvSpPr>
            <a:spLocks noGrp="1"/>
          </p:cNvSpPr>
          <p:nvPr>
            <p:ph type="sldNum" idx="3"/>
          </p:nvPr>
        </p:nvSpPr>
        <p:spPr/>
        <p:txBody>
          <a:bodyPr/>
          <a:p>
            <a:fld id="{C5B4D407-4626-4E62-AA14-93182DF200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ff9"/>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762120" y="304560"/>
            <a:ext cx="624816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c00"/>
                </a:solidFill>
                <a:latin typeface="Arial"/>
              </a:rPr>
              <a:t>Le modèle</a:t>
            </a:r>
            <a:endParaRPr b="1" lang="en-US" sz="2800" spc="-1" strike="noStrike">
              <a:solidFill>
                <a:srgbClr val="ffcc00"/>
              </a:solidFill>
              <a:latin typeface="Arial"/>
            </a:endParaRPr>
          </a:p>
        </p:txBody>
      </p:sp>
      <p:sp>
        <p:nvSpPr>
          <p:cNvPr id="551" name=""/>
          <p:cNvSpPr/>
          <p:nvPr/>
        </p:nvSpPr>
        <p:spPr>
          <a:xfrm>
            <a:off x="5043600" y="2666880"/>
            <a:ext cx="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7024680" y="2666880"/>
            <a:ext cx="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4890960" y="2895480"/>
            <a:ext cx="304920" cy="381240"/>
          </a:xfrm>
          <a:prstGeom prst="flowChartCollate">
            <a:avLst/>
          </a:prstGeom>
          <a:gradFill rotWithShape="0">
            <a:gsLst>
              <a:gs pos="0">
                <a:srgbClr val="5e5e75"/>
              </a:gs>
              <a:gs pos="50000">
                <a:srgbClr val="ccccff"/>
              </a:gs>
              <a:gs pos="100000">
                <a:srgbClr val="5e5e75"/>
              </a:gs>
            </a:gsLst>
            <a:lin ang="108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491160" y="1371600"/>
            <a:ext cx="1067040" cy="1295280"/>
          </a:xfrm>
          <a:custGeom>
            <a:avLst/>
            <a:gdLst>
              <a:gd name="textAreaLeft" fmla="*/ 51840 w 1067040"/>
              <a:gd name="textAreaRight" fmla="*/ 1015200 w 1067040"/>
              <a:gd name="textAreaTop" fmla="*/ 51840 h 1295280"/>
              <a:gd name="textAreaBottom" fmla="*/ 1243440 h 1295280"/>
            </a:gdLst>
            <a:ahLst/>
            <a:rect l="textAreaLeft" t="textAreaTop" r="textAreaRight" b="textAreaBottom"/>
            <a:pathLst>
              <a:path w="21600" h="26219">
                <a:moveTo>
                  <a:pt x="3600" y="0"/>
                </a:moveTo>
                <a:arcTo wR="3600" hR="3600" stAng="16200000" swAng="-5400000"/>
                <a:lnTo>
                  <a:pt x="0" y="22619"/>
                </a:lnTo>
                <a:arcTo wR="3600" hR="3600" stAng="10800000" swAng="-5400000"/>
                <a:lnTo>
                  <a:pt x="18000" y="26219"/>
                </a:lnTo>
                <a:arcTo wR="3600" hR="3600" stAng="5400000" swAng="-5400000"/>
                <a:lnTo>
                  <a:pt x="21600" y="3600"/>
                </a:lnTo>
                <a:arcTo wR="3600" hR="3600" stAng="0" swAng="-5400000"/>
                <a:close/>
              </a:path>
            </a:pathLst>
          </a:custGeom>
          <a:gradFill rotWithShape="0">
            <a:gsLst>
              <a:gs pos="0">
                <a:srgbClr val="757575"/>
              </a:gs>
              <a:gs pos="50000">
                <a:srgbClr val="ffffff"/>
              </a:gs>
              <a:gs pos="100000">
                <a:srgbClr val="757575"/>
              </a:gs>
            </a:gsLst>
            <a:lin ang="10800000"/>
          </a:gra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
          <p:cNvSpPr/>
          <p:nvPr/>
        </p:nvSpPr>
        <p:spPr>
          <a:xfrm>
            <a:off x="6872400" y="2895480"/>
            <a:ext cx="304560" cy="381240"/>
          </a:xfrm>
          <a:prstGeom prst="flowChartCollate">
            <a:avLst/>
          </a:prstGeom>
          <a:gradFill rotWithShape="0">
            <a:gsLst>
              <a:gs pos="0">
                <a:srgbClr val="5e5e75"/>
              </a:gs>
              <a:gs pos="50000">
                <a:srgbClr val="ccccff"/>
              </a:gs>
              <a:gs pos="100000">
                <a:srgbClr val="5e5e75"/>
              </a:gs>
            </a:gsLst>
            <a:lin ang="108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5729400" y="3429000"/>
            <a:ext cx="0" cy="533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338880" y="3429000"/>
            <a:ext cx="0" cy="533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flipH="1">
            <a:off x="5043240" y="3429000"/>
            <a:ext cx="685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flipH="1">
            <a:off x="6338520" y="3429000"/>
            <a:ext cx="685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5500800" y="3657600"/>
            <a:ext cx="1066680" cy="1295280"/>
          </a:xfrm>
          <a:custGeom>
            <a:avLst/>
            <a:gdLst>
              <a:gd name="textAreaLeft" fmla="*/ 51840 w 1066680"/>
              <a:gd name="textAreaRight" fmla="*/ 1014840 w 1066680"/>
              <a:gd name="textAreaTop" fmla="*/ 51840 h 1295280"/>
              <a:gd name="textAreaBottom" fmla="*/ 1243440 h 1295280"/>
            </a:gdLst>
            <a:ahLst/>
            <a:rect l="textAreaLeft" t="textAreaTop" r="textAreaRight" b="textAreaBottom"/>
            <a:pathLst>
              <a:path w="21600" h="26228">
                <a:moveTo>
                  <a:pt x="3600" y="0"/>
                </a:moveTo>
                <a:arcTo wR="3600" hR="3600" stAng="16200000" swAng="-5400000"/>
                <a:lnTo>
                  <a:pt x="0" y="22628"/>
                </a:lnTo>
                <a:arcTo wR="3600" hR="3600" stAng="10800000" swAng="-5400000"/>
                <a:lnTo>
                  <a:pt x="18000" y="26228"/>
                </a:lnTo>
                <a:arcTo wR="3600" hR="3600" stAng="5400000" swAng="-5400000"/>
                <a:lnTo>
                  <a:pt x="21600" y="3600"/>
                </a:lnTo>
                <a:arcTo wR="3600" hR="3600" stAng="0" swAng="-5400000"/>
                <a:close/>
              </a:path>
            </a:pathLst>
          </a:custGeom>
          <a:gradFill rotWithShape="0">
            <a:gsLst>
              <a:gs pos="0">
                <a:srgbClr val="757575"/>
              </a:gs>
              <a:gs pos="50000">
                <a:srgbClr val="ffffff"/>
              </a:gs>
              <a:gs pos="100000">
                <a:srgbClr val="757575"/>
              </a:gs>
            </a:gsLst>
            <a:lin ang="10800000"/>
          </a:gra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
          <p:cNvSpPr/>
          <p:nvPr/>
        </p:nvSpPr>
        <p:spPr>
          <a:xfrm>
            <a:off x="4510080" y="1371600"/>
            <a:ext cx="1066680" cy="1295280"/>
          </a:xfrm>
          <a:custGeom>
            <a:avLst/>
            <a:gdLst>
              <a:gd name="textAreaLeft" fmla="*/ 51840 w 1066680"/>
              <a:gd name="textAreaRight" fmla="*/ 1014840 w 1066680"/>
              <a:gd name="textAreaTop" fmla="*/ 51840 h 1295280"/>
              <a:gd name="textAreaBottom" fmla="*/ 1243440 h 1295280"/>
            </a:gdLst>
            <a:ahLst/>
            <a:rect l="textAreaLeft" t="textAreaTop" r="textAreaRight" b="textAreaBottom"/>
            <a:pathLst>
              <a:path w="21600" h="26228">
                <a:moveTo>
                  <a:pt x="3600" y="0"/>
                </a:moveTo>
                <a:arcTo wR="3600" hR="3600" stAng="16200000" swAng="-5400000"/>
                <a:lnTo>
                  <a:pt x="0" y="22628"/>
                </a:lnTo>
                <a:arcTo wR="3600" hR="3600" stAng="10800000" swAng="-5400000"/>
                <a:lnTo>
                  <a:pt x="18000" y="26228"/>
                </a:lnTo>
                <a:arcTo wR="3600" hR="3600" stAng="5400000" swAng="-5400000"/>
                <a:lnTo>
                  <a:pt x="21600" y="3600"/>
                </a:lnTo>
                <a:arcTo wR="3600" hR="3600" stAng="0" swAng="-5400000"/>
                <a:close/>
              </a:path>
            </a:pathLst>
          </a:custGeom>
          <a:gradFill rotWithShape="0">
            <a:gsLst>
              <a:gs pos="0">
                <a:srgbClr val="757575"/>
              </a:gs>
              <a:gs pos="50000">
                <a:srgbClr val="ffffff"/>
              </a:gs>
              <a:gs pos="100000">
                <a:srgbClr val="757575"/>
              </a:gs>
            </a:gsLst>
            <a:lin ang="10800000"/>
          </a:gra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
          <p:cNvSpPr/>
          <p:nvPr/>
        </p:nvSpPr>
        <p:spPr>
          <a:xfrm>
            <a:off x="6033960" y="4952880"/>
            <a:ext cx="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5881680" y="5181480"/>
            <a:ext cx="304920" cy="381240"/>
          </a:xfrm>
          <a:prstGeom prst="flowChartCollate">
            <a:avLst/>
          </a:prstGeom>
          <a:gradFill rotWithShape="0">
            <a:gsLst>
              <a:gs pos="0">
                <a:srgbClr val="5e5e75"/>
              </a:gs>
              <a:gs pos="50000">
                <a:srgbClr val="ccccff"/>
              </a:gs>
              <a:gs pos="100000">
                <a:srgbClr val="5e5e75"/>
              </a:gs>
            </a:gsLst>
            <a:lin ang="108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4" name=""/>
          <p:cNvGrpSpPr/>
          <p:nvPr/>
        </p:nvGrpSpPr>
        <p:grpSpPr>
          <a:xfrm>
            <a:off x="3886200" y="762120"/>
            <a:ext cx="2151000" cy="2867040"/>
            <a:chOff x="3886200" y="762120"/>
            <a:chExt cx="2151000" cy="2867040"/>
          </a:xfrm>
        </p:grpSpPr>
        <p:sp>
          <p:nvSpPr>
            <p:cNvPr id="565" name=""/>
            <p:cNvSpPr/>
            <p:nvPr/>
          </p:nvSpPr>
          <p:spPr>
            <a:xfrm>
              <a:off x="3886200" y="1017720"/>
              <a:ext cx="2151000" cy="2611440"/>
            </a:xfrm>
            <a:custGeom>
              <a:avLst/>
              <a:gdLst/>
              <a:ahLst/>
              <a:rect l="l" t="t" r="r" b="b"/>
              <a:pathLst>
                <a:path w="1355" h="1645">
                  <a:moveTo>
                    <a:pt x="920" y="0"/>
                  </a:moveTo>
                  <a:cubicBezTo>
                    <a:pt x="789" y="10"/>
                    <a:pt x="658" y="22"/>
                    <a:pt x="527" y="31"/>
                  </a:cubicBezTo>
                  <a:cubicBezTo>
                    <a:pt x="475" y="39"/>
                    <a:pt x="423" y="39"/>
                    <a:pt x="372" y="52"/>
                  </a:cubicBezTo>
                  <a:cubicBezTo>
                    <a:pt x="293" y="72"/>
                    <a:pt x="249" y="155"/>
                    <a:pt x="196" y="207"/>
                  </a:cubicBezTo>
                  <a:cubicBezTo>
                    <a:pt x="155" y="312"/>
                    <a:pt x="121" y="428"/>
                    <a:pt x="51" y="517"/>
                  </a:cubicBezTo>
                  <a:cubicBezTo>
                    <a:pt x="40" y="563"/>
                    <a:pt x="28" y="605"/>
                    <a:pt x="20" y="652"/>
                  </a:cubicBezTo>
                  <a:cubicBezTo>
                    <a:pt x="3" y="864"/>
                    <a:pt x="0" y="840"/>
                    <a:pt x="20" y="1148"/>
                  </a:cubicBezTo>
                  <a:cubicBezTo>
                    <a:pt x="29" y="1295"/>
                    <a:pt x="117" y="1490"/>
                    <a:pt x="258" y="1552"/>
                  </a:cubicBezTo>
                  <a:cubicBezTo>
                    <a:pt x="385" y="1608"/>
                    <a:pt x="515" y="1629"/>
                    <a:pt x="651" y="1645"/>
                  </a:cubicBezTo>
                  <a:cubicBezTo>
                    <a:pt x="710" y="1641"/>
                    <a:pt x="769" y="1642"/>
                    <a:pt x="827" y="1634"/>
                  </a:cubicBezTo>
                  <a:cubicBezTo>
                    <a:pt x="929" y="1621"/>
                    <a:pt x="1023" y="1513"/>
                    <a:pt x="1107" y="1459"/>
                  </a:cubicBezTo>
                  <a:cubicBezTo>
                    <a:pt x="1134" y="1417"/>
                    <a:pt x="1171" y="1386"/>
                    <a:pt x="1200" y="1345"/>
                  </a:cubicBezTo>
                  <a:cubicBezTo>
                    <a:pt x="1214" y="1325"/>
                    <a:pt x="1227" y="1304"/>
                    <a:pt x="1241" y="1283"/>
                  </a:cubicBezTo>
                  <a:cubicBezTo>
                    <a:pt x="1248" y="1273"/>
                    <a:pt x="1262" y="1252"/>
                    <a:pt x="1262" y="1252"/>
                  </a:cubicBezTo>
                  <a:cubicBezTo>
                    <a:pt x="1289" y="1140"/>
                    <a:pt x="1252" y="1272"/>
                    <a:pt x="1293" y="1179"/>
                  </a:cubicBezTo>
                  <a:cubicBezTo>
                    <a:pt x="1313" y="1133"/>
                    <a:pt x="1319" y="1083"/>
                    <a:pt x="1334" y="1035"/>
                  </a:cubicBezTo>
                  <a:cubicBezTo>
                    <a:pt x="1353" y="893"/>
                    <a:pt x="1355" y="765"/>
                    <a:pt x="1345" y="621"/>
                  </a:cubicBezTo>
                  <a:cubicBezTo>
                    <a:pt x="1341" y="561"/>
                    <a:pt x="1333" y="449"/>
                    <a:pt x="1303" y="393"/>
                  </a:cubicBezTo>
                  <a:cubicBezTo>
                    <a:pt x="1264" y="320"/>
                    <a:pt x="1221" y="259"/>
                    <a:pt x="1169" y="197"/>
                  </a:cubicBezTo>
                  <a:cubicBezTo>
                    <a:pt x="1158" y="184"/>
                    <a:pt x="1151" y="167"/>
                    <a:pt x="1138" y="155"/>
                  </a:cubicBezTo>
                  <a:cubicBezTo>
                    <a:pt x="1120" y="139"/>
                    <a:pt x="1076" y="114"/>
                    <a:pt x="1076" y="114"/>
                  </a:cubicBezTo>
                  <a:cubicBezTo>
                    <a:pt x="1053" y="80"/>
                    <a:pt x="1001" y="34"/>
                    <a:pt x="962" y="21"/>
                  </a:cubicBezTo>
                  <a:cubicBezTo>
                    <a:pt x="926" y="9"/>
                    <a:pt x="939" y="19"/>
                    <a:pt x="920" y="0"/>
                  </a:cubicBezTo>
                  <a:close/>
                </a:path>
              </a:pathLst>
            </a:custGeom>
            <a:noFill/>
            <a:ln w="5724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4056120" y="762120"/>
              <a:ext cx="18907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essource 1</a:t>
              </a:r>
              <a:endParaRPr b="0" lang="en-US" sz="2400" spc="-1" strike="noStrike">
                <a:solidFill>
                  <a:srgbClr val="000000"/>
                </a:solidFill>
                <a:latin typeface="Times New Roman"/>
              </a:endParaRPr>
            </a:p>
          </p:txBody>
        </p:sp>
      </p:grpSp>
      <p:grpSp>
        <p:nvGrpSpPr>
          <p:cNvPr id="567" name=""/>
          <p:cNvGrpSpPr/>
          <p:nvPr/>
        </p:nvGrpSpPr>
        <p:grpSpPr>
          <a:xfrm>
            <a:off x="6109920" y="762120"/>
            <a:ext cx="2151000" cy="2916000"/>
            <a:chOff x="6109920" y="762120"/>
            <a:chExt cx="2151000" cy="2916000"/>
          </a:xfrm>
        </p:grpSpPr>
        <p:sp>
          <p:nvSpPr>
            <p:cNvPr id="568" name=""/>
            <p:cNvSpPr/>
            <p:nvPr/>
          </p:nvSpPr>
          <p:spPr>
            <a:xfrm flipH="1" flipV="1">
              <a:off x="6109560" y="1066680"/>
              <a:ext cx="2151000" cy="2611440"/>
            </a:xfrm>
            <a:custGeom>
              <a:avLst/>
              <a:gdLst/>
              <a:ahLst/>
              <a:rect l="l" t="t" r="r" b="b"/>
              <a:pathLst>
                <a:path w="1355" h="1645">
                  <a:moveTo>
                    <a:pt x="920" y="0"/>
                  </a:moveTo>
                  <a:cubicBezTo>
                    <a:pt x="789" y="10"/>
                    <a:pt x="658" y="22"/>
                    <a:pt x="527" y="31"/>
                  </a:cubicBezTo>
                  <a:cubicBezTo>
                    <a:pt x="475" y="39"/>
                    <a:pt x="423" y="39"/>
                    <a:pt x="372" y="52"/>
                  </a:cubicBezTo>
                  <a:cubicBezTo>
                    <a:pt x="293" y="72"/>
                    <a:pt x="249" y="155"/>
                    <a:pt x="196" y="207"/>
                  </a:cubicBezTo>
                  <a:cubicBezTo>
                    <a:pt x="155" y="312"/>
                    <a:pt x="121" y="428"/>
                    <a:pt x="51" y="517"/>
                  </a:cubicBezTo>
                  <a:cubicBezTo>
                    <a:pt x="40" y="563"/>
                    <a:pt x="28" y="605"/>
                    <a:pt x="20" y="652"/>
                  </a:cubicBezTo>
                  <a:cubicBezTo>
                    <a:pt x="3" y="864"/>
                    <a:pt x="0" y="840"/>
                    <a:pt x="20" y="1148"/>
                  </a:cubicBezTo>
                  <a:cubicBezTo>
                    <a:pt x="29" y="1295"/>
                    <a:pt x="117" y="1490"/>
                    <a:pt x="258" y="1552"/>
                  </a:cubicBezTo>
                  <a:cubicBezTo>
                    <a:pt x="385" y="1608"/>
                    <a:pt x="515" y="1629"/>
                    <a:pt x="651" y="1645"/>
                  </a:cubicBezTo>
                  <a:cubicBezTo>
                    <a:pt x="710" y="1641"/>
                    <a:pt x="769" y="1642"/>
                    <a:pt x="827" y="1634"/>
                  </a:cubicBezTo>
                  <a:cubicBezTo>
                    <a:pt x="929" y="1621"/>
                    <a:pt x="1023" y="1513"/>
                    <a:pt x="1107" y="1459"/>
                  </a:cubicBezTo>
                  <a:cubicBezTo>
                    <a:pt x="1134" y="1417"/>
                    <a:pt x="1171" y="1386"/>
                    <a:pt x="1200" y="1345"/>
                  </a:cubicBezTo>
                  <a:cubicBezTo>
                    <a:pt x="1214" y="1325"/>
                    <a:pt x="1227" y="1304"/>
                    <a:pt x="1241" y="1283"/>
                  </a:cubicBezTo>
                  <a:cubicBezTo>
                    <a:pt x="1248" y="1273"/>
                    <a:pt x="1262" y="1252"/>
                    <a:pt x="1262" y="1252"/>
                  </a:cubicBezTo>
                  <a:cubicBezTo>
                    <a:pt x="1289" y="1140"/>
                    <a:pt x="1252" y="1272"/>
                    <a:pt x="1293" y="1179"/>
                  </a:cubicBezTo>
                  <a:cubicBezTo>
                    <a:pt x="1313" y="1133"/>
                    <a:pt x="1319" y="1083"/>
                    <a:pt x="1334" y="1035"/>
                  </a:cubicBezTo>
                  <a:cubicBezTo>
                    <a:pt x="1353" y="893"/>
                    <a:pt x="1355" y="765"/>
                    <a:pt x="1345" y="621"/>
                  </a:cubicBezTo>
                  <a:cubicBezTo>
                    <a:pt x="1341" y="561"/>
                    <a:pt x="1333" y="449"/>
                    <a:pt x="1303" y="393"/>
                  </a:cubicBezTo>
                  <a:cubicBezTo>
                    <a:pt x="1264" y="320"/>
                    <a:pt x="1221" y="259"/>
                    <a:pt x="1169" y="197"/>
                  </a:cubicBezTo>
                  <a:cubicBezTo>
                    <a:pt x="1158" y="184"/>
                    <a:pt x="1151" y="167"/>
                    <a:pt x="1138" y="155"/>
                  </a:cubicBezTo>
                  <a:cubicBezTo>
                    <a:pt x="1120" y="139"/>
                    <a:pt x="1076" y="114"/>
                    <a:pt x="1076" y="114"/>
                  </a:cubicBezTo>
                  <a:cubicBezTo>
                    <a:pt x="1053" y="80"/>
                    <a:pt x="1001" y="34"/>
                    <a:pt x="962" y="21"/>
                  </a:cubicBezTo>
                  <a:cubicBezTo>
                    <a:pt x="926" y="9"/>
                    <a:pt x="939" y="19"/>
                    <a:pt x="920" y="0"/>
                  </a:cubicBezTo>
                  <a:close/>
                </a:path>
              </a:pathLst>
            </a:custGeom>
            <a:noFill/>
            <a:ln w="5724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6273360" y="762120"/>
              <a:ext cx="18907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essource 2</a:t>
              </a:r>
              <a:endParaRPr b="0" lang="en-US" sz="2400" spc="-1" strike="noStrike">
                <a:solidFill>
                  <a:srgbClr val="000000"/>
                </a:solidFill>
                <a:latin typeface="Times New Roman"/>
              </a:endParaRPr>
            </a:p>
          </p:txBody>
        </p:sp>
      </p:grpSp>
      <p:grpSp>
        <p:nvGrpSpPr>
          <p:cNvPr id="570" name=""/>
          <p:cNvGrpSpPr/>
          <p:nvPr/>
        </p:nvGrpSpPr>
        <p:grpSpPr>
          <a:xfrm>
            <a:off x="5113440" y="3429000"/>
            <a:ext cx="3493440" cy="2611440"/>
            <a:chOff x="5113440" y="3429000"/>
            <a:chExt cx="3493440" cy="2611440"/>
          </a:xfrm>
        </p:grpSpPr>
        <p:sp>
          <p:nvSpPr>
            <p:cNvPr id="571" name=""/>
            <p:cNvSpPr/>
            <p:nvPr/>
          </p:nvSpPr>
          <p:spPr>
            <a:xfrm flipV="1">
              <a:off x="5113440" y="3429000"/>
              <a:ext cx="1998360" cy="2611440"/>
            </a:xfrm>
            <a:custGeom>
              <a:avLst/>
              <a:gdLst/>
              <a:ahLst/>
              <a:rect l="l" t="t" r="r" b="b"/>
              <a:pathLst>
                <a:path w="1355" h="1645">
                  <a:moveTo>
                    <a:pt x="920" y="0"/>
                  </a:moveTo>
                  <a:cubicBezTo>
                    <a:pt x="789" y="10"/>
                    <a:pt x="658" y="22"/>
                    <a:pt x="527" y="31"/>
                  </a:cubicBezTo>
                  <a:cubicBezTo>
                    <a:pt x="475" y="39"/>
                    <a:pt x="423" y="39"/>
                    <a:pt x="372" y="52"/>
                  </a:cubicBezTo>
                  <a:cubicBezTo>
                    <a:pt x="293" y="72"/>
                    <a:pt x="249" y="155"/>
                    <a:pt x="196" y="207"/>
                  </a:cubicBezTo>
                  <a:cubicBezTo>
                    <a:pt x="155" y="312"/>
                    <a:pt x="121" y="428"/>
                    <a:pt x="51" y="517"/>
                  </a:cubicBezTo>
                  <a:cubicBezTo>
                    <a:pt x="40" y="563"/>
                    <a:pt x="28" y="605"/>
                    <a:pt x="20" y="652"/>
                  </a:cubicBezTo>
                  <a:cubicBezTo>
                    <a:pt x="3" y="864"/>
                    <a:pt x="0" y="840"/>
                    <a:pt x="20" y="1148"/>
                  </a:cubicBezTo>
                  <a:cubicBezTo>
                    <a:pt x="29" y="1295"/>
                    <a:pt x="117" y="1490"/>
                    <a:pt x="258" y="1552"/>
                  </a:cubicBezTo>
                  <a:cubicBezTo>
                    <a:pt x="385" y="1608"/>
                    <a:pt x="515" y="1629"/>
                    <a:pt x="651" y="1645"/>
                  </a:cubicBezTo>
                  <a:cubicBezTo>
                    <a:pt x="710" y="1641"/>
                    <a:pt x="769" y="1642"/>
                    <a:pt x="827" y="1634"/>
                  </a:cubicBezTo>
                  <a:cubicBezTo>
                    <a:pt x="929" y="1621"/>
                    <a:pt x="1023" y="1513"/>
                    <a:pt x="1107" y="1459"/>
                  </a:cubicBezTo>
                  <a:cubicBezTo>
                    <a:pt x="1134" y="1417"/>
                    <a:pt x="1171" y="1386"/>
                    <a:pt x="1200" y="1345"/>
                  </a:cubicBezTo>
                  <a:cubicBezTo>
                    <a:pt x="1214" y="1325"/>
                    <a:pt x="1227" y="1304"/>
                    <a:pt x="1241" y="1283"/>
                  </a:cubicBezTo>
                  <a:cubicBezTo>
                    <a:pt x="1248" y="1273"/>
                    <a:pt x="1262" y="1252"/>
                    <a:pt x="1262" y="1252"/>
                  </a:cubicBezTo>
                  <a:cubicBezTo>
                    <a:pt x="1289" y="1140"/>
                    <a:pt x="1252" y="1272"/>
                    <a:pt x="1293" y="1179"/>
                  </a:cubicBezTo>
                  <a:cubicBezTo>
                    <a:pt x="1313" y="1133"/>
                    <a:pt x="1319" y="1083"/>
                    <a:pt x="1334" y="1035"/>
                  </a:cubicBezTo>
                  <a:cubicBezTo>
                    <a:pt x="1353" y="893"/>
                    <a:pt x="1355" y="765"/>
                    <a:pt x="1345" y="621"/>
                  </a:cubicBezTo>
                  <a:cubicBezTo>
                    <a:pt x="1341" y="561"/>
                    <a:pt x="1333" y="449"/>
                    <a:pt x="1303" y="393"/>
                  </a:cubicBezTo>
                  <a:cubicBezTo>
                    <a:pt x="1264" y="320"/>
                    <a:pt x="1221" y="259"/>
                    <a:pt x="1169" y="197"/>
                  </a:cubicBezTo>
                  <a:cubicBezTo>
                    <a:pt x="1158" y="184"/>
                    <a:pt x="1151" y="167"/>
                    <a:pt x="1138" y="155"/>
                  </a:cubicBezTo>
                  <a:cubicBezTo>
                    <a:pt x="1120" y="139"/>
                    <a:pt x="1076" y="114"/>
                    <a:pt x="1076" y="114"/>
                  </a:cubicBezTo>
                  <a:cubicBezTo>
                    <a:pt x="1053" y="80"/>
                    <a:pt x="1001" y="34"/>
                    <a:pt x="962" y="21"/>
                  </a:cubicBezTo>
                  <a:cubicBezTo>
                    <a:pt x="926" y="9"/>
                    <a:pt x="939" y="19"/>
                    <a:pt x="920" y="0"/>
                  </a:cubicBezTo>
                  <a:close/>
                </a:path>
              </a:pathLst>
            </a:custGeom>
            <a:noFill/>
            <a:ln w="5724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16160" y="4648320"/>
              <a:ext cx="18907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essource 3</a:t>
              </a:r>
              <a:endParaRPr b="0" lang="en-US" sz="2400" spc="-1" strike="noStrike">
                <a:solidFill>
                  <a:srgbClr val="000000"/>
                </a:solidFill>
                <a:latin typeface="Times New Roman"/>
              </a:endParaRPr>
            </a:p>
          </p:txBody>
        </p:sp>
      </p:grpSp>
      <p:sp>
        <p:nvSpPr>
          <p:cNvPr id="573" name="PlaceHolder 2"/>
          <p:cNvSpPr>
            <a:spLocks noGrp="1"/>
          </p:cNvSpPr>
          <p:nvPr>
            <p:ph/>
          </p:nvPr>
        </p:nvSpPr>
        <p:spPr>
          <a:xfrm>
            <a:off x="990360" y="1143000"/>
            <a:ext cx="7924680" cy="5029200"/>
          </a:xfrm>
          <a:prstGeom prst="rect">
            <a:avLst/>
          </a:prstGeom>
          <a:noFill/>
          <a:ln w="0">
            <a:noFill/>
          </a:ln>
        </p:spPr>
        <p:txBody>
          <a:bodyPr lIns="90000" rIns="90000" tIns="46800" bIns="46800" anchor="t">
            <a:normAutofit/>
          </a:bodyPr>
          <a:p>
            <a:pPr marL="343080" indent="-343080">
              <a:lnSpc>
                <a:spcPct val="130000"/>
              </a:lnSpc>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6600"/>
                </a:solidFill>
                <a:latin typeface="Arial"/>
              </a:rPr>
              <a:t>4 couches</a:t>
            </a:r>
            <a:endParaRPr b="0" lang="en-US" sz="3200" spc="-1" strike="noStrike">
              <a:solidFill>
                <a:srgbClr val="ff6600"/>
              </a:solidFill>
              <a:latin typeface="Arial"/>
            </a:endParaRPr>
          </a:p>
          <a:p>
            <a:pPr lvl="1" marL="743040" indent="-285840">
              <a:lnSpc>
                <a:spcPct val="130000"/>
              </a:lnSpc>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00"/>
                </a:solidFill>
                <a:latin typeface="Arial"/>
              </a:rPr>
              <a:t>Recette</a:t>
            </a:r>
            <a:endParaRPr b="0" lang="en-US" sz="2800" spc="-1" strike="noStrike">
              <a:solidFill>
                <a:srgbClr val="ff6600"/>
              </a:solidFill>
              <a:latin typeface="Arial"/>
            </a:endParaRPr>
          </a:p>
          <a:p>
            <a:pPr lvl="1" marL="743040" indent="-285840">
              <a:lnSpc>
                <a:spcPct val="130000"/>
              </a:lnSpc>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00"/>
                </a:solidFill>
                <a:latin typeface="Arial"/>
              </a:rPr>
              <a:t>Phases</a:t>
            </a:r>
            <a:endParaRPr b="0" lang="en-US" sz="2800" spc="-1" strike="noStrike">
              <a:solidFill>
                <a:srgbClr val="ff6600"/>
              </a:solidFill>
              <a:latin typeface="Arial"/>
            </a:endParaRPr>
          </a:p>
          <a:p>
            <a:pPr lvl="1" marL="743040" indent="-285840">
              <a:lnSpc>
                <a:spcPct val="130000"/>
              </a:lnSpc>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00"/>
                </a:solidFill>
                <a:latin typeface="Arial"/>
              </a:rPr>
              <a:t>Ressources</a:t>
            </a:r>
            <a:endParaRPr b="0" lang="en-US" sz="2800" spc="-1" strike="noStrike">
              <a:solidFill>
                <a:srgbClr val="ff6600"/>
              </a:solidFill>
              <a:latin typeface="Arial"/>
            </a:endParaRPr>
          </a:p>
          <a:p>
            <a:pPr lvl="2" marL="1085760" indent="-228600">
              <a:lnSpc>
                <a:spcPct val="130000"/>
              </a:lnSpc>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6600"/>
                </a:solidFill>
                <a:latin typeface="Arial"/>
              </a:rPr>
              <a:t>1 ressource ne peut être occupée que par 1 phase à la fois</a:t>
            </a:r>
            <a:endParaRPr b="0" lang="en-US" sz="1800" spc="-1" strike="noStrike">
              <a:solidFill>
                <a:srgbClr val="ff6600"/>
              </a:solidFill>
              <a:latin typeface="Arial"/>
            </a:endParaRPr>
          </a:p>
          <a:p>
            <a:pPr lvl="1" marL="743040" indent="-285840">
              <a:lnSpc>
                <a:spcPct val="130000"/>
              </a:lnSpc>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00"/>
                </a:solidFill>
                <a:latin typeface="Arial"/>
              </a:rPr>
              <a:t>Organes</a:t>
            </a:r>
            <a:endParaRPr b="0" lang="en-US" sz="2800" spc="-1" strike="noStrike">
              <a:solidFill>
                <a:srgbClr val="ff6600"/>
              </a:solidFill>
              <a:latin typeface="Arial"/>
            </a:endParaRPr>
          </a:p>
          <a:p>
            <a:pPr lvl="2" marL="1085760" indent="-228600">
              <a:lnSpc>
                <a:spcPct val="130000"/>
              </a:lnSpc>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6600"/>
                </a:solidFill>
                <a:latin typeface="Arial"/>
              </a:rPr>
              <a:t>1 organe n’appartient qu’à une seule ressource</a:t>
            </a:r>
            <a:endParaRPr b="0" lang="en-US" sz="1800" spc="-1" strike="noStrike">
              <a:solidFill>
                <a:srgbClr val="ff6600"/>
              </a:solidFill>
              <a:latin typeface="Arial"/>
            </a:endParaRPr>
          </a:p>
        </p:txBody>
      </p:sp>
      <p:sp>
        <p:nvSpPr>
          <p:cNvPr id="4" name="PlaceHolder 3"/>
          <p:cNvSpPr>
            <a:spLocks noGrp="1"/>
          </p:cNvSpPr>
          <p:nvPr>
            <p:ph type="sldNum" idx="3"/>
          </p:nvPr>
        </p:nvSpPr>
        <p:spPr/>
        <p:txBody>
          <a:bodyPr/>
          <a:p>
            <a:fld id="{83068FE8-E17A-44E4-92A9-BCBF908C09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ff9"/>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762120" y="304560"/>
            <a:ext cx="624816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c00"/>
                </a:solidFill>
                <a:latin typeface="Arial"/>
              </a:rPr>
              <a:t>Les cadenas</a:t>
            </a:r>
            <a:endParaRPr b="1" lang="en-US" sz="2800" spc="-1" strike="noStrike">
              <a:solidFill>
                <a:srgbClr val="ffcc00"/>
              </a:solidFill>
              <a:latin typeface="Arial"/>
            </a:endParaRPr>
          </a:p>
        </p:txBody>
      </p:sp>
      <p:sp>
        <p:nvSpPr>
          <p:cNvPr id="575" name=""/>
          <p:cNvSpPr/>
          <p:nvPr/>
        </p:nvSpPr>
        <p:spPr>
          <a:xfrm>
            <a:off x="5570640" y="2646360"/>
            <a:ext cx="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7551720" y="2646360"/>
            <a:ext cx="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5418000" y="2874960"/>
            <a:ext cx="304920" cy="380880"/>
          </a:xfrm>
          <a:prstGeom prst="flowChartCollate">
            <a:avLst/>
          </a:prstGeom>
          <a:gradFill rotWithShape="0">
            <a:gsLst>
              <a:gs pos="0">
                <a:srgbClr val="5e5e75"/>
              </a:gs>
              <a:gs pos="50000">
                <a:srgbClr val="ccccff"/>
              </a:gs>
              <a:gs pos="100000">
                <a:srgbClr val="5e5e75"/>
              </a:gs>
            </a:gsLst>
            <a:lin ang="108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7018200" y="1371600"/>
            <a:ext cx="1067040" cy="1295280"/>
          </a:xfrm>
          <a:custGeom>
            <a:avLst/>
            <a:gdLst>
              <a:gd name="textAreaLeft" fmla="*/ 51840 w 1067040"/>
              <a:gd name="textAreaRight" fmla="*/ 1015200 w 1067040"/>
              <a:gd name="textAreaTop" fmla="*/ 51840 h 1295280"/>
              <a:gd name="textAreaBottom" fmla="*/ 1243440 h 1295280"/>
            </a:gdLst>
            <a:ahLst/>
            <a:rect l="textAreaLeft" t="textAreaTop" r="textAreaRight" b="textAreaBottom"/>
            <a:pathLst>
              <a:path w="21600" h="26219">
                <a:moveTo>
                  <a:pt x="3600" y="0"/>
                </a:moveTo>
                <a:arcTo wR="3600" hR="3600" stAng="16200000" swAng="-5400000"/>
                <a:lnTo>
                  <a:pt x="0" y="22619"/>
                </a:lnTo>
                <a:arcTo wR="3600" hR="3600" stAng="10800000" swAng="-5400000"/>
                <a:lnTo>
                  <a:pt x="18000" y="26219"/>
                </a:lnTo>
                <a:arcTo wR="3600" hR="3600" stAng="5400000" swAng="-5400000"/>
                <a:lnTo>
                  <a:pt x="21600" y="3600"/>
                </a:lnTo>
                <a:arcTo wR="3600" hR="3600" stAng="0" swAng="-5400000"/>
                <a:close/>
              </a:path>
            </a:pathLst>
          </a:custGeom>
          <a:gradFill rotWithShape="0">
            <a:gsLst>
              <a:gs pos="0">
                <a:srgbClr val="757575"/>
              </a:gs>
              <a:gs pos="50000">
                <a:srgbClr val="ffffff"/>
              </a:gs>
              <a:gs pos="100000">
                <a:srgbClr val="757575"/>
              </a:gs>
            </a:gsLst>
            <a:lin ang="10800000"/>
          </a:gra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
          <p:cNvSpPr/>
          <p:nvPr/>
        </p:nvSpPr>
        <p:spPr>
          <a:xfrm>
            <a:off x="7391520" y="2895480"/>
            <a:ext cx="304560" cy="381240"/>
          </a:xfrm>
          <a:prstGeom prst="flowChartCollate">
            <a:avLst/>
          </a:prstGeom>
          <a:gradFill rotWithShape="0">
            <a:gsLst>
              <a:gs pos="0">
                <a:srgbClr val="5e5e75"/>
              </a:gs>
              <a:gs pos="50000">
                <a:srgbClr val="ccccff"/>
              </a:gs>
              <a:gs pos="100000">
                <a:srgbClr val="5e5e75"/>
              </a:gs>
            </a:gsLst>
            <a:lin ang="108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6256440" y="3408480"/>
            <a:ext cx="0" cy="5331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6865920" y="3408480"/>
            <a:ext cx="0" cy="5331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5570280" y="3408480"/>
            <a:ext cx="685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H="1">
            <a:off x="6865560" y="3408480"/>
            <a:ext cx="685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027840" y="3581280"/>
            <a:ext cx="1066680" cy="1295640"/>
          </a:xfrm>
          <a:custGeom>
            <a:avLst/>
            <a:gdLst>
              <a:gd name="textAreaLeft" fmla="*/ 51840 w 1066680"/>
              <a:gd name="textAreaRight" fmla="*/ 1014840 w 1066680"/>
              <a:gd name="textAreaTop" fmla="*/ 51840 h 1295640"/>
              <a:gd name="textAreaBottom" fmla="*/ 1243800 h 1295640"/>
            </a:gdLst>
            <a:ahLst/>
            <a:rect l="textAreaLeft" t="textAreaTop" r="textAreaRight" b="textAreaBottom"/>
            <a:pathLst>
              <a:path w="21600" h="26235">
                <a:moveTo>
                  <a:pt x="3600" y="0"/>
                </a:moveTo>
                <a:arcTo wR="3600" hR="3600" stAng="16200000" swAng="-5400000"/>
                <a:lnTo>
                  <a:pt x="0" y="22635"/>
                </a:lnTo>
                <a:arcTo wR="3600" hR="3600" stAng="10800000" swAng="-5400000"/>
                <a:lnTo>
                  <a:pt x="18000" y="26235"/>
                </a:lnTo>
                <a:arcTo wR="3600" hR="3600" stAng="5400000" swAng="-5400000"/>
                <a:lnTo>
                  <a:pt x="21600" y="3600"/>
                </a:lnTo>
                <a:arcTo wR="3600" hR="3600" stAng="0" swAng="-5400000"/>
                <a:close/>
              </a:path>
            </a:pathLst>
          </a:custGeom>
          <a:gradFill rotWithShape="0">
            <a:gsLst>
              <a:gs pos="0">
                <a:srgbClr val="757575"/>
              </a:gs>
              <a:gs pos="50000">
                <a:srgbClr val="ffffff"/>
              </a:gs>
              <a:gs pos="100000">
                <a:srgbClr val="757575"/>
              </a:gs>
            </a:gsLst>
            <a:lin ang="10800000"/>
          </a:gra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
          <p:cNvSpPr/>
          <p:nvPr/>
        </p:nvSpPr>
        <p:spPr>
          <a:xfrm>
            <a:off x="6019920" y="3581280"/>
            <a:ext cx="1066680" cy="1295640"/>
          </a:xfrm>
          <a:custGeom>
            <a:avLst/>
            <a:gdLst>
              <a:gd name="textAreaLeft" fmla="*/ 51840 w 1066680"/>
              <a:gd name="textAreaRight" fmla="*/ 1014840 w 1066680"/>
              <a:gd name="textAreaTop" fmla="*/ 51840 h 1295640"/>
              <a:gd name="textAreaBottom" fmla="*/ 1243800 h 1295640"/>
            </a:gdLst>
            <a:ahLst/>
            <a:rect l="textAreaLeft" t="textAreaTop" r="textAreaRight" b="textAreaBottom"/>
            <a:pathLst>
              <a:path w="21600" h="26235">
                <a:moveTo>
                  <a:pt x="3600" y="0"/>
                </a:moveTo>
                <a:arcTo wR="3600" hR="3600" stAng="16200000" swAng="-5400000"/>
                <a:lnTo>
                  <a:pt x="0" y="22635"/>
                </a:lnTo>
                <a:arcTo wR="3600" hR="3600" stAng="10800000" swAng="-5400000"/>
                <a:lnTo>
                  <a:pt x="18000" y="26235"/>
                </a:lnTo>
                <a:arcTo wR="3600" hR="3600" stAng="5400000" swAng="-5400000"/>
                <a:lnTo>
                  <a:pt x="21600" y="3600"/>
                </a:lnTo>
                <a:arcTo wR="3600" hR="3600" stAng="0" swAng="-5400000"/>
                <a:close/>
              </a:path>
            </a:pathLst>
          </a:custGeom>
          <a:gradFill rotWithShape="0">
            <a:gsLst>
              <a:gs pos="0">
                <a:srgbClr val="757500"/>
              </a:gs>
              <a:gs pos="50000">
                <a:srgbClr val="ffff00"/>
              </a:gs>
              <a:gs pos="100000">
                <a:srgbClr val="757500"/>
              </a:gs>
            </a:gsLst>
            <a:lin ang="10800000"/>
          </a:gra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has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B</a:t>
            </a:r>
            <a:endParaRPr b="0" lang="en-US" sz="2400" spc="-1" strike="noStrike">
              <a:solidFill>
                <a:srgbClr val="000000"/>
              </a:solidFill>
              <a:latin typeface="Times New Roman"/>
            </a:endParaRPr>
          </a:p>
        </p:txBody>
      </p:sp>
      <p:sp>
        <p:nvSpPr>
          <p:cNvPr id="586" name=""/>
          <p:cNvSpPr/>
          <p:nvPr/>
        </p:nvSpPr>
        <p:spPr>
          <a:xfrm>
            <a:off x="6561000" y="4932360"/>
            <a:ext cx="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408720" y="5160960"/>
            <a:ext cx="304920" cy="380880"/>
          </a:xfrm>
          <a:prstGeom prst="flowChartCollate">
            <a:avLst/>
          </a:prstGeom>
          <a:gradFill rotWithShape="0">
            <a:gsLst>
              <a:gs pos="0">
                <a:srgbClr val="5e5e75"/>
              </a:gs>
              <a:gs pos="50000">
                <a:srgbClr val="ccccff"/>
              </a:gs>
              <a:gs pos="100000">
                <a:srgbClr val="5e5e75"/>
              </a:gs>
            </a:gsLst>
            <a:lin ang="108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8" name=""/>
          <p:cNvGrpSpPr/>
          <p:nvPr/>
        </p:nvGrpSpPr>
        <p:grpSpPr>
          <a:xfrm>
            <a:off x="4413240" y="741240"/>
            <a:ext cx="2151000" cy="2867040"/>
            <a:chOff x="4413240" y="741240"/>
            <a:chExt cx="2151000" cy="2867040"/>
          </a:xfrm>
        </p:grpSpPr>
        <p:sp>
          <p:nvSpPr>
            <p:cNvPr id="589" name=""/>
            <p:cNvSpPr/>
            <p:nvPr/>
          </p:nvSpPr>
          <p:spPr>
            <a:xfrm>
              <a:off x="4413240" y="996840"/>
              <a:ext cx="2151000" cy="2611440"/>
            </a:xfrm>
            <a:custGeom>
              <a:avLst/>
              <a:gdLst/>
              <a:ahLst/>
              <a:rect l="l" t="t" r="r" b="b"/>
              <a:pathLst>
                <a:path w="1355" h="1645">
                  <a:moveTo>
                    <a:pt x="920" y="0"/>
                  </a:moveTo>
                  <a:cubicBezTo>
                    <a:pt x="789" y="10"/>
                    <a:pt x="658" y="22"/>
                    <a:pt x="527" y="31"/>
                  </a:cubicBezTo>
                  <a:cubicBezTo>
                    <a:pt x="475" y="39"/>
                    <a:pt x="423" y="39"/>
                    <a:pt x="372" y="52"/>
                  </a:cubicBezTo>
                  <a:cubicBezTo>
                    <a:pt x="293" y="72"/>
                    <a:pt x="249" y="155"/>
                    <a:pt x="196" y="207"/>
                  </a:cubicBezTo>
                  <a:cubicBezTo>
                    <a:pt x="155" y="312"/>
                    <a:pt x="121" y="428"/>
                    <a:pt x="51" y="517"/>
                  </a:cubicBezTo>
                  <a:cubicBezTo>
                    <a:pt x="40" y="563"/>
                    <a:pt x="28" y="605"/>
                    <a:pt x="20" y="652"/>
                  </a:cubicBezTo>
                  <a:cubicBezTo>
                    <a:pt x="3" y="864"/>
                    <a:pt x="0" y="840"/>
                    <a:pt x="20" y="1148"/>
                  </a:cubicBezTo>
                  <a:cubicBezTo>
                    <a:pt x="29" y="1295"/>
                    <a:pt x="117" y="1490"/>
                    <a:pt x="258" y="1552"/>
                  </a:cubicBezTo>
                  <a:cubicBezTo>
                    <a:pt x="385" y="1608"/>
                    <a:pt x="515" y="1629"/>
                    <a:pt x="651" y="1645"/>
                  </a:cubicBezTo>
                  <a:cubicBezTo>
                    <a:pt x="710" y="1641"/>
                    <a:pt x="769" y="1642"/>
                    <a:pt x="827" y="1634"/>
                  </a:cubicBezTo>
                  <a:cubicBezTo>
                    <a:pt x="929" y="1621"/>
                    <a:pt x="1023" y="1513"/>
                    <a:pt x="1107" y="1459"/>
                  </a:cubicBezTo>
                  <a:cubicBezTo>
                    <a:pt x="1134" y="1417"/>
                    <a:pt x="1171" y="1386"/>
                    <a:pt x="1200" y="1345"/>
                  </a:cubicBezTo>
                  <a:cubicBezTo>
                    <a:pt x="1214" y="1325"/>
                    <a:pt x="1227" y="1304"/>
                    <a:pt x="1241" y="1283"/>
                  </a:cubicBezTo>
                  <a:cubicBezTo>
                    <a:pt x="1248" y="1273"/>
                    <a:pt x="1262" y="1252"/>
                    <a:pt x="1262" y="1252"/>
                  </a:cubicBezTo>
                  <a:cubicBezTo>
                    <a:pt x="1289" y="1140"/>
                    <a:pt x="1252" y="1272"/>
                    <a:pt x="1293" y="1179"/>
                  </a:cubicBezTo>
                  <a:cubicBezTo>
                    <a:pt x="1313" y="1133"/>
                    <a:pt x="1319" y="1083"/>
                    <a:pt x="1334" y="1035"/>
                  </a:cubicBezTo>
                  <a:cubicBezTo>
                    <a:pt x="1353" y="893"/>
                    <a:pt x="1355" y="765"/>
                    <a:pt x="1345" y="621"/>
                  </a:cubicBezTo>
                  <a:cubicBezTo>
                    <a:pt x="1341" y="561"/>
                    <a:pt x="1333" y="449"/>
                    <a:pt x="1303" y="393"/>
                  </a:cubicBezTo>
                  <a:cubicBezTo>
                    <a:pt x="1264" y="320"/>
                    <a:pt x="1221" y="259"/>
                    <a:pt x="1169" y="197"/>
                  </a:cubicBezTo>
                  <a:cubicBezTo>
                    <a:pt x="1158" y="184"/>
                    <a:pt x="1151" y="167"/>
                    <a:pt x="1138" y="155"/>
                  </a:cubicBezTo>
                  <a:cubicBezTo>
                    <a:pt x="1120" y="139"/>
                    <a:pt x="1076" y="114"/>
                    <a:pt x="1076" y="114"/>
                  </a:cubicBezTo>
                  <a:cubicBezTo>
                    <a:pt x="1053" y="80"/>
                    <a:pt x="1001" y="34"/>
                    <a:pt x="962" y="21"/>
                  </a:cubicBezTo>
                  <a:cubicBezTo>
                    <a:pt x="926" y="9"/>
                    <a:pt x="939" y="19"/>
                    <a:pt x="920" y="0"/>
                  </a:cubicBezTo>
                  <a:close/>
                </a:path>
              </a:pathLst>
            </a:custGeom>
            <a:noFill/>
            <a:ln w="5724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4583160" y="741240"/>
              <a:ext cx="18907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essource 1</a:t>
              </a:r>
              <a:endParaRPr b="0" lang="en-US" sz="2400" spc="-1" strike="noStrike">
                <a:solidFill>
                  <a:srgbClr val="000000"/>
                </a:solidFill>
                <a:latin typeface="Times New Roman"/>
              </a:endParaRPr>
            </a:p>
          </p:txBody>
        </p:sp>
      </p:grpSp>
      <p:grpSp>
        <p:nvGrpSpPr>
          <p:cNvPr id="591" name=""/>
          <p:cNvGrpSpPr/>
          <p:nvPr/>
        </p:nvGrpSpPr>
        <p:grpSpPr>
          <a:xfrm>
            <a:off x="6636960" y="741240"/>
            <a:ext cx="2151000" cy="2916000"/>
            <a:chOff x="6636960" y="741240"/>
            <a:chExt cx="2151000" cy="2916000"/>
          </a:xfrm>
        </p:grpSpPr>
        <p:sp>
          <p:nvSpPr>
            <p:cNvPr id="592" name=""/>
            <p:cNvSpPr/>
            <p:nvPr/>
          </p:nvSpPr>
          <p:spPr>
            <a:xfrm flipH="1" flipV="1">
              <a:off x="6636600" y="1045800"/>
              <a:ext cx="2151000" cy="2611440"/>
            </a:xfrm>
            <a:custGeom>
              <a:avLst/>
              <a:gdLst/>
              <a:ahLst/>
              <a:rect l="l" t="t" r="r" b="b"/>
              <a:pathLst>
                <a:path w="1355" h="1645">
                  <a:moveTo>
                    <a:pt x="920" y="0"/>
                  </a:moveTo>
                  <a:cubicBezTo>
                    <a:pt x="789" y="10"/>
                    <a:pt x="658" y="22"/>
                    <a:pt x="527" y="31"/>
                  </a:cubicBezTo>
                  <a:cubicBezTo>
                    <a:pt x="475" y="39"/>
                    <a:pt x="423" y="39"/>
                    <a:pt x="372" y="52"/>
                  </a:cubicBezTo>
                  <a:cubicBezTo>
                    <a:pt x="293" y="72"/>
                    <a:pt x="249" y="155"/>
                    <a:pt x="196" y="207"/>
                  </a:cubicBezTo>
                  <a:cubicBezTo>
                    <a:pt x="155" y="312"/>
                    <a:pt x="121" y="428"/>
                    <a:pt x="51" y="517"/>
                  </a:cubicBezTo>
                  <a:cubicBezTo>
                    <a:pt x="40" y="563"/>
                    <a:pt x="28" y="605"/>
                    <a:pt x="20" y="652"/>
                  </a:cubicBezTo>
                  <a:cubicBezTo>
                    <a:pt x="3" y="864"/>
                    <a:pt x="0" y="840"/>
                    <a:pt x="20" y="1148"/>
                  </a:cubicBezTo>
                  <a:cubicBezTo>
                    <a:pt x="29" y="1295"/>
                    <a:pt x="117" y="1490"/>
                    <a:pt x="258" y="1552"/>
                  </a:cubicBezTo>
                  <a:cubicBezTo>
                    <a:pt x="385" y="1608"/>
                    <a:pt x="515" y="1629"/>
                    <a:pt x="651" y="1645"/>
                  </a:cubicBezTo>
                  <a:cubicBezTo>
                    <a:pt x="710" y="1641"/>
                    <a:pt x="769" y="1642"/>
                    <a:pt x="827" y="1634"/>
                  </a:cubicBezTo>
                  <a:cubicBezTo>
                    <a:pt x="929" y="1621"/>
                    <a:pt x="1023" y="1513"/>
                    <a:pt x="1107" y="1459"/>
                  </a:cubicBezTo>
                  <a:cubicBezTo>
                    <a:pt x="1134" y="1417"/>
                    <a:pt x="1171" y="1386"/>
                    <a:pt x="1200" y="1345"/>
                  </a:cubicBezTo>
                  <a:cubicBezTo>
                    <a:pt x="1214" y="1325"/>
                    <a:pt x="1227" y="1304"/>
                    <a:pt x="1241" y="1283"/>
                  </a:cubicBezTo>
                  <a:cubicBezTo>
                    <a:pt x="1248" y="1273"/>
                    <a:pt x="1262" y="1252"/>
                    <a:pt x="1262" y="1252"/>
                  </a:cubicBezTo>
                  <a:cubicBezTo>
                    <a:pt x="1289" y="1140"/>
                    <a:pt x="1252" y="1272"/>
                    <a:pt x="1293" y="1179"/>
                  </a:cubicBezTo>
                  <a:cubicBezTo>
                    <a:pt x="1313" y="1133"/>
                    <a:pt x="1319" y="1083"/>
                    <a:pt x="1334" y="1035"/>
                  </a:cubicBezTo>
                  <a:cubicBezTo>
                    <a:pt x="1353" y="893"/>
                    <a:pt x="1355" y="765"/>
                    <a:pt x="1345" y="621"/>
                  </a:cubicBezTo>
                  <a:cubicBezTo>
                    <a:pt x="1341" y="561"/>
                    <a:pt x="1333" y="449"/>
                    <a:pt x="1303" y="393"/>
                  </a:cubicBezTo>
                  <a:cubicBezTo>
                    <a:pt x="1264" y="320"/>
                    <a:pt x="1221" y="259"/>
                    <a:pt x="1169" y="197"/>
                  </a:cubicBezTo>
                  <a:cubicBezTo>
                    <a:pt x="1158" y="184"/>
                    <a:pt x="1151" y="167"/>
                    <a:pt x="1138" y="155"/>
                  </a:cubicBezTo>
                  <a:cubicBezTo>
                    <a:pt x="1120" y="139"/>
                    <a:pt x="1076" y="114"/>
                    <a:pt x="1076" y="114"/>
                  </a:cubicBezTo>
                  <a:cubicBezTo>
                    <a:pt x="1053" y="80"/>
                    <a:pt x="1001" y="34"/>
                    <a:pt x="962" y="21"/>
                  </a:cubicBezTo>
                  <a:cubicBezTo>
                    <a:pt x="926" y="9"/>
                    <a:pt x="939" y="19"/>
                    <a:pt x="920" y="0"/>
                  </a:cubicBezTo>
                  <a:close/>
                </a:path>
              </a:pathLst>
            </a:custGeom>
            <a:noFill/>
            <a:ln w="5724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800400" y="741240"/>
              <a:ext cx="18907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essource 2</a:t>
              </a:r>
              <a:endParaRPr b="0" lang="en-US" sz="2400" spc="-1" strike="noStrike">
                <a:solidFill>
                  <a:srgbClr val="000000"/>
                </a:solidFill>
                <a:latin typeface="Times New Roman"/>
              </a:endParaRPr>
            </a:p>
          </p:txBody>
        </p:sp>
      </p:grpSp>
      <p:grpSp>
        <p:nvGrpSpPr>
          <p:cNvPr id="594" name=""/>
          <p:cNvGrpSpPr/>
          <p:nvPr/>
        </p:nvGrpSpPr>
        <p:grpSpPr>
          <a:xfrm>
            <a:off x="5570640" y="3408480"/>
            <a:ext cx="3493440" cy="2611440"/>
            <a:chOff x="5570640" y="3408480"/>
            <a:chExt cx="3493440" cy="2611440"/>
          </a:xfrm>
        </p:grpSpPr>
        <p:sp>
          <p:nvSpPr>
            <p:cNvPr id="595" name=""/>
            <p:cNvSpPr/>
            <p:nvPr/>
          </p:nvSpPr>
          <p:spPr>
            <a:xfrm flipV="1">
              <a:off x="5570640" y="3408480"/>
              <a:ext cx="1998360" cy="2611440"/>
            </a:xfrm>
            <a:custGeom>
              <a:avLst/>
              <a:gdLst/>
              <a:ahLst/>
              <a:rect l="l" t="t" r="r" b="b"/>
              <a:pathLst>
                <a:path w="1355" h="1645">
                  <a:moveTo>
                    <a:pt x="920" y="0"/>
                  </a:moveTo>
                  <a:cubicBezTo>
                    <a:pt x="789" y="10"/>
                    <a:pt x="658" y="22"/>
                    <a:pt x="527" y="31"/>
                  </a:cubicBezTo>
                  <a:cubicBezTo>
                    <a:pt x="475" y="39"/>
                    <a:pt x="423" y="39"/>
                    <a:pt x="372" y="52"/>
                  </a:cubicBezTo>
                  <a:cubicBezTo>
                    <a:pt x="293" y="72"/>
                    <a:pt x="249" y="155"/>
                    <a:pt x="196" y="207"/>
                  </a:cubicBezTo>
                  <a:cubicBezTo>
                    <a:pt x="155" y="312"/>
                    <a:pt x="121" y="428"/>
                    <a:pt x="51" y="517"/>
                  </a:cubicBezTo>
                  <a:cubicBezTo>
                    <a:pt x="40" y="563"/>
                    <a:pt x="28" y="605"/>
                    <a:pt x="20" y="652"/>
                  </a:cubicBezTo>
                  <a:cubicBezTo>
                    <a:pt x="3" y="864"/>
                    <a:pt x="0" y="840"/>
                    <a:pt x="20" y="1148"/>
                  </a:cubicBezTo>
                  <a:cubicBezTo>
                    <a:pt x="29" y="1295"/>
                    <a:pt x="117" y="1490"/>
                    <a:pt x="258" y="1552"/>
                  </a:cubicBezTo>
                  <a:cubicBezTo>
                    <a:pt x="385" y="1608"/>
                    <a:pt x="515" y="1629"/>
                    <a:pt x="651" y="1645"/>
                  </a:cubicBezTo>
                  <a:cubicBezTo>
                    <a:pt x="710" y="1641"/>
                    <a:pt x="769" y="1642"/>
                    <a:pt x="827" y="1634"/>
                  </a:cubicBezTo>
                  <a:cubicBezTo>
                    <a:pt x="929" y="1621"/>
                    <a:pt x="1023" y="1513"/>
                    <a:pt x="1107" y="1459"/>
                  </a:cubicBezTo>
                  <a:cubicBezTo>
                    <a:pt x="1134" y="1417"/>
                    <a:pt x="1171" y="1386"/>
                    <a:pt x="1200" y="1345"/>
                  </a:cubicBezTo>
                  <a:cubicBezTo>
                    <a:pt x="1214" y="1325"/>
                    <a:pt x="1227" y="1304"/>
                    <a:pt x="1241" y="1283"/>
                  </a:cubicBezTo>
                  <a:cubicBezTo>
                    <a:pt x="1248" y="1273"/>
                    <a:pt x="1262" y="1252"/>
                    <a:pt x="1262" y="1252"/>
                  </a:cubicBezTo>
                  <a:cubicBezTo>
                    <a:pt x="1289" y="1140"/>
                    <a:pt x="1252" y="1272"/>
                    <a:pt x="1293" y="1179"/>
                  </a:cubicBezTo>
                  <a:cubicBezTo>
                    <a:pt x="1313" y="1133"/>
                    <a:pt x="1319" y="1083"/>
                    <a:pt x="1334" y="1035"/>
                  </a:cubicBezTo>
                  <a:cubicBezTo>
                    <a:pt x="1353" y="893"/>
                    <a:pt x="1355" y="765"/>
                    <a:pt x="1345" y="621"/>
                  </a:cubicBezTo>
                  <a:cubicBezTo>
                    <a:pt x="1341" y="561"/>
                    <a:pt x="1333" y="449"/>
                    <a:pt x="1303" y="393"/>
                  </a:cubicBezTo>
                  <a:cubicBezTo>
                    <a:pt x="1264" y="320"/>
                    <a:pt x="1221" y="259"/>
                    <a:pt x="1169" y="197"/>
                  </a:cubicBezTo>
                  <a:cubicBezTo>
                    <a:pt x="1158" y="184"/>
                    <a:pt x="1151" y="167"/>
                    <a:pt x="1138" y="155"/>
                  </a:cubicBezTo>
                  <a:cubicBezTo>
                    <a:pt x="1120" y="139"/>
                    <a:pt x="1076" y="114"/>
                    <a:pt x="1076" y="114"/>
                  </a:cubicBezTo>
                  <a:cubicBezTo>
                    <a:pt x="1053" y="80"/>
                    <a:pt x="1001" y="34"/>
                    <a:pt x="962" y="21"/>
                  </a:cubicBezTo>
                  <a:cubicBezTo>
                    <a:pt x="926" y="9"/>
                    <a:pt x="939" y="19"/>
                    <a:pt x="920" y="0"/>
                  </a:cubicBezTo>
                  <a:close/>
                </a:path>
              </a:pathLst>
            </a:custGeom>
            <a:noFill/>
            <a:ln w="5724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7173360" y="4627800"/>
              <a:ext cx="18907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essource 3</a:t>
              </a:r>
              <a:endParaRPr b="0" lang="en-US" sz="2400" spc="-1" strike="noStrike">
                <a:solidFill>
                  <a:srgbClr val="000000"/>
                </a:solidFill>
                <a:latin typeface="Times New Roman"/>
              </a:endParaRPr>
            </a:p>
          </p:txBody>
        </p:sp>
      </p:grpSp>
      <p:grpSp>
        <p:nvGrpSpPr>
          <p:cNvPr id="597" name=""/>
          <p:cNvGrpSpPr/>
          <p:nvPr/>
        </p:nvGrpSpPr>
        <p:grpSpPr>
          <a:xfrm>
            <a:off x="5105520" y="2819520"/>
            <a:ext cx="457200" cy="609480"/>
            <a:chOff x="5105520" y="2819520"/>
            <a:chExt cx="457200" cy="609480"/>
          </a:xfrm>
        </p:grpSpPr>
        <p:sp>
          <p:nvSpPr>
            <p:cNvPr id="598" name=""/>
            <p:cNvSpPr/>
            <p:nvPr/>
          </p:nvSpPr>
          <p:spPr>
            <a:xfrm>
              <a:off x="5136120" y="2819520"/>
              <a:ext cx="395640" cy="426240"/>
            </a:xfrm>
            <a:prstGeom prst="blockArc">
              <a:avLst>
                <a:gd name="adj1" fmla="val 10612180"/>
                <a:gd name="adj2" fmla="val 187820"/>
                <a:gd name="adj3" fmla="val 19991"/>
              </a:avLst>
            </a:prstGeom>
            <a:gradFill rotWithShape="0">
              <a:gsLst>
                <a:gs pos="0">
                  <a:srgbClr val="00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5105520" y="3033360"/>
              <a:ext cx="457200" cy="395640"/>
            </a:xfrm>
            <a:prstGeom prst="rect">
              <a:avLst/>
            </a:prstGeom>
            <a:gradFill rotWithShape="0">
              <a:gsLst>
                <a:gs pos="0">
                  <a:srgbClr val="0f0f0f"/>
                </a:gs>
                <a:gs pos="50000">
                  <a:srgbClr val="ffffff"/>
                </a:gs>
                <a:gs pos="100000">
                  <a:srgbClr val="0f0f0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0" name=""/>
            <p:cNvGrpSpPr/>
            <p:nvPr/>
          </p:nvGrpSpPr>
          <p:grpSpPr>
            <a:xfrm>
              <a:off x="5257800" y="3074040"/>
              <a:ext cx="152280" cy="304200"/>
              <a:chOff x="5257800" y="3074040"/>
              <a:chExt cx="152280" cy="304200"/>
            </a:xfrm>
          </p:grpSpPr>
          <p:sp>
            <p:nvSpPr>
              <p:cNvPr id="601" name=""/>
              <p:cNvSpPr/>
              <p:nvPr/>
            </p:nvSpPr>
            <p:spPr>
              <a:xfrm flipV="1">
                <a:off x="5257800" y="3214080"/>
                <a:ext cx="152280" cy="163800"/>
              </a:xfrm>
              <a:custGeom>
                <a:avLst/>
                <a:gdLst>
                  <a:gd name="textAreaLeft" fmla="*/ 33480 w 152280"/>
                  <a:gd name="textAreaRight" fmla="*/ 118800 w 152280"/>
                  <a:gd name="textAreaTop" fmla="*/ 36000 h 163800"/>
                  <a:gd name="textAreaBottom" fmla="*/ 127800 h 163800"/>
                </a:gdLst>
                <a:ahLst/>
                <a:rect l="textAreaLeft" t="textAreaTop" r="textAreaRight" b="textAreaBottom"/>
                <a:pathLst>
                  <a:path w="21600" h="21600">
                    <a:moveTo>
                      <a:pt x="0" y="0"/>
                    </a:moveTo>
                    <a:lnTo>
                      <a:pt x="21600" y="0"/>
                    </a:lnTo>
                    <a:lnTo>
                      <a:pt x="16200" y="21600"/>
                    </a:lnTo>
                    <a:lnTo>
                      <a:pt x="5400" y="21600"/>
                    </a:lnTo>
                    <a:close/>
                  </a:path>
                </a:pathLst>
              </a:custGeom>
              <a:solidFill>
                <a:srgbClr val="000000"/>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02" name=""/>
              <p:cNvSpPr/>
              <p:nvPr/>
            </p:nvSpPr>
            <p:spPr>
              <a:xfrm flipV="1">
                <a:off x="5257800" y="3073680"/>
                <a:ext cx="152280" cy="163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03" name=""/>
          <p:cNvSpPr/>
          <p:nvPr/>
        </p:nvSpPr>
        <p:spPr>
          <a:xfrm>
            <a:off x="5029200" y="1371600"/>
            <a:ext cx="1066680" cy="1295280"/>
          </a:xfrm>
          <a:custGeom>
            <a:avLst/>
            <a:gdLst>
              <a:gd name="textAreaLeft" fmla="*/ 51840 w 1066680"/>
              <a:gd name="textAreaRight" fmla="*/ 1014840 w 1066680"/>
              <a:gd name="textAreaTop" fmla="*/ 51840 h 1295280"/>
              <a:gd name="textAreaBottom" fmla="*/ 1243440 h 1295280"/>
            </a:gdLst>
            <a:ahLst/>
            <a:rect l="textAreaLeft" t="textAreaTop" r="textAreaRight" b="textAreaBottom"/>
            <a:pathLst>
              <a:path w="21600" h="26228">
                <a:moveTo>
                  <a:pt x="3600" y="0"/>
                </a:moveTo>
                <a:arcTo wR="3600" hR="3600" stAng="16200000" swAng="-5400000"/>
                <a:lnTo>
                  <a:pt x="0" y="22628"/>
                </a:lnTo>
                <a:arcTo wR="3600" hR="3600" stAng="10800000" swAng="-5400000"/>
                <a:lnTo>
                  <a:pt x="18000" y="26228"/>
                </a:lnTo>
                <a:arcTo wR="3600" hR="3600" stAng="5400000" swAng="-5400000"/>
                <a:lnTo>
                  <a:pt x="21600" y="3600"/>
                </a:lnTo>
                <a:arcTo wR="3600" hR="3600" stAng="0" swAng="-5400000"/>
                <a:close/>
              </a:path>
            </a:pathLst>
          </a:custGeom>
          <a:gradFill rotWithShape="0">
            <a:gsLst>
              <a:gs pos="0">
                <a:srgbClr val="757575"/>
              </a:gs>
              <a:gs pos="50000">
                <a:srgbClr val="ffffff"/>
              </a:gs>
              <a:gs pos="100000">
                <a:srgbClr val="757575"/>
              </a:gs>
            </a:gsLst>
            <a:lin ang="10800000"/>
          </a:gra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
          <p:cNvSpPr/>
          <p:nvPr/>
        </p:nvSpPr>
        <p:spPr>
          <a:xfrm>
            <a:off x="7010280" y="1371600"/>
            <a:ext cx="1067040" cy="1295280"/>
          </a:xfrm>
          <a:custGeom>
            <a:avLst/>
            <a:gdLst>
              <a:gd name="textAreaLeft" fmla="*/ 51840 w 1067040"/>
              <a:gd name="textAreaRight" fmla="*/ 1015200 w 1067040"/>
              <a:gd name="textAreaTop" fmla="*/ 51840 h 1295280"/>
              <a:gd name="textAreaBottom" fmla="*/ 1243440 h 1295280"/>
            </a:gdLst>
            <a:ahLst/>
            <a:rect l="textAreaLeft" t="textAreaTop" r="textAreaRight" b="textAreaBottom"/>
            <a:pathLst>
              <a:path w="21600" h="26219">
                <a:moveTo>
                  <a:pt x="3600" y="0"/>
                </a:moveTo>
                <a:arcTo wR="3600" hR="3600" stAng="16200000" swAng="-5400000"/>
                <a:lnTo>
                  <a:pt x="0" y="22619"/>
                </a:lnTo>
                <a:arcTo wR="3600" hR="3600" stAng="10800000" swAng="-5400000"/>
                <a:lnTo>
                  <a:pt x="18000" y="26219"/>
                </a:lnTo>
                <a:arcTo wR="3600" hR="3600" stAng="5400000" swAng="-5400000"/>
                <a:lnTo>
                  <a:pt x="21600" y="3600"/>
                </a:lnTo>
                <a:arcTo wR="3600" hR="3600" stAng="0" swAng="-5400000"/>
                <a:close/>
              </a:path>
            </a:pathLst>
          </a:custGeom>
          <a:gradFill rotWithShape="0">
            <a:gsLst>
              <a:gs pos="0">
                <a:srgbClr val="005e46"/>
              </a:gs>
              <a:gs pos="50000">
                <a:srgbClr val="00cc99"/>
              </a:gs>
              <a:gs pos="100000">
                <a:srgbClr val="005e46"/>
              </a:gs>
            </a:gsLst>
            <a:lin ang="10800000"/>
          </a:gra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has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a:t>
            </a:r>
            <a:endParaRPr b="0" lang="en-US" sz="2400" spc="-1" strike="noStrike">
              <a:solidFill>
                <a:srgbClr val="000000"/>
              </a:solidFill>
              <a:latin typeface="Times New Roman"/>
            </a:endParaRPr>
          </a:p>
        </p:txBody>
      </p:sp>
      <p:grpSp>
        <p:nvGrpSpPr>
          <p:cNvPr id="605" name=""/>
          <p:cNvGrpSpPr/>
          <p:nvPr/>
        </p:nvGrpSpPr>
        <p:grpSpPr>
          <a:xfrm>
            <a:off x="7086600" y="2819520"/>
            <a:ext cx="457200" cy="609480"/>
            <a:chOff x="7086600" y="2819520"/>
            <a:chExt cx="457200" cy="609480"/>
          </a:xfrm>
        </p:grpSpPr>
        <p:sp>
          <p:nvSpPr>
            <p:cNvPr id="606" name=""/>
            <p:cNvSpPr/>
            <p:nvPr/>
          </p:nvSpPr>
          <p:spPr>
            <a:xfrm>
              <a:off x="7117200" y="2819520"/>
              <a:ext cx="395640" cy="426240"/>
            </a:xfrm>
            <a:prstGeom prst="blockArc">
              <a:avLst>
                <a:gd name="adj1" fmla="val 10612180"/>
                <a:gd name="adj2" fmla="val 187820"/>
                <a:gd name="adj3" fmla="val 19991"/>
              </a:avLst>
            </a:prstGeom>
            <a:gradFill rotWithShape="0">
              <a:gsLst>
                <a:gs pos="0">
                  <a:srgbClr val="00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7086600" y="3033360"/>
              <a:ext cx="457200" cy="395640"/>
            </a:xfrm>
            <a:prstGeom prst="rect">
              <a:avLst/>
            </a:prstGeom>
            <a:gradFill rotWithShape="0">
              <a:gsLst>
                <a:gs pos="0">
                  <a:srgbClr val="0f0f0f"/>
                </a:gs>
                <a:gs pos="50000">
                  <a:srgbClr val="ffffff"/>
                </a:gs>
                <a:gs pos="100000">
                  <a:srgbClr val="0f0f0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8" name=""/>
            <p:cNvGrpSpPr/>
            <p:nvPr/>
          </p:nvGrpSpPr>
          <p:grpSpPr>
            <a:xfrm>
              <a:off x="7238880" y="3074040"/>
              <a:ext cx="152280" cy="304200"/>
              <a:chOff x="7238880" y="3074040"/>
              <a:chExt cx="152280" cy="304200"/>
            </a:xfrm>
          </p:grpSpPr>
          <p:sp>
            <p:nvSpPr>
              <p:cNvPr id="609" name=""/>
              <p:cNvSpPr/>
              <p:nvPr/>
            </p:nvSpPr>
            <p:spPr>
              <a:xfrm flipV="1">
                <a:off x="7238880" y="3214080"/>
                <a:ext cx="152280" cy="163800"/>
              </a:xfrm>
              <a:custGeom>
                <a:avLst/>
                <a:gdLst>
                  <a:gd name="textAreaLeft" fmla="*/ 33480 w 152280"/>
                  <a:gd name="textAreaRight" fmla="*/ 118800 w 152280"/>
                  <a:gd name="textAreaTop" fmla="*/ 36000 h 163800"/>
                  <a:gd name="textAreaBottom" fmla="*/ 127800 h 163800"/>
                </a:gdLst>
                <a:ahLst/>
                <a:rect l="textAreaLeft" t="textAreaTop" r="textAreaRight" b="textAreaBottom"/>
                <a:pathLst>
                  <a:path w="21600" h="21600">
                    <a:moveTo>
                      <a:pt x="0" y="0"/>
                    </a:moveTo>
                    <a:lnTo>
                      <a:pt x="21600" y="0"/>
                    </a:lnTo>
                    <a:lnTo>
                      <a:pt x="16200" y="21600"/>
                    </a:lnTo>
                    <a:lnTo>
                      <a:pt x="5400" y="21600"/>
                    </a:lnTo>
                    <a:close/>
                  </a:path>
                </a:pathLst>
              </a:custGeom>
              <a:solidFill>
                <a:srgbClr val="000000"/>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10" name=""/>
              <p:cNvSpPr/>
              <p:nvPr/>
            </p:nvSpPr>
            <p:spPr>
              <a:xfrm flipV="1">
                <a:off x="7238880" y="3073680"/>
                <a:ext cx="152280" cy="163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11" name=""/>
          <p:cNvGrpSpPr/>
          <p:nvPr/>
        </p:nvGrpSpPr>
        <p:grpSpPr>
          <a:xfrm>
            <a:off x="908280" y="5105520"/>
            <a:ext cx="5644800" cy="609480"/>
            <a:chOff x="908280" y="5105520"/>
            <a:chExt cx="5644800" cy="609480"/>
          </a:xfrm>
        </p:grpSpPr>
        <p:grpSp>
          <p:nvGrpSpPr>
            <p:cNvPr id="612" name=""/>
            <p:cNvGrpSpPr/>
            <p:nvPr/>
          </p:nvGrpSpPr>
          <p:grpSpPr>
            <a:xfrm>
              <a:off x="6095880" y="5105520"/>
              <a:ext cx="457200" cy="609480"/>
              <a:chOff x="6095880" y="5105520"/>
              <a:chExt cx="457200" cy="609480"/>
            </a:xfrm>
          </p:grpSpPr>
          <p:sp>
            <p:nvSpPr>
              <p:cNvPr id="613" name=""/>
              <p:cNvSpPr/>
              <p:nvPr/>
            </p:nvSpPr>
            <p:spPr>
              <a:xfrm>
                <a:off x="6126480" y="5105520"/>
                <a:ext cx="395640" cy="426240"/>
              </a:xfrm>
              <a:prstGeom prst="blockArc">
                <a:avLst>
                  <a:gd name="adj1" fmla="val 10612180"/>
                  <a:gd name="adj2" fmla="val 187820"/>
                  <a:gd name="adj3" fmla="val 19991"/>
                </a:avLst>
              </a:prstGeom>
              <a:gradFill rotWithShape="0">
                <a:gsLst>
                  <a:gs pos="0">
                    <a:srgbClr val="00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6095880" y="5319360"/>
                <a:ext cx="457200" cy="395640"/>
              </a:xfrm>
              <a:prstGeom prst="rect">
                <a:avLst/>
              </a:prstGeom>
              <a:gradFill rotWithShape="0">
                <a:gsLst>
                  <a:gs pos="0">
                    <a:srgbClr val="0f0f0f"/>
                  </a:gs>
                  <a:gs pos="50000">
                    <a:srgbClr val="ffffff"/>
                  </a:gs>
                  <a:gs pos="100000">
                    <a:srgbClr val="0f0f0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5" name=""/>
              <p:cNvGrpSpPr/>
              <p:nvPr/>
            </p:nvGrpSpPr>
            <p:grpSpPr>
              <a:xfrm>
                <a:off x="6248160" y="5360040"/>
                <a:ext cx="152280" cy="304200"/>
                <a:chOff x="6248160" y="5360040"/>
                <a:chExt cx="152280" cy="304200"/>
              </a:xfrm>
            </p:grpSpPr>
            <p:sp>
              <p:nvSpPr>
                <p:cNvPr id="616" name=""/>
                <p:cNvSpPr/>
                <p:nvPr/>
              </p:nvSpPr>
              <p:spPr>
                <a:xfrm flipV="1">
                  <a:off x="6248160" y="5500080"/>
                  <a:ext cx="152280" cy="163800"/>
                </a:xfrm>
                <a:custGeom>
                  <a:avLst/>
                  <a:gdLst>
                    <a:gd name="textAreaLeft" fmla="*/ 33480 w 152280"/>
                    <a:gd name="textAreaRight" fmla="*/ 118800 w 152280"/>
                    <a:gd name="textAreaTop" fmla="*/ 36000 h 163800"/>
                    <a:gd name="textAreaBottom" fmla="*/ 127800 h 163800"/>
                  </a:gdLst>
                  <a:ahLst/>
                  <a:rect l="textAreaLeft" t="textAreaTop" r="textAreaRight" b="textAreaBottom"/>
                  <a:pathLst>
                    <a:path w="21600" h="21600">
                      <a:moveTo>
                        <a:pt x="0" y="0"/>
                      </a:moveTo>
                      <a:lnTo>
                        <a:pt x="21600" y="0"/>
                      </a:lnTo>
                      <a:lnTo>
                        <a:pt x="16200" y="21600"/>
                      </a:lnTo>
                      <a:lnTo>
                        <a:pt x="5400" y="21600"/>
                      </a:lnTo>
                      <a:close/>
                    </a:path>
                  </a:pathLst>
                </a:custGeom>
                <a:solidFill>
                  <a:srgbClr val="000000"/>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17" name=""/>
                <p:cNvSpPr/>
                <p:nvPr/>
              </p:nvSpPr>
              <p:spPr>
                <a:xfrm flipV="1">
                  <a:off x="6248160" y="5359680"/>
                  <a:ext cx="152280" cy="163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18" name=""/>
            <p:cNvSpPr/>
            <p:nvPr/>
          </p:nvSpPr>
          <p:spPr>
            <a:xfrm>
              <a:off x="908280" y="5257800"/>
              <a:ext cx="44434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Arial"/>
                </a:rPr>
                <a:t>…</a:t>
              </a:r>
              <a:r>
                <a:rPr b="0" lang="fr-FR" sz="2000" spc="-1" strike="noStrike">
                  <a:solidFill>
                    <a:srgbClr val="ffff00"/>
                  </a:solidFill>
                  <a:latin typeface="Arial"/>
                </a:rPr>
                <a:t>si ressource aval libre, par exemple</a:t>
              </a:r>
              <a:endParaRPr b="0" lang="en-US" sz="2000" spc="-1" strike="noStrike">
                <a:solidFill>
                  <a:srgbClr val="000000"/>
                </a:solidFill>
                <a:latin typeface="Times New Roman"/>
              </a:endParaRPr>
            </a:p>
          </p:txBody>
        </p:sp>
        <p:sp>
          <p:nvSpPr>
            <p:cNvPr id="619" name=""/>
            <p:cNvSpPr/>
            <p:nvPr/>
          </p:nvSpPr>
          <p:spPr>
            <a:xfrm>
              <a:off x="5410080" y="5486400"/>
              <a:ext cx="53352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0" name=""/>
          <p:cNvSpPr/>
          <p:nvPr/>
        </p:nvSpPr>
        <p:spPr>
          <a:xfrm>
            <a:off x="6019920" y="3581280"/>
            <a:ext cx="1066680" cy="1295640"/>
          </a:xfrm>
          <a:custGeom>
            <a:avLst/>
            <a:gdLst>
              <a:gd name="textAreaLeft" fmla="*/ 51840 w 1066680"/>
              <a:gd name="textAreaRight" fmla="*/ 1014840 w 1066680"/>
              <a:gd name="textAreaTop" fmla="*/ 51840 h 1295640"/>
              <a:gd name="textAreaBottom" fmla="*/ 1243800 h 1295640"/>
            </a:gdLst>
            <a:ahLst/>
            <a:rect l="textAreaLeft" t="textAreaTop" r="textAreaRight" b="textAreaBottom"/>
            <a:pathLst>
              <a:path w="21600" h="26235">
                <a:moveTo>
                  <a:pt x="3600" y="0"/>
                </a:moveTo>
                <a:arcTo wR="3600" hR="3600" stAng="16200000" swAng="-5400000"/>
                <a:lnTo>
                  <a:pt x="0" y="22635"/>
                </a:lnTo>
                <a:arcTo wR="3600" hR="3600" stAng="10800000" swAng="-5400000"/>
                <a:lnTo>
                  <a:pt x="18000" y="26235"/>
                </a:lnTo>
                <a:arcTo wR="3600" hR="3600" stAng="5400000" swAng="-5400000"/>
                <a:lnTo>
                  <a:pt x="21600" y="3600"/>
                </a:lnTo>
                <a:arcTo wR="3600" hR="3600" stAng="0" swAng="-5400000"/>
                <a:close/>
              </a:path>
            </a:pathLst>
          </a:custGeom>
          <a:gradFill rotWithShape="0">
            <a:gsLst>
              <a:gs pos="0">
                <a:srgbClr val="005e46"/>
              </a:gs>
              <a:gs pos="50000">
                <a:srgbClr val="00cc99"/>
              </a:gs>
              <a:gs pos="100000">
                <a:srgbClr val="005e46"/>
              </a:gs>
            </a:gsLst>
            <a:lin ang="10800000"/>
          </a:gra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has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a:t>
            </a:r>
            <a:endParaRPr b="0" lang="en-US" sz="2400" spc="-1" strike="noStrike">
              <a:solidFill>
                <a:srgbClr val="000000"/>
              </a:solidFill>
              <a:latin typeface="Times New Roman"/>
            </a:endParaRPr>
          </a:p>
        </p:txBody>
      </p:sp>
      <p:sp>
        <p:nvSpPr>
          <p:cNvPr id="621" name="PlaceHolder 2"/>
          <p:cNvSpPr>
            <a:spLocks noGrp="1"/>
          </p:cNvSpPr>
          <p:nvPr>
            <p:ph/>
          </p:nvPr>
        </p:nvSpPr>
        <p:spPr>
          <a:xfrm>
            <a:off x="990720" y="1299960"/>
            <a:ext cx="3635280" cy="4243320"/>
          </a:xfrm>
          <a:prstGeom prst="rect">
            <a:avLst/>
          </a:prstGeom>
          <a:noFill/>
          <a:ln w="0">
            <a:noFill/>
          </a:ln>
        </p:spPr>
        <p:txBody>
          <a:bodyPr lIns="90000" rIns="90000" tIns="46800" bIns="46800" anchor="t">
            <a:normAutofit/>
          </a:bodyPr>
          <a:p>
            <a:pPr marL="343080" indent="-343080">
              <a:lnSpc>
                <a:spcPct val="14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6600"/>
                </a:solidFill>
                <a:latin typeface="Arial"/>
              </a:rPr>
              <a:t>Un organe « frontière » est cadenassé lorsque sa ressource est occupée par une phase différente de celle qui occupe la ressource adjacente</a:t>
            </a:r>
            <a:endParaRPr b="0" lang="en-US" sz="2400" spc="-1" strike="noStrike">
              <a:solidFill>
                <a:srgbClr val="ff6600"/>
              </a:solidFill>
              <a:latin typeface="Arial"/>
            </a:endParaRPr>
          </a:p>
        </p:txBody>
      </p:sp>
      <p:grpSp>
        <p:nvGrpSpPr>
          <p:cNvPr id="622" name=""/>
          <p:cNvGrpSpPr/>
          <p:nvPr/>
        </p:nvGrpSpPr>
        <p:grpSpPr>
          <a:xfrm>
            <a:off x="7086600" y="2819520"/>
            <a:ext cx="457200" cy="609480"/>
            <a:chOff x="7086600" y="2819520"/>
            <a:chExt cx="457200" cy="609480"/>
          </a:xfrm>
        </p:grpSpPr>
        <p:sp>
          <p:nvSpPr>
            <p:cNvPr id="623" name=""/>
            <p:cNvSpPr/>
            <p:nvPr/>
          </p:nvSpPr>
          <p:spPr>
            <a:xfrm>
              <a:off x="7117200" y="2819520"/>
              <a:ext cx="395640" cy="426240"/>
            </a:xfrm>
            <a:prstGeom prst="blockArc">
              <a:avLst>
                <a:gd name="adj1" fmla="val 10612180"/>
                <a:gd name="adj2" fmla="val 187820"/>
                <a:gd name="adj3" fmla="val 19991"/>
              </a:avLst>
            </a:prstGeom>
            <a:gradFill rotWithShape="0">
              <a:gsLst>
                <a:gs pos="0">
                  <a:srgbClr val="00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7086600" y="3033360"/>
              <a:ext cx="457200" cy="395640"/>
            </a:xfrm>
            <a:prstGeom prst="rect">
              <a:avLst/>
            </a:prstGeom>
            <a:gradFill rotWithShape="0">
              <a:gsLst>
                <a:gs pos="0">
                  <a:srgbClr val="0f0f0f"/>
                </a:gs>
                <a:gs pos="50000">
                  <a:srgbClr val="ffffff"/>
                </a:gs>
                <a:gs pos="100000">
                  <a:srgbClr val="0f0f0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5" name=""/>
            <p:cNvGrpSpPr/>
            <p:nvPr/>
          </p:nvGrpSpPr>
          <p:grpSpPr>
            <a:xfrm>
              <a:off x="7238880" y="3074040"/>
              <a:ext cx="152280" cy="304200"/>
              <a:chOff x="7238880" y="3074040"/>
              <a:chExt cx="152280" cy="304200"/>
            </a:xfrm>
          </p:grpSpPr>
          <p:sp>
            <p:nvSpPr>
              <p:cNvPr id="626" name=""/>
              <p:cNvSpPr/>
              <p:nvPr/>
            </p:nvSpPr>
            <p:spPr>
              <a:xfrm flipV="1">
                <a:off x="7238880" y="3214080"/>
                <a:ext cx="152280" cy="163800"/>
              </a:xfrm>
              <a:custGeom>
                <a:avLst/>
                <a:gdLst>
                  <a:gd name="textAreaLeft" fmla="*/ 33480 w 152280"/>
                  <a:gd name="textAreaRight" fmla="*/ 118800 w 152280"/>
                  <a:gd name="textAreaTop" fmla="*/ 36000 h 163800"/>
                  <a:gd name="textAreaBottom" fmla="*/ 127800 h 163800"/>
                </a:gdLst>
                <a:ahLst/>
                <a:rect l="textAreaLeft" t="textAreaTop" r="textAreaRight" b="textAreaBottom"/>
                <a:pathLst>
                  <a:path w="21600" h="21600">
                    <a:moveTo>
                      <a:pt x="0" y="0"/>
                    </a:moveTo>
                    <a:lnTo>
                      <a:pt x="21600" y="0"/>
                    </a:lnTo>
                    <a:lnTo>
                      <a:pt x="16200" y="21600"/>
                    </a:lnTo>
                    <a:lnTo>
                      <a:pt x="5400" y="21600"/>
                    </a:lnTo>
                    <a:close/>
                  </a:path>
                </a:pathLst>
              </a:custGeom>
              <a:solidFill>
                <a:srgbClr val="000000"/>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27" name=""/>
              <p:cNvSpPr/>
              <p:nvPr/>
            </p:nvSpPr>
            <p:spPr>
              <a:xfrm flipV="1">
                <a:off x="7238880" y="3073680"/>
                <a:ext cx="152280" cy="163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28" name=""/>
          <p:cNvSpPr/>
          <p:nvPr/>
        </p:nvSpPr>
        <p:spPr>
          <a:xfrm>
            <a:off x="7391520" y="2895480"/>
            <a:ext cx="304560" cy="381240"/>
          </a:xfrm>
          <a:prstGeom prst="flowChartCollate">
            <a:avLst/>
          </a:prstGeom>
          <a:gradFill rotWithShape="0">
            <a:gsLst>
              <a:gs pos="0">
                <a:srgbClr val="17175e"/>
              </a:gs>
              <a:gs pos="50000">
                <a:srgbClr val="3333cc"/>
              </a:gs>
              <a:gs pos="100000">
                <a:srgbClr val="17175e"/>
              </a:gs>
            </a:gsLst>
            <a:lin ang="108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7010280" y="2133720"/>
            <a:ext cx="990720" cy="1981080"/>
          </a:xfrm>
          <a:custGeom>
            <a:avLst/>
            <a:gdLst>
              <a:gd name="textAreaLeft" fmla="*/ 0 w 990720"/>
              <a:gd name="textAreaRight" fmla="*/ 991080 w 990720"/>
              <a:gd name="textAreaTop" fmla="*/ 0 h 1981080"/>
              <a:gd name="textAreaBottom" fmla="*/ 1981440 h 1981080"/>
            </a:gdLst>
            <a:ahLst/>
            <a:rect l="textAreaLeft" t="textAreaTop" r="textAreaRight" b="textAreaBottom"/>
            <a:pathLst>
              <a:path w="21600" h="21600">
                <a:moveTo>
                  <a:pt x="8238" y="3116"/>
                </a:moveTo>
                <a:arcTo wR="-8100" hR="-8100" stAng="-6506232" swAng="-5013992"/>
                <a:lnTo>
                  <a:pt x="21364" y="8554"/>
                </a:lnTo>
                <a:arcTo wR="10800" hR="10800" stAng="-720223" swAng="5013992"/>
                <a:lnTo>
                  <a:pt x="15070" y="23607"/>
                </a:lnTo>
                <a:lnTo>
                  <a:pt x="9947" y="21046"/>
                </a:lnTo>
                <a:lnTo>
                  <a:pt x="12508" y="15923"/>
                </a:lnTo>
                <a:close/>
              </a:path>
            </a:pathLst>
          </a:cu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F5C3C3A-6670-44A6-987A-5D4874F521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ff9"/>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762120" y="304560"/>
            <a:ext cx="624816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c00"/>
                </a:solidFill>
                <a:latin typeface="Arial"/>
              </a:rPr>
              <a:t>Surêté de fonctionnement d ’un atelier Batch</a:t>
            </a:r>
            <a:endParaRPr b="1" lang="en-US" sz="2800" spc="-1" strike="noStrike">
              <a:solidFill>
                <a:srgbClr val="ffcc00"/>
              </a:solidFill>
              <a:latin typeface="Arial"/>
            </a:endParaRPr>
          </a:p>
        </p:txBody>
      </p:sp>
      <p:grpSp>
        <p:nvGrpSpPr>
          <p:cNvPr id="631" name=""/>
          <p:cNvGrpSpPr/>
          <p:nvPr/>
        </p:nvGrpSpPr>
        <p:grpSpPr>
          <a:xfrm>
            <a:off x="1752840" y="5257440"/>
            <a:ext cx="5943240" cy="762480"/>
            <a:chOff x="1752840" y="5257440"/>
            <a:chExt cx="5943240" cy="762480"/>
          </a:xfrm>
        </p:grpSpPr>
        <p:grpSp>
          <p:nvGrpSpPr>
            <p:cNvPr id="632" name=""/>
            <p:cNvGrpSpPr/>
            <p:nvPr/>
          </p:nvGrpSpPr>
          <p:grpSpPr>
            <a:xfrm>
              <a:off x="1752840" y="5257800"/>
              <a:ext cx="456840" cy="685800"/>
              <a:chOff x="1752840" y="5257800"/>
              <a:chExt cx="456840" cy="685800"/>
            </a:xfrm>
          </p:grpSpPr>
          <p:grpSp>
            <p:nvGrpSpPr>
              <p:cNvPr id="633" name=""/>
              <p:cNvGrpSpPr/>
              <p:nvPr/>
            </p:nvGrpSpPr>
            <p:grpSpPr>
              <a:xfrm>
                <a:off x="1752840" y="5486400"/>
                <a:ext cx="456840" cy="457200"/>
                <a:chOff x="1752840" y="5486400"/>
                <a:chExt cx="456840" cy="457200"/>
              </a:xfrm>
            </p:grpSpPr>
            <p:sp>
              <p:nvSpPr>
                <p:cNvPr id="634" name=""/>
                <p:cNvSpPr/>
                <p:nvPr/>
              </p:nvSpPr>
              <p:spPr>
                <a:xfrm rot="5400000">
                  <a:off x="1638360" y="5600520"/>
                  <a:ext cx="457200" cy="228600"/>
                </a:xfrm>
                <a:prstGeom prst="triangle">
                  <a:avLst>
                    <a:gd name="adj" fmla="val 50000"/>
                  </a:avLst>
                </a:prstGeom>
                <a:gradFill rotWithShape="0">
                  <a:gsLst>
                    <a:gs pos="0">
                      <a:srgbClr val="5e5e75"/>
                    </a:gs>
                    <a:gs pos="100000">
                      <a:srgbClr val="ccccff"/>
                    </a:gs>
                  </a:gsLst>
                  <a:lin ang="135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5" name=""/>
                <p:cNvSpPr/>
                <p:nvPr/>
              </p:nvSpPr>
              <p:spPr>
                <a:xfrm flipV="1" rot="5400000">
                  <a:off x="1866960" y="5600880"/>
                  <a:ext cx="457200" cy="228240"/>
                </a:xfrm>
                <a:prstGeom prst="triangle">
                  <a:avLst>
                    <a:gd name="adj" fmla="val 50000"/>
                  </a:avLst>
                </a:prstGeom>
                <a:gradFill rotWithShape="0">
                  <a:gsLst>
                    <a:gs pos="0">
                      <a:srgbClr val="5e5e75"/>
                    </a:gs>
                    <a:gs pos="100000">
                      <a:srgbClr val="ccccff"/>
                    </a:gs>
                  </a:gsLst>
                  <a:lin ang="135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636" name=""/>
              <p:cNvSpPr/>
              <p:nvPr/>
            </p:nvSpPr>
            <p:spPr>
              <a:xfrm flipV="1">
                <a:off x="1981080" y="525780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7" name=""/>
            <p:cNvGrpSpPr/>
            <p:nvPr/>
          </p:nvGrpSpPr>
          <p:grpSpPr>
            <a:xfrm>
              <a:off x="4800600" y="5257440"/>
              <a:ext cx="762120" cy="762480"/>
              <a:chOff x="4800600" y="5257440"/>
              <a:chExt cx="762120" cy="762480"/>
            </a:xfrm>
          </p:grpSpPr>
          <p:grpSp>
            <p:nvGrpSpPr>
              <p:cNvPr id="638" name=""/>
              <p:cNvGrpSpPr/>
              <p:nvPr/>
            </p:nvGrpSpPr>
            <p:grpSpPr>
              <a:xfrm>
                <a:off x="4800600" y="5486400"/>
                <a:ext cx="762120" cy="533520"/>
                <a:chOff x="4800600" y="5486400"/>
                <a:chExt cx="762120" cy="533520"/>
              </a:xfrm>
            </p:grpSpPr>
            <p:sp>
              <p:nvSpPr>
                <p:cNvPr id="639" name=""/>
                <p:cNvSpPr/>
                <p:nvPr/>
              </p:nvSpPr>
              <p:spPr>
                <a:xfrm>
                  <a:off x="5257800" y="5486400"/>
                  <a:ext cx="304920" cy="152280"/>
                </a:xfrm>
                <a:prstGeom prst="rect">
                  <a:avLst/>
                </a:prstGeom>
                <a:gradFill rotWithShape="0">
                  <a:gsLst>
                    <a:gs pos="0">
                      <a:srgbClr val="5e5e75"/>
                    </a:gs>
                    <a:gs pos="100000">
                      <a:srgbClr val="ccccff"/>
                    </a:gs>
                  </a:gsLst>
                  <a:lin ang="135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4800600" y="5715000"/>
                  <a:ext cx="304920" cy="152280"/>
                </a:xfrm>
                <a:prstGeom prst="rect">
                  <a:avLst/>
                </a:prstGeom>
                <a:gradFill rotWithShape="0">
                  <a:gsLst>
                    <a:gs pos="0">
                      <a:srgbClr val="5e5e75"/>
                    </a:gs>
                    <a:gs pos="100000">
                      <a:srgbClr val="ccccff"/>
                    </a:gs>
                  </a:gsLst>
                  <a:lin ang="135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5486400"/>
                  <a:ext cx="533520" cy="533520"/>
                </a:xfrm>
                <a:prstGeom prst="ellipse">
                  <a:avLst/>
                </a:prstGeom>
                <a:gradFill rotWithShape="0">
                  <a:gsLst>
                    <a:gs pos="0">
                      <a:srgbClr val="5e5e75"/>
                    </a:gs>
                    <a:gs pos="100000">
                      <a:srgbClr val="ccccff"/>
                    </a:gs>
                  </a:gsLst>
                  <a:lin ang="135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2" name=""/>
              <p:cNvSpPr/>
              <p:nvPr/>
            </p:nvSpPr>
            <p:spPr>
              <a:xfrm flipV="1">
                <a:off x="5257800" y="525744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3" name=""/>
            <p:cNvGrpSpPr/>
            <p:nvPr/>
          </p:nvGrpSpPr>
          <p:grpSpPr>
            <a:xfrm>
              <a:off x="7238880" y="5257440"/>
              <a:ext cx="457200" cy="762120"/>
              <a:chOff x="7238880" y="5257440"/>
              <a:chExt cx="457200" cy="762120"/>
            </a:xfrm>
          </p:grpSpPr>
          <p:sp>
            <p:nvSpPr>
              <p:cNvPr id="644" name=""/>
              <p:cNvSpPr/>
              <p:nvPr/>
            </p:nvSpPr>
            <p:spPr>
              <a:xfrm flipV="1">
                <a:off x="7315200" y="5714280"/>
                <a:ext cx="304920" cy="304920"/>
              </a:xfrm>
              <a:custGeom>
                <a:avLst/>
                <a:gdLst>
                  <a:gd name="textAreaLeft" fmla="*/ 66960 w 304920"/>
                  <a:gd name="textAreaRight" fmla="*/ 237960 w 304920"/>
                  <a:gd name="textAreaTop" fmla="*/ 66960 h 304920"/>
                  <a:gd name="textAreaBottom" fmla="*/ 237960 h 30492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5e5e75"/>
                  </a:gs>
                  <a:gs pos="100000">
                    <a:srgbClr val="ccccf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7238880" y="5486400"/>
                <a:ext cx="457200" cy="457200"/>
              </a:xfrm>
              <a:prstGeom prst="ellipse">
                <a:avLst/>
              </a:prstGeom>
              <a:gradFill rotWithShape="0">
                <a:gsLst>
                  <a:gs pos="0">
                    <a:srgbClr val="5e5e75"/>
                  </a:gs>
                  <a:gs pos="100000">
                    <a:srgbClr val="ccccff"/>
                  </a:gs>
                </a:gsLst>
                <a:lin ang="135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flipV="1">
                <a:off x="7467480" y="525744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7" name=""/>
            <p:cNvGrpSpPr/>
            <p:nvPr/>
          </p:nvGrpSpPr>
          <p:grpSpPr>
            <a:xfrm>
              <a:off x="2819880" y="5257800"/>
              <a:ext cx="456840" cy="685800"/>
              <a:chOff x="2819880" y="5257800"/>
              <a:chExt cx="456840" cy="685800"/>
            </a:xfrm>
          </p:grpSpPr>
          <p:grpSp>
            <p:nvGrpSpPr>
              <p:cNvPr id="648" name=""/>
              <p:cNvGrpSpPr/>
              <p:nvPr/>
            </p:nvGrpSpPr>
            <p:grpSpPr>
              <a:xfrm>
                <a:off x="2819880" y="5486400"/>
                <a:ext cx="456840" cy="457200"/>
                <a:chOff x="2819880" y="5486400"/>
                <a:chExt cx="456840" cy="457200"/>
              </a:xfrm>
            </p:grpSpPr>
            <p:sp>
              <p:nvSpPr>
                <p:cNvPr id="649" name=""/>
                <p:cNvSpPr/>
                <p:nvPr/>
              </p:nvSpPr>
              <p:spPr>
                <a:xfrm rot="5400000">
                  <a:off x="2705400" y="5600520"/>
                  <a:ext cx="457200" cy="228600"/>
                </a:xfrm>
                <a:prstGeom prst="triangle">
                  <a:avLst>
                    <a:gd name="adj" fmla="val 50000"/>
                  </a:avLst>
                </a:prstGeom>
                <a:gradFill rotWithShape="0">
                  <a:gsLst>
                    <a:gs pos="0">
                      <a:srgbClr val="5e5e75"/>
                    </a:gs>
                    <a:gs pos="100000">
                      <a:srgbClr val="ccccff"/>
                    </a:gs>
                  </a:gsLst>
                  <a:lin ang="135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50" name=""/>
                <p:cNvSpPr/>
                <p:nvPr/>
              </p:nvSpPr>
              <p:spPr>
                <a:xfrm flipV="1" rot="5400000">
                  <a:off x="2934000" y="5600880"/>
                  <a:ext cx="457200" cy="228240"/>
                </a:xfrm>
                <a:prstGeom prst="triangle">
                  <a:avLst>
                    <a:gd name="adj" fmla="val 50000"/>
                  </a:avLst>
                </a:prstGeom>
                <a:gradFill rotWithShape="0">
                  <a:gsLst>
                    <a:gs pos="0">
                      <a:srgbClr val="5e5e75"/>
                    </a:gs>
                    <a:gs pos="100000">
                      <a:srgbClr val="ccccff"/>
                    </a:gs>
                  </a:gsLst>
                  <a:lin ang="135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651" name=""/>
              <p:cNvSpPr/>
              <p:nvPr/>
            </p:nvSpPr>
            <p:spPr>
              <a:xfrm flipV="1">
                <a:off x="3048120" y="525780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2" name=""/>
            <p:cNvGrpSpPr/>
            <p:nvPr/>
          </p:nvGrpSpPr>
          <p:grpSpPr>
            <a:xfrm>
              <a:off x="3886560" y="5257800"/>
              <a:ext cx="456840" cy="685800"/>
              <a:chOff x="3886560" y="5257800"/>
              <a:chExt cx="456840" cy="685800"/>
            </a:xfrm>
          </p:grpSpPr>
          <p:grpSp>
            <p:nvGrpSpPr>
              <p:cNvPr id="653" name=""/>
              <p:cNvGrpSpPr/>
              <p:nvPr/>
            </p:nvGrpSpPr>
            <p:grpSpPr>
              <a:xfrm>
                <a:off x="3886560" y="5486400"/>
                <a:ext cx="456840" cy="457200"/>
                <a:chOff x="3886560" y="5486400"/>
                <a:chExt cx="456840" cy="457200"/>
              </a:xfrm>
            </p:grpSpPr>
            <p:sp>
              <p:nvSpPr>
                <p:cNvPr id="654" name=""/>
                <p:cNvSpPr/>
                <p:nvPr/>
              </p:nvSpPr>
              <p:spPr>
                <a:xfrm rot="5400000">
                  <a:off x="3772080" y="5600520"/>
                  <a:ext cx="457200" cy="228600"/>
                </a:xfrm>
                <a:prstGeom prst="triangle">
                  <a:avLst>
                    <a:gd name="adj" fmla="val 50000"/>
                  </a:avLst>
                </a:prstGeom>
                <a:gradFill rotWithShape="0">
                  <a:gsLst>
                    <a:gs pos="0">
                      <a:srgbClr val="5e5e75"/>
                    </a:gs>
                    <a:gs pos="100000">
                      <a:srgbClr val="ccccff"/>
                    </a:gs>
                  </a:gsLst>
                  <a:lin ang="135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55" name=""/>
                <p:cNvSpPr/>
                <p:nvPr/>
              </p:nvSpPr>
              <p:spPr>
                <a:xfrm flipV="1" rot="5400000">
                  <a:off x="4000680" y="5600880"/>
                  <a:ext cx="457200" cy="228240"/>
                </a:xfrm>
                <a:prstGeom prst="triangle">
                  <a:avLst>
                    <a:gd name="adj" fmla="val 50000"/>
                  </a:avLst>
                </a:prstGeom>
                <a:gradFill rotWithShape="0">
                  <a:gsLst>
                    <a:gs pos="0">
                      <a:srgbClr val="5e5e75"/>
                    </a:gs>
                    <a:gs pos="100000">
                      <a:srgbClr val="ccccff"/>
                    </a:gs>
                  </a:gsLst>
                  <a:lin ang="135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656" name=""/>
              <p:cNvSpPr/>
              <p:nvPr/>
            </p:nvSpPr>
            <p:spPr>
              <a:xfrm flipV="1">
                <a:off x="4114800" y="525780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7" name=""/>
            <p:cNvGrpSpPr/>
            <p:nvPr/>
          </p:nvGrpSpPr>
          <p:grpSpPr>
            <a:xfrm>
              <a:off x="6172560" y="5257800"/>
              <a:ext cx="456840" cy="685800"/>
              <a:chOff x="6172560" y="5257800"/>
              <a:chExt cx="456840" cy="685800"/>
            </a:xfrm>
          </p:grpSpPr>
          <p:grpSp>
            <p:nvGrpSpPr>
              <p:cNvPr id="658" name=""/>
              <p:cNvGrpSpPr/>
              <p:nvPr/>
            </p:nvGrpSpPr>
            <p:grpSpPr>
              <a:xfrm>
                <a:off x="6172560" y="5486400"/>
                <a:ext cx="456840" cy="457200"/>
                <a:chOff x="6172560" y="5486400"/>
                <a:chExt cx="456840" cy="457200"/>
              </a:xfrm>
            </p:grpSpPr>
            <p:sp>
              <p:nvSpPr>
                <p:cNvPr id="659" name=""/>
                <p:cNvSpPr/>
                <p:nvPr/>
              </p:nvSpPr>
              <p:spPr>
                <a:xfrm rot="5400000">
                  <a:off x="6058080" y="5600520"/>
                  <a:ext cx="457200" cy="228600"/>
                </a:xfrm>
                <a:prstGeom prst="triangle">
                  <a:avLst>
                    <a:gd name="adj" fmla="val 50000"/>
                  </a:avLst>
                </a:prstGeom>
                <a:gradFill rotWithShape="0">
                  <a:gsLst>
                    <a:gs pos="0">
                      <a:srgbClr val="5e5e75"/>
                    </a:gs>
                    <a:gs pos="100000">
                      <a:srgbClr val="ccccff"/>
                    </a:gs>
                  </a:gsLst>
                  <a:lin ang="135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0" name=""/>
                <p:cNvSpPr/>
                <p:nvPr/>
              </p:nvSpPr>
              <p:spPr>
                <a:xfrm flipV="1" rot="5400000">
                  <a:off x="6286680" y="5600880"/>
                  <a:ext cx="457200" cy="228240"/>
                </a:xfrm>
                <a:prstGeom prst="triangle">
                  <a:avLst>
                    <a:gd name="adj" fmla="val 50000"/>
                  </a:avLst>
                </a:prstGeom>
                <a:gradFill rotWithShape="0">
                  <a:gsLst>
                    <a:gs pos="0">
                      <a:srgbClr val="5e5e75"/>
                    </a:gs>
                    <a:gs pos="100000">
                      <a:srgbClr val="ccccff"/>
                    </a:gs>
                  </a:gsLst>
                  <a:lin ang="135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661" name=""/>
              <p:cNvSpPr/>
              <p:nvPr/>
            </p:nvSpPr>
            <p:spPr>
              <a:xfrm flipV="1">
                <a:off x="6400800" y="525780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62" name=""/>
          <p:cNvSpPr/>
          <p:nvPr/>
        </p:nvSpPr>
        <p:spPr>
          <a:xfrm>
            <a:off x="1523880" y="3581280"/>
            <a:ext cx="6782040" cy="175284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6698880" y="4160880"/>
            <a:ext cx="133452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3300"/>
                </a:solidFill>
                <a:latin typeface="Arial"/>
              </a:rPr>
              <a:t>SNCC</a:t>
            </a:r>
            <a:endParaRPr b="0" lang="en-US" sz="3200" spc="-1" strike="noStrike">
              <a:solidFill>
                <a:srgbClr val="000000"/>
              </a:solidFill>
              <a:latin typeface="Times New Roman"/>
            </a:endParaRPr>
          </a:p>
        </p:txBody>
      </p:sp>
      <p:sp>
        <p:nvSpPr>
          <p:cNvPr id="664" name=""/>
          <p:cNvSpPr/>
          <p:nvPr/>
        </p:nvSpPr>
        <p:spPr>
          <a:xfrm>
            <a:off x="1523880" y="1219320"/>
            <a:ext cx="6782040" cy="22096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6021360" y="1420920"/>
            <a:ext cx="2354040" cy="9471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Gestionnair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de Batch</a:t>
            </a:r>
            <a:endParaRPr b="0" lang="en-US" sz="2800" spc="-1" strike="noStrike">
              <a:solidFill>
                <a:srgbClr val="000000"/>
              </a:solidFill>
              <a:latin typeface="Times New Roman"/>
            </a:endParaRPr>
          </a:p>
        </p:txBody>
      </p:sp>
      <p:sp>
        <p:nvSpPr>
          <p:cNvPr id="666" name=""/>
          <p:cNvSpPr/>
          <p:nvPr/>
        </p:nvSpPr>
        <p:spPr>
          <a:xfrm>
            <a:off x="1752480" y="3733920"/>
            <a:ext cx="838440" cy="380880"/>
          </a:xfrm>
          <a:prstGeom prst="rect">
            <a:avLst/>
          </a:prstGeom>
          <a:gradFill rotWithShape="0">
            <a:gsLst>
              <a:gs pos="0">
                <a:srgbClr val="3333cc"/>
              </a:gs>
              <a:gs pos="100000">
                <a:srgbClr val="17175e"/>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oser</a:t>
            </a:r>
            <a:endParaRPr b="0" lang="en-US" sz="1400" spc="-1" strike="noStrike">
              <a:solidFill>
                <a:srgbClr val="000000"/>
              </a:solidFill>
              <a:latin typeface="Times New Roman"/>
            </a:endParaRPr>
          </a:p>
        </p:txBody>
      </p:sp>
      <p:sp>
        <p:nvSpPr>
          <p:cNvPr id="667" name=""/>
          <p:cNvSpPr/>
          <p:nvPr/>
        </p:nvSpPr>
        <p:spPr>
          <a:xfrm>
            <a:off x="3352680" y="3733920"/>
            <a:ext cx="838440" cy="380880"/>
          </a:xfrm>
          <a:prstGeom prst="rect">
            <a:avLst/>
          </a:prstGeom>
          <a:gradFill rotWithShape="0">
            <a:gsLst>
              <a:gs pos="0">
                <a:srgbClr val="ffff00"/>
              </a:gs>
              <a:gs pos="100000">
                <a:srgbClr val="757500"/>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ire</a:t>
            </a:r>
            <a:endParaRPr b="0" lang="en-US" sz="1400" spc="-1" strike="noStrike">
              <a:solidFill>
                <a:srgbClr val="000000"/>
              </a:solidFill>
              <a:latin typeface="Times New Roman"/>
            </a:endParaRPr>
          </a:p>
        </p:txBody>
      </p:sp>
      <p:sp>
        <p:nvSpPr>
          <p:cNvPr id="668" name=""/>
          <p:cNvSpPr/>
          <p:nvPr/>
        </p:nvSpPr>
        <p:spPr>
          <a:xfrm>
            <a:off x="4952880" y="3733920"/>
            <a:ext cx="838440" cy="380880"/>
          </a:xfrm>
          <a:prstGeom prst="rect">
            <a:avLst/>
          </a:prstGeom>
          <a:gradFill rotWithShape="0">
            <a:gsLst>
              <a:gs pos="0">
                <a:srgbClr val="ffffff"/>
              </a:gs>
              <a:gs pos="100000">
                <a:srgbClr val="757575"/>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Vidanger</a:t>
            </a:r>
            <a:endParaRPr b="0" lang="en-US" sz="1400" spc="-1" strike="noStrike">
              <a:solidFill>
                <a:srgbClr val="000000"/>
              </a:solidFill>
              <a:latin typeface="Times New Roman"/>
            </a:endParaRPr>
          </a:p>
        </p:txBody>
      </p:sp>
      <p:sp>
        <p:nvSpPr>
          <p:cNvPr id="669" name=""/>
          <p:cNvSpPr/>
          <p:nvPr/>
        </p:nvSpPr>
        <p:spPr>
          <a:xfrm>
            <a:off x="6553080" y="3733920"/>
            <a:ext cx="838440" cy="380880"/>
          </a:xfrm>
          <a:prstGeom prst="rect">
            <a:avLst/>
          </a:prstGeom>
          <a:gradFill rotWithShape="0">
            <a:gsLst>
              <a:gs pos="0">
                <a:srgbClr val="ffffff"/>
              </a:gs>
              <a:gs pos="100000">
                <a:srgbClr val="757575"/>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élanger</a:t>
            </a:r>
            <a:endParaRPr b="0" lang="en-US" sz="1400" spc="-1" strike="noStrike">
              <a:solidFill>
                <a:srgbClr val="000000"/>
              </a:solidFill>
              <a:latin typeface="Times New Roman"/>
            </a:endParaRPr>
          </a:p>
        </p:txBody>
      </p:sp>
      <p:sp>
        <p:nvSpPr>
          <p:cNvPr id="670" name=""/>
          <p:cNvSpPr/>
          <p:nvPr/>
        </p:nvSpPr>
        <p:spPr>
          <a:xfrm>
            <a:off x="2057400" y="3276720"/>
            <a:ext cx="304920" cy="380880"/>
          </a:xfrm>
          <a:prstGeom prst="upDownArrow">
            <a:avLst>
              <a:gd name="adj1" fmla="val 50000"/>
              <a:gd name="adj2" fmla="val 2486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1752480" y="2971800"/>
            <a:ext cx="838440" cy="380880"/>
          </a:xfrm>
          <a:prstGeom prst="rect">
            <a:avLst/>
          </a:prstGeom>
          <a:gradFill rotWithShape="0">
            <a:gsLst>
              <a:gs pos="0">
                <a:srgbClr val="3333cc"/>
              </a:gs>
              <a:gs pos="100000">
                <a:srgbClr val="17175e"/>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oser</a:t>
            </a:r>
            <a:endParaRPr b="0" lang="en-US" sz="1400" spc="-1" strike="noStrike">
              <a:solidFill>
                <a:srgbClr val="000000"/>
              </a:solidFill>
              <a:latin typeface="Times New Roman"/>
            </a:endParaRPr>
          </a:p>
        </p:txBody>
      </p:sp>
      <p:sp>
        <p:nvSpPr>
          <p:cNvPr id="672" name=""/>
          <p:cNvSpPr/>
          <p:nvPr/>
        </p:nvSpPr>
        <p:spPr>
          <a:xfrm>
            <a:off x="3657600" y="3276720"/>
            <a:ext cx="304920" cy="380880"/>
          </a:xfrm>
          <a:prstGeom prst="upDownArrow">
            <a:avLst>
              <a:gd name="adj1" fmla="val 50000"/>
              <a:gd name="adj2" fmla="val 2486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5257800" y="3276720"/>
            <a:ext cx="304920" cy="380880"/>
          </a:xfrm>
          <a:prstGeom prst="upDownArrow">
            <a:avLst>
              <a:gd name="adj1" fmla="val 50000"/>
              <a:gd name="adj2" fmla="val 2486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6858000" y="3276720"/>
            <a:ext cx="304920" cy="380880"/>
          </a:xfrm>
          <a:prstGeom prst="upDownArrow">
            <a:avLst>
              <a:gd name="adj1" fmla="val 50000"/>
              <a:gd name="adj2" fmla="val 2486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3352680" y="2971800"/>
            <a:ext cx="838440" cy="380880"/>
          </a:xfrm>
          <a:prstGeom prst="rect">
            <a:avLst/>
          </a:prstGeom>
          <a:gradFill rotWithShape="0">
            <a:gsLst>
              <a:gs pos="0">
                <a:srgbClr val="ffff00"/>
              </a:gs>
              <a:gs pos="100000">
                <a:srgbClr val="757500"/>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ire</a:t>
            </a:r>
            <a:endParaRPr b="0" lang="en-US" sz="1400" spc="-1" strike="noStrike">
              <a:solidFill>
                <a:srgbClr val="000000"/>
              </a:solidFill>
              <a:latin typeface="Times New Roman"/>
            </a:endParaRPr>
          </a:p>
        </p:txBody>
      </p:sp>
      <p:sp>
        <p:nvSpPr>
          <p:cNvPr id="676" name=""/>
          <p:cNvSpPr/>
          <p:nvPr/>
        </p:nvSpPr>
        <p:spPr>
          <a:xfrm>
            <a:off x="4952880" y="2971800"/>
            <a:ext cx="838440" cy="380880"/>
          </a:xfrm>
          <a:prstGeom prst="rect">
            <a:avLst/>
          </a:prstGeom>
          <a:gradFill rotWithShape="0">
            <a:gsLst>
              <a:gs pos="0">
                <a:srgbClr val="ffffff"/>
              </a:gs>
              <a:gs pos="100000">
                <a:srgbClr val="757575"/>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Vidanger</a:t>
            </a:r>
            <a:endParaRPr b="0" lang="en-US" sz="1400" spc="-1" strike="noStrike">
              <a:solidFill>
                <a:srgbClr val="000000"/>
              </a:solidFill>
              <a:latin typeface="Times New Roman"/>
            </a:endParaRPr>
          </a:p>
        </p:txBody>
      </p:sp>
      <p:sp>
        <p:nvSpPr>
          <p:cNvPr id="677" name=""/>
          <p:cNvSpPr/>
          <p:nvPr/>
        </p:nvSpPr>
        <p:spPr>
          <a:xfrm>
            <a:off x="6553080" y="2971800"/>
            <a:ext cx="838440" cy="380880"/>
          </a:xfrm>
          <a:prstGeom prst="rect">
            <a:avLst/>
          </a:prstGeom>
          <a:gradFill rotWithShape="0">
            <a:gsLst>
              <a:gs pos="0">
                <a:srgbClr val="ffffff"/>
              </a:gs>
              <a:gs pos="100000">
                <a:srgbClr val="757575"/>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élanger</a:t>
            </a:r>
            <a:endParaRPr b="0" lang="en-US" sz="1400" spc="-1" strike="noStrike">
              <a:solidFill>
                <a:srgbClr val="000000"/>
              </a:solidFill>
              <a:latin typeface="Times New Roman"/>
            </a:endParaRPr>
          </a:p>
        </p:txBody>
      </p:sp>
      <p:sp>
        <p:nvSpPr>
          <p:cNvPr id="678" name=""/>
          <p:cNvSpPr/>
          <p:nvPr/>
        </p:nvSpPr>
        <p:spPr>
          <a:xfrm flipH="1">
            <a:off x="2209320" y="2514600"/>
            <a:ext cx="6858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124080" y="2514600"/>
            <a:ext cx="6858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3352680" y="2514600"/>
            <a:ext cx="335304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flipH="1">
            <a:off x="3885840" y="2514600"/>
            <a:ext cx="11430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5257800" y="2514600"/>
            <a:ext cx="2286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5486400" y="2514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4" name=""/>
          <p:cNvGrpSpPr/>
          <p:nvPr/>
        </p:nvGrpSpPr>
        <p:grpSpPr>
          <a:xfrm>
            <a:off x="2438280" y="1447920"/>
            <a:ext cx="1371600" cy="1066680"/>
            <a:chOff x="2438280" y="1447920"/>
            <a:chExt cx="1371600" cy="1066680"/>
          </a:xfrm>
        </p:grpSpPr>
        <p:sp>
          <p:nvSpPr>
            <p:cNvPr id="685" name=""/>
            <p:cNvSpPr/>
            <p:nvPr/>
          </p:nvSpPr>
          <p:spPr>
            <a:xfrm>
              <a:off x="2438280" y="1447920"/>
              <a:ext cx="1371600" cy="1066680"/>
            </a:xfrm>
            <a:prstGeom prst="rect">
              <a:avLst/>
            </a:prstGeom>
            <a:solidFill>
              <a:srgbClr val="b2b2b2"/>
            </a:solidFill>
            <a:ln w="255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Recette A</a:t>
              </a:r>
              <a:endParaRPr b="0" lang="en-US" sz="1400" spc="-1" strike="noStrike">
                <a:solidFill>
                  <a:srgbClr val="000000"/>
                </a:solidFill>
                <a:latin typeface="Times New Roman"/>
              </a:endParaRPr>
            </a:p>
          </p:txBody>
        </p:sp>
        <p:grpSp>
          <p:nvGrpSpPr>
            <p:cNvPr id="686" name=""/>
            <p:cNvGrpSpPr/>
            <p:nvPr/>
          </p:nvGrpSpPr>
          <p:grpSpPr>
            <a:xfrm>
              <a:off x="2743200" y="1714680"/>
              <a:ext cx="761400" cy="732960"/>
              <a:chOff x="2743200" y="1714680"/>
              <a:chExt cx="761400" cy="732960"/>
            </a:xfrm>
          </p:grpSpPr>
          <p:sp>
            <p:nvSpPr>
              <p:cNvPr id="687" name=""/>
              <p:cNvSpPr/>
              <p:nvPr/>
            </p:nvSpPr>
            <p:spPr>
              <a:xfrm>
                <a:off x="2919240" y="1714680"/>
                <a:ext cx="0" cy="175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2801880" y="1890360"/>
                <a:ext cx="64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2801880" y="1919880"/>
                <a:ext cx="64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2744280" y="1742040"/>
                <a:ext cx="350640" cy="89640"/>
              </a:xfrm>
              <a:prstGeom prst="rect">
                <a:avLst/>
              </a:prstGeom>
              <a:gradFill rotWithShape="0">
                <a:gsLst>
                  <a:gs pos="0">
                    <a:srgbClr val="b2b2b2"/>
                  </a:gs>
                  <a:gs pos="100000">
                    <a:srgbClr val="525252"/>
                  </a:gs>
                </a:gsLst>
                <a:path path="rect">
                  <a:fillToRect l="50000" t="50000" r="50000" b="50000"/>
                </a:path>
              </a:gra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691" name=""/>
              <p:cNvSpPr/>
              <p:nvPr/>
            </p:nvSpPr>
            <p:spPr>
              <a:xfrm>
                <a:off x="2919240" y="1919880"/>
                <a:ext cx="0" cy="43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2743200" y="2183760"/>
                <a:ext cx="350640" cy="89640"/>
              </a:xfrm>
              <a:prstGeom prst="rect">
                <a:avLst/>
              </a:prstGeom>
              <a:gradFill rotWithShape="0">
                <a:gsLst>
                  <a:gs pos="0">
                    <a:srgbClr val="ffffff"/>
                  </a:gs>
                  <a:gs pos="100000">
                    <a:srgbClr val="757575"/>
                  </a:gs>
                </a:gsLst>
                <a:path path="rect">
                  <a:fillToRect l="50000" t="50000" r="50000" b="50000"/>
                </a:path>
              </a:gra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693" name=""/>
              <p:cNvSpPr/>
              <p:nvPr/>
            </p:nvSpPr>
            <p:spPr>
              <a:xfrm>
                <a:off x="2743200" y="1978560"/>
                <a:ext cx="350640" cy="89640"/>
              </a:xfrm>
              <a:prstGeom prst="rect">
                <a:avLst/>
              </a:prstGeom>
              <a:gradFill rotWithShape="0">
                <a:gsLst>
                  <a:gs pos="0">
                    <a:srgbClr val="00ff00"/>
                  </a:gs>
                  <a:gs pos="100000">
                    <a:srgbClr val="007500"/>
                  </a:gs>
                </a:gsLst>
                <a:path path="rect">
                  <a:fillToRect l="50000" t="50000" r="50000" b="50000"/>
                </a:path>
              </a:gra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694" name=""/>
              <p:cNvSpPr/>
              <p:nvPr/>
            </p:nvSpPr>
            <p:spPr>
              <a:xfrm>
                <a:off x="3330000" y="1919880"/>
                <a:ext cx="0" cy="43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2801880" y="2359800"/>
                <a:ext cx="64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2801880" y="2388960"/>
                <a:ext cx="64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3153960" y="1978560"/>
                <a:ext cx="350640" cy="89640"/>
              </a:xfrm>
              <a:prstGeom prst="rect">
                <a:avLst/>
              </a:prstGeom>
              <a:gradFill rotWithShape="0">
                <a:gsLst>
                  <a:gs pos="0">
                    <a:srgbClr val="ffff00"/>
                  </a:gs>
                  <a:gs pos="100000">
                    <a:srgbClr val="757500"/>
                  </a:gs>
                </a:gsLst>
                <a:path path="rect">
                  <a:fillToRect l="50000" t="50000" r="50000" b="50000"/>
                </a:path>
              </a:gra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698" name=""/>
              <p:cNvSpPr/>
              <p:nvPr/>
            </p:nvSpPr>
            <p:spPr>
              <a:xfrm>
                <a:off x="2860560" y="1861200"/>
                <a:ext cx="117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2860560" y="2125080"/>
                <a:ext cx="117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3271320" y="212508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860560" y="2330280"/>
                <a:ext cx="117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2919240" y="238896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grpSp>
        <p:nvGrpSpPr>
          <p:cNvPr id="703" name=""/>
          <p:cNvGrpSpPr/>
          <p:nvPr/>
        </p:nvGrpSpPr>
        <p:grpSpPr>
          <a:xfrm>
            <a:off x="4495680" y="1447920"/>
            <a:ext cx="1371600" cy="1066680"/>
            <a:chOff x="4495680" y="1447920"/>
            <a:chExt cx="1371600" cy="1066680"/>
          </a:xfrm>
        </p:grpSpPr>
        <p:sp>
          <p:nvSpPr>
            <p:cNvPr id="704" name=""/>
            <p:cNvSpPr/>
            <p:nvPr/>
          </p:nvSpPr>
          <p:spPr>
            <a:xfrm>
              <a:off x="4495680" y="1447920"/>
              <a:ext cx="1371600" cy="1066680"/>
            </a:xfrm>
            <a:prstGeom prst="rect">
              <a:avLst/>
            </a:prstGeom>
            <a:solidFill>
              <a:srgbClr val="b2b2b2"/>
            </a:solidFill>
            <a:ln w="255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Recette B</a:t>
              </a:r>
              <a:endParaRPr b="0" lang="en-US" sz="1400" spc="-1" strike="noStrike">
                <a:solidFill>
                  <a:srgbClr val="000000"/>
                </a:solidFill>
                <a:latin typeface="Times New Roman"/>
              </a:endParaRPr>
            </a:p>
          </p:txBody>
        </p:sp>
        <p:grpSp>
          <p:nvGrpSpPr>
            <p:cNvPr id="705" name=""/>
            <p:cNvGrpSpPr/>
            <p:nvPr/>
          </p:nvGrpSpPr>
          <p:grpSpPr>
            <a:xfrm>
              <a:off x="4800960" y="1714320"/>
              <a:ext cx="761400" cy="733680"/>
              <a:chOff x="4800960" y="1714320"/>
              <a:chExt cx="761400" cy="733680"/>
            </a:xfrm>
          </p:grpSpPr>
          <p:sp>
            <p:nvSpPr>
              <p:cNvPr id="706" name=""/>
              <p:cNvSpPr/>
              <p:nvPr/>
            </p:nvSpPr>
            <p:spPr>
              <a:xfrm>
                <a:off x="5386320" y="1714320"/>
                <a:ext cx="0" cy="17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4858560" y="1890360"/>
                <a:ext cx="64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4858560" y="1919520"/>
                <a:ext cx="64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flipH="1">
                <a:off x="5210640" y="1741680"/>
                <a:ext cx="350640" cy="90000"/>
              </a:xfrm>
              <a:prstGeom prst="rect">
                <a:avLst/>
              </a:prstGeom>
              <a:gradFill rotWithShape="0">
                <a:gsLst>
                  <a:gs pos="0">
                    <a:srgbClr val="b2b2b2"/>
                  </a:gs>
                  <a:gs pos="100000">
                    <a:srgbClr val="525252"/>
                  </a:gs>
                </a:gsLst>
                <a:path path="rect">
                  <a:fillToRect l="50000" t="50000" r="50000" b="50000"/>
                </a:path>
              </a:gra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710" name=""/>
              <p:cNvSpPr/>
              <p:nvPr/>
            </p:nvSpPr>
            <p:spPr>
              <a:xfrm>
                <a:off x="5386320" y="1919520"/>
                <a:ext cx="0" cy="44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a:off x="5211720" y="2183760"/>
                <a:ext cx="350640" cy="89640"/>
              </a:xfrm>
              <a:prstGeom prst="rect">
                <a:avLst/>
              </a:prstGeom>
              <a:gradFill rotWithShape="0">
                <a:gsLst>
                  <a:gs pos="0">
                    <a:srgbClr val="ffffff"/>
                  </a:gs>
                  <a:gs pos="100000">
                    <a:srgbClr val="757575"/>
                  </a:gs>
                </a:gsLst>
                <a:path path="rect">
                  <a:fillToRect l="50000" t="50000" r="50000" b="50000"/>
                </a:path>
              </a:gra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712" name=""/>
              <p:cNvSpPr/>
              <p:nvPr/>
            </p:nvSpPr>
            <p:spPr>
              <a:xfrm flipH="1">
                <a:off x="5211720" y="1978200"/>
                <a:ext cx="350640" cy="89640"/>
              </a:xfrm>
              <a:prstGeom prst="rect">
                <a:avLst/>
              </a:prstGeom>
              <a:gradFill rotWithShape="0">
                <a:gsLst>
                  <a:gs pos="0">
                    <a:srgbClr val="00ff00"/>
                  </a:gs>
                  <a:gs pos="100000">
                    <a:srgbClr val="007500"/>
                  </a:gs>
                </a:gsLst>
                <a:path path="rect">
                  <a:fillToRect l="50000" t="50000" r="50000" b="50000"/>
                </a:path>
              </a:gra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713" name=""/>
              <p:cNvSpPr/>
              <p:nvPr/>
            </p:nvSpPr>
            <p:spPr>
              <a:xfrm>
                <a:off x="4975560" y="1919520"/>
                <a:ext cx="0" cy="44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flipH="1">
                <a:off x="4858560" y="2359800"/>
                <a:ext cx="64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H="1">
                <a:off x="4858560" y="2389320"/>
                <a:ext cx="64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a:off x="4800960" y="1978200"/>
                <a:ext cx="350640" cy="89640"/>
              </a:xfrm>
              <a:prstGeom prst="rect">
                <a:avLst/>
              </a:prstGeom>
              <a:gradFill rotWithShape="0">
                <a:gsLst>
                  <a:gs pos="0">
                    <a:srgbClr val="ffff00"/>
                  </a:gs>
                  <a:gs pos="100000">
                    <a:srgbClr val="757500"/>
                  </a:gs>
                </a:gsLst>
                <a:path path="rect">
                  <a:fillToRect l="50000" t="50000" r="50000" b="50000"/>
                </a:path>
              </a:gra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717" name=""/>
              <p:cNvSpPr/>
              <p:nvPr/>
            </p:nvSpPr>
            <p:spPr>
              <a:xfrm flipH="1">
                <a:off x="5328000" y="1860840"/>
                <a:ext cx="117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flipH="1">
                <a:off x="5328000" y="2125080"/>
                <a:ext cx="117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flipH="1">
                <a:off x="4916880" y="212508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flipH="1">
                <a:off x="5328000" y="2330640"/>
                <a:ext cx="117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5386320" y="238932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sp>
        <p:nvSpPr>
          <p:cNvPr id="722" name=""/>
          <p:cNvSpPr/>
          <p:nvPr/>
        </p:nvSpPr>
        <p:spPr>
          <a:xfrm>
            <a:off x="2209680" y="4572000"/>
            <a:ext cx="1143000" cy="380880"/>
          </a:xfrm>
          <a:prstGeom prst="rect">
            <a:avLst/>
          </a:prstGeom>
          <a:gradFill rotWithShape="0">
            <a:gsLst>
              <a:gs pos="0">
                <a:srgbClr val="ffffff"/>
              </a:gs>
              <a:gs pos="100000">
                <a:srgbClr val="ff5fa4"/>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Ressource 1</a:t>
            </a:r>
            <a:endParaRPr b="0" lang="en-US" sz="1400" spc="-1" strike="noStrike">
              <a:solidFill>
                <a:srgbClr val="000000"/>
              </a:solidFill>
              <a:latin typeface="Times New Roman"/>
            </a:endParaRPr>
          </a:p>
        </p:txBody>
      </p:sp>
      <p:sp>
        <p:nvSpPr>
          <p:cNvPr id="723" name=""/>
          <p:cNvSpPr/>
          <p:nvPr/>
        </p:nvSpPr>
        <p:spPr>
          <a:xfrm>
            <a:off x="3809880" y="4572000"/>
            <a:ext cx="1143000" cy="380880"/>
          </a:xfrm>
          <a:prstGeom prst="rect">
            <a:avLst/>
          </a:prstGeom>
          <a:gradFill rotWithShape="0">
            <a:gsLst>
              <a:gs pos="0">
                <a:srgbClr val="ffffff"/>
              </a:gs>
              <a:gs pos="100000">
                <a:srgbClr val="ff5fa4"/>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Ressource 2</a:t>
            </a:r>
            <a:endParaRPr b="0" lang="en-US" sz="1400" spc="-1" strike="noStrike">
              <a:solidFill>
                <a:srgbClr val="000000"/>
              </a:solidFill>
              <a:latin typeface="Times New Roman"/>
            </a:endParaRPr>
          </a:p>
        </p:txBody>
      </p:sp>
      <p:sp>
        <p:nvSpPr>
          <p:cNvPr id="724" name=""/>
          <p:cNvSpPr/>
          <p:nvPr/>
        </p:nvSpPr>
        <p:spPr>
          <a:xfrm>
            <a:off x="5410080" y="4572000"/>
            <a:ext cx="1143000" cy="380880"/>
          </a:xfrm>
          <a:prstGeom prst="rect">
            <a:avLst/>
          </a:prstGeom>
          <a:gradFill rotWithShape="0">
            <a:gsLst>
              <a:gs pos="0">
                <a:srgbClr val="ffffff"/>
              </a:gs>
              <a:gs pos="100000">
                <a:srgbClr val="ff5fa4"/>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Ressource 3</a:t>
            </a:r>
            <a:endParaRPr b="0" lang="en-US" sz="1400" spc="-1" strike="noStrike">
              <a:solidFill>
                <a:srgbClr val="000000"/>
              </a:solidFill>
              <a:latin typeface="Times New Roman"/>
            </a:endParaRPr>
          </a:p>
        </p:txBody>
      </p:sp>
      <p:sp>
        <p:nvSpPr>
          <p:cNvPr id="725" name=""/>
          <p:cNvSpPr/>
          <p:nvPr/>
        </p:nvSpPr>
        <p:spPr>
          <a:xfrm flipH="1">
            <a:off x="1980720" y="4952880"/>
            <a:ext cx="838440" cy="381240"/>
          </a:xfrm>
          <a:prstGeom prst="line">
            <a:avLst/>
          </a:prstGeom>
          <a:ln w="28440">
            <a:solidFill>
              <a:srgbClr val="ff33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2971800" y="4952880"/>
            <a:ext cx="76320" cy="381240"/>
          </a:xfrm>
          <a:prstGeom prst="line">
            <a:avLst/>
          </a:prstGeom>
          <a:ln w="28440">
            <a:solidFill>
              <a:srgbClr val="ff33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3048120" y="4114800"/>
            <a:ext cx="761760" cy="380880"/>
          </a:xfrm>
          <a:prstGeom prst="line">
            <a:avLst/>
          </a:prstGeom>
          <a:ln w="28440">
            <a:solidFill>
              <a:srgbClr val="3333cc"/>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3962520" y="4114800"/>
            <a:ext cx="457200" cy="380880"/>
          </a:xfrm>
          <a:prstGeom prst="line">
            <a:avLst/>
          </a:prstGeom>
          <a:ln w="28440">
            <a:solidFill>
              <a:srgbClr val="3333cc"/>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2209680" y="4114800"/>
            <a:ext cx="457200" cy="380880"/>
          </a:xfrm>
          <a:prstGeom prst="line">
            <a:avLst/>
          </a:prstGeom>
          <a:ln w="28440">
            <a:solidFill>
              <a:srgbClr val="3333cc"/>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4495320" y="4114800"/>
            <a:ext cx="762120" cy="380880"/>
          </a:xfrm>
          <a:prstGeom prst="line">
            <a:avLst/>
          </a:prstGeom>
          <a:ln w="28440">
            <a:solidFill>
              <a:srgbClr val="3333cc"/>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5562720" y="4114800"/>
            <a:ext cx="457200" cy="380880"/>
          </a:xfrm>
          <a:prstGeom prst="line">
            <a:avLst/>
          </a:prstGeom>
          <a:ln w="28440">
            <a:solidFill>
              <a:srgbClr val="3333cc"/>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48160" y="4114800"/>
            <a:ext cx="609480" cy="380880"/>
          </a:xfrm>
          <a:prstGeom prst="line">
            <a:avLst/>
          </a:prstGeom>
          <a:ln w="28440">
            <a:solidFill>
              <a:srgbClr val="3333cc"/>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4114800" y="4952880"/>
            <a:ext cx="380880" cy="381240"/>
          </a:xfrm>
          <a:prstGeom prst="line">
            <a:avLst/>
          </a:prstGeom>
          <a:ln w="28440">
            <a:solidFill>
              <a:srgbClr val="ff33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4800600" y="4952880"/>
            <a:ext cx="457200" cy="381240"/>
          </a:xfrm>
          <a:prstGeom prst="line">
            <a:avLst/>
          </a:prstGeom>
          <a:ln w="28440">
            <a:solidFill>
              <a:srgbClr val="ff33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172200" y="4952880"/>
            <a:ext cx="228600" cy="381240"/>
          </a:xfrm>
          <a:prstGeom prst="line">
            <a:avLst/>
          </a:prstGeom>
          <a:ln w="28440">
            <a:solidFill>
              <a:srgbClr val="ff33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6477120" y="4952880"/>
            <a:ext cx="990360" cy="381240"/>
          </a:xfrm>
          <a:prstGeom prst="line">
            <a:avLst/>
          </a:prstGeom>
          <a:ln w="28440">
            <a:solidFill>
              <a:srgbClr val="ff33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PlaceHolder 2"/>
          <p:cNvSpPr>
            <a:spLocks noGrp="1"/>
          </p:cNvSpPr>
          <p:nvPr>
            <p:ph/>
          </p:nvPr>
        </p:nvSpPr>
        <p:spPr>
          <a:xfrm>
            <a:off x="990360" y="1143000"/>
            <a:ext cx="792468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4" name="PlaceHolder 3"/>
          <p:cNvSpPr>
            <a:spLocks noGrp="1"/>
          </p:cNvSpPr>
          <p:nvPr>
            <p:ph type="sldNum" idx="3"/>
          </p:nvPr>
        </p:nvSpPr>
        <p:spPr/>
        <p:txBody>
          <a:bodyPr/>
          <a:p>
            <a:fld id="{91E5E457-F91E-4A3F-B46D-034647E01A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ff9"/>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762120" y="304560"/>
            <a:ext cx="624816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c00"/>
                </a:solidFill>
                <a:latin typeface="Arial"/>
              </a:rPr>
              <a:t>En conclusion</a:t>
            </a:r>
            <a:endParaRPr b="1" lang="en-US" sz="2800" spc="-1" strike="noStrike">
              <a:solidFill>
                <a:srgbClr val="ffcc00"/>
              </a:solidFill>
              <a:latin typeface="Arial"/>
            </a:endParaRPr>
          </a:p>
        </p:txBody>
      </p:sp>
      <p:sp>
        <p:nvSpPr>
          <p:cNvPr id="739" name="PlaceHolder 2"/>
          <p:cNvSpPr>
            <a:spLocks noGrp="1"/>
          </p:cNvSpPr>
          <p:nvPr>
            <p:ph/>
          </p:nvPr>
        </p:nvSpPr>
        <p:spPr>
          <a:xfrm>
            <a:off x="942840" y="965160"/>
            <a:ext cx="7925040" cy="5029200"/>
          </a:xfrm>
          <a:prstGeom prst="rect">
            <a:avLst/>
          </a:prstGeom>
          <a:noFill/>
          <a:ln w="0">
            <a:noFill/>
          </a:ln>
        </p:spPr>
        <p:txBody>
          <a:bodyPr lIns="90000" rIns="90000" tIns="46800" bIns="46800" anchor="t">
            <a:normAutofit fontScale="93000"/>
          </a:bodyPr>
          <a:p>
            <a:pPr marL="318960" indent="-318960">
              <a:spcBef>
                <a:spcPts val="40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6600"/>
                </a:solidFill>
                <a:latin typeface="Arial"/>
              </a:rPr>
              <a:t>TROIS FRONTS SIMULTANES POUR TOUT TRACER</a:t>
            </a:r>
            <a:endParaRPr b="0" lang="en-US" sz="3200" spc="-1" strike="noStrike">
              <a:solidFill>
                <a:srgbClr val="ff6600"/>
              </a:solidFill>
              <a:latin typeface="Arial"/>
            </a:endParaRPr>
          </a:p>
          <a:p>
            <a:pPr lvl="1" marL="690840" indent="-265680">
              <a:spcBef>
                <a:spcPts val="35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00"/>
                </a:solidFill>
                <a:latin typeface="Arial"/>
              </a:rPr>
              <a:t>Le gestionnaire de Batch trace les situations qu’il contrôle.</a:t>
            </a:r>
            <a:endParaRPr b="0" lang="en-US" sz="2800" spc="-1" strike="noStrike">
              <a:solidFill>
                <a:srgbClr val="ff6600"/>
              </a:solidFill>
              <a:latin typeface="Arial"/>
            </a:endParaRPr>
          </a:p>
          <a:p>
            <a:pPr lvl="1" marL="690840" indent="-265680">
              <a:spcBef>
                <a:spcPts val="35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00"/>
                </a:solidFill>
                <a:latin typeface="Arial"/>
              </a:rPr>
              <a:t>La Base de données relationnelle SGBD trace les situations qui échappent au contrôle du gestionnaire de Batch.</a:t>
            </a:r>
            <a:endParaRPr b="0" lang="en-US" sz="2800" spc="-1" strike="noStrike">
              <a:solidFill>
                <a:srgbClr val="ff6600"/>
              </a:solidFill>
              <a:latin typeface="Arial"/>
            </a:endParaRPr>
          </a:p>
          <a:p>
            <a:pPr lvl="1" marL="690840" indent="-265680">
              <a:spcBef>
                <a:spcPts val="35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00"/>
                </a:solidFill>
                <a:latin typeface="Arial"/>
              </a:rPr>
              <a:t>L ’implémentation de la méthodologie évite les situations indécelables.</a:t>
            </a:r>
            <a:endParaRPr b="0" lang="en-US" sz="2800" spc="-1" strike="noStrike">
              <a:solidFill>
                <a:srgbClr val="ff6600"/>
              </a:solidFill>
              <a:latin typeface="Arial"/>
            </a:endParaRPr>
          </a:p>
        </p:txBody>
      </p:sp>
      <p:sp>
        <p:nvSpPr>
          <p:cNvPr id="4" name="PlaceHolder 3"/>
          <p:cNvSpPr>
            <a:spLocks noGrp="1"/>
          </p:cNvSpPr>
          <p:nvPr>
            <p:ph type="sldNum" idx="3"/>
          </p:nvPr>
        </p:nvSpPr>
        <p:spPr/>
        <p:txBody>
          <a:bodyPr/>
          <a:p>
            <a:fld id="{8C0933D6-D820-4601-85BB-01C5F154ADF3}"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ff9"/>
        </a:solidFill>
      </p:bgPr>
    </p:bg>
    <p:spTree>
      <p:nvGrpSpPr>
        <p:cNvPr id="1" name=""/>
        <p:cNvGrpSpPr/>
        <p:nvPr/>
      </p:nvGrpSpPr>
      <p:grpSpPr>
        <a:xfrm>
          <a:off x="0" y="0"/>
          <a:ext cx="0" cy="0"/>
          <a:chOff x="0" y="0"/>
          <a:chExt cx="0" cy="0"/>
        </a:xfrm>
      </p:grpSpPr>
      <p:sp>
        <p:nvSpPr>
          <p:cNvPr id="63" name=""/>
          <p:cNvSpPr/>
          <p:nvPr/>
        </p:nvSpPr>
        <p:spPr>
          <a:xfrm>
            <a:off x="5410080" y="1447920"/>
            <a:ext cx="3063960" cy="423180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Rapport de Fabric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aef iahf oihu azdfiu oiuafi iua aoiuuad oi aoiu oiuaf ou oiuafadfopiu adiu asdifuasdf oiuasdf adfoiu sadfiuaef iahf oihu azdfiu oiuafi iua aoiuuad oi aoiu oiuaf ou oiuafadfopiu adiu asdifuasdf oiuasdf adfoiu sadfiu</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aef iahf oihu azdfiu oiuafi iua aoiuuad oi aoiu oiuaf ou oiuafadfopiu adiu asdg difuasdf oiuasd sdhf adfoiu sadfiu</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aef iahf oihu azdfiu oiuafi iua aoiuuad oi aoiu oiuaf ou oiuafadf opiu adiu asdifuasdf oiuasdf adfoiu sadfiu</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aef iahf oihu azdfiu oiuafi iua aoiuuad oi aoiu oiuaf ou oiuafadfopiu adiu asdifuasdf oiuasdf adfsghghboiu sadfiu</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aef iahf oihu azdfiu oiuafi iua aoiuuad oi aoiu oiuaf ou oiuafadsdgb fopiu adiu asdifuasdf oiuasdf adfoiu sadfiu</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aef iahf oihu azdfiu oixcvcuafi iua aoiuuad oi aoiu oiuaf ou oiuafadfopiu adiu asdifuasdf oiuasdf adfoiu sadfiu</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aef iahf oihu azdfiu oiuafi iua aoiuuad oi aoiu oiuaf ou oiuafadf fdgopiu adiu asdifuasdf oiuasdf adfoiu sadfiu</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aef iahf oihu azdfiu oiuafi iua acvbnoiuuad oi aoiu oiuaf ou oiuafadfopiu adiu asdifuasdf oiuasdf adfoiu sadfiu</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aef iahf oihu azdfiu oiuafi iua aoiuuad oi aoiu oiuaf ou oiuafadfop   iu adiu asdifuasdf oiuasdf adfoiu sadfiu</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aef iahf oihu azdfiu oiuafi bxb  ua aoiuuad oi aoiu oiuaf ou oiuafadfopiu adiu asdifua sdf oiuasdf adfoiu sadfiu</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aef iahf oihu azdfiu oiuafi iua aoiuuad oi aoiu oiuaf ou oiuafad   fopiu adiu asdifuasdf oiuasdf adfoiu sadfiu</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aef iasgb  hf oihu azdfiu oiuafi iua aoiuuad oi aoiu oiuaf ou oiuafadfopiu adiu asdifuasdf oiuasdf adfoiu sadfiu</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aef iahf oihu azdfiu oiuafi iua aoiuuad oi aoiu oiuaf ou oiuafad    fopiu adiu asdifuasdf oiuasdf adfoiu sadfiu</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4" name="PlaceHolder 1"/>
          <p:cNvSpPr>
            <a:spLocks noGrp="1"/>
          </p:cNvSpPr>
          <p:nvPr>
            <p:ph type="title"/>
          </p:nvPr>
        </p:nvSpPr>
        <p:spPr>
          <a:xfrm>
            <a:off x="762120" y="304560"/>
            <a:ext cx="624816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c00"/>
                </a:solidFill>
                <a:latin typeface="Arial"/>
              </a:rPr>
              <a:t>Que Tracer ?</a:t>
            </a:r>
            <a:endParaRPr b="1" lang="en-US" sz="2800" spc="-1" strike="noStrike">
              <a:solidFill>
                <a:srgbClr val="ffcc00"/>
              </a:solidFill>
              <a:latin typeface="Arial"/>
            </a:endParaRPr>
          </a:p>
        </p:txBody>
      </p:sp>
      <p:sp>
        <p:nvSpPr>
          <p:cNvPr id="65" name="PlaceHolder 2"/>
          <p:cNvSpPr>
            <a:spLocks noGrp="1"/>
          </p:cNvSpPr>
          <p:nvPr>
            <p:ph/>
          </p:nvPr>
        </p:nvSpPr>
        <p:spPr>
          <a:xfrm>
            <a:off x="990360" y="1143000"/>
            <a:ext cx="7707240" cy="5029200"/>
          </a:xfrm>
          <a:prstGeom prst="rect">
            <a:avLst/>
          </a:prstGeom>
          <a:noFill/>
          <a:ln w="0">
            <a:noFill/>
          </a:ln>
        </p:spPr>
        <p:txBody>
          <a:bodyPr lIns="90000" rIns="90000" tIns="46800" bIns="46800" anchor="t">
            <a:normAutofit/>
          </a:bodyPr>
          <a:p>
            <a:pPr marL="343080" indent="-343080">
              <a:lnSpc>
                <a:spcPct val="190000"/>
              </a:lnSpc>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6600"/>
                </a:solidFill>
                <a:latin typeface="Arial"/>
              </a:rPr>
              <a:t>Actions</a:t>
            </a:r>
            <a:endParaRPr b="0" lang="en-US" sz="3200" spc="-1" strike="noStrike">
              <a:solidFill>
                <a:srgbClr val="ff6600"/>
              </a:solidFill>
              <a:latin typeface="Arial"/>
            </a:endParaRPr>
          </a:p>
          <a:p>
            <a:pPr marL="343080" indent="-343080">
              <a:lnSpc>
                <a:spcPct val="190000"/>
              </a:lnSpc>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6600"/>
                </a:solidFill>
                <a:latin typeface="Arial"/>
              </a:rPr>
              <a:t>Généalogie des lots</a:t>
            </a:r>
            <a:endParaRPr b="0" lang="en-US" sz="3200" spc="-1" strike="noStrike">
              <a:solidFill>
                <a:srgbClr val="ff6600"/>
              </a:solidFill>
              <a:latin typeface="Arial"/>
            </a:endParaRPr>
          </a:p>
          <a:p>
            <a:pPr marL="343080" indent="-343080">
              <a:lnSpc>
                <a:spcPct val="190000"/>
              </a:lnSpc>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6600"/>
                </a:solidFill>
                <a:latin typeface="Arial"/>
              </a:rPr>
              <a:t>Profils de fabrication</a:t>
            </a:r>
            <a:endParaRPr b="0" lang="en-US" sz="3200" spc="-1" strike="noStrike">
              <a:solidFill>
                <a:srgbClr val="ff6600"/>
              </a:solidFill>
              <a:latin typeface="Arial"/>
            </a:endParaRPr>
          </a:p>
          <a:p>
            <a:pPr marL="343080" indent="-343080">
              <a:lnSpc>
                <a:spcPct val="190000"/>
              </a:lnSpc>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6600"/>
                </a:solidFill>
                <a:latin typeface="Arial"/>
              </a:rPr>
              <a:t>Impondérables…</a:t>
            </a:r>
            <a:endParaRPr b="0" lang="en-US" sz="3200" spc="-1" strike="noStrike">
              <a:solidFill>
                <a:srgbClr val="ff6600"/>
              </a:solidFill>
              <a:latin typeface="Arial"/>
            </a:endParaRPr>
          </a:p>
        </p:txBody>
      </p:sp>
      <p:sp>
        <p:nvSpPr>
          <p:cNvPr id="4" name="PlaceHolder 3"/>
          <p:cNvSpPr>
            <a:spLocks noGrp="1"/>
          </p:cNvSpPr>
          <p:nvPr>
            <p:ph type="sldNum" idx="3"/>
          </p:nvPr>
        </p:nvSpPr>
        <p:spPr/>
        <p:txBody>
          <a:bodyPr/>
          <a:p>
            <a:fld id="{8C10E9FE-7011-400D-9AED-9768E8E03CC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ff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304560"/>
            <a:ext cx="624816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c00"/>
                </a:solidFill>
                <a:latin typeface="Arial"/>
              </a:rPr>
              <a:t>Tracer comment ?</a:t>
            </a:r>
            <a:endParaRPr b="1" lang="en-US" sz="2800" spc="-1" strike="noStrike">
              <a:solidFill>
                <a:srgbClr val="ffcc00"/>
              </a:solidFill>
              <a:latin typeface="Arial"/>
            </a:endParaRPr>
          </a:p>
        </p:txBody>
      </p:sp>
      <p:sp>
        <p:nvSpPr>
          <p:cNvPr id="67" name="PlaceHolder 2"/>
          <p:cNvSpPr>
            <a:spLocks noGrp="1"/>
          </p:cNvSpPr>
          <p:nvPr>
            <p:ph/>
          </p:nvPr>
        </p:nvSpPr>
        <p:spPr>
          <a:xfrm>
            <a:off x="990360" y="1143000"/>
            <a:ext cx="7924680" cy="5029200"/>
          </a:xfrm>
          <a:prstGeom prst="rect">
            <a:avLst/>
          </a:prstGeom>
          <a:noFill/>
          <a:ln w="0">
            <a:noFill/>
          </a:ln>
        </p:spPr>
        <p:txBody>
          <a:bodyPr lIns="90000" rIns="90000" tIns="46800" bIns="46800" anchor="t">
            <a:normAutofit/>
          </a:bodyPr>
          <a:p>
            <a:pPr marL="343080" indent="-343080">
              <a:lnSpc>
                <a:spcPct val="270000"/>
              </a:lnSpc>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6600"/>
                </a:solidFill>
                <a:latin typeface="Arial"/>
              </a:rPr>
              <a:t>Enregistrer tout</a:t>
            </a:r>
            <a:endParaRPr b="0" lang="en-US" sz="3200" spc="-1" strike="noStrike">
              <a:solidFill>
                <a:srgbClr val="ff6600"/>
              </a:solidFill>
              <a:latin typeface="Arial"/>
            </a:endParaRPr>
          </a:p>
          <a:p>
            <a:pPr marL="343080" indent="-343080">
              <a:lnSpc>
                <a:spcPct val="370000"/>
              </a:lnSpc>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6600"/>
                </a:solidFill>
                <a:latin typeface="Arial"/>
              </a:rPr>
              <a:t>Enregistrer les fabrications</a:t>
            </a:r>
            <a:endParaRPr b="0" lang="en-US" sz="3200" spc="-1" strike="noStrike">
              <a:solidFill>
                <a:srgbClr val="ff6600"/>
              </a:solidFill>
              <a:latin typeface="Arial"/>
            </a:endParaRPr>
          </a:p>
        </p:txBody>
      </p:sp>
      <p:sp>
        <p:nvSpPr>
          <p:cNvPr id="68" name=""/>
          <p:cNvSpPr/>
          <p:nvPr/>
        </p:nvSpPr>
        <p:spPr>
          <a:xfrm>
            <a:off x="6400800" y="1638360"/>
            <a:ext cx="1905120" cy="2559240"/>
          </a:xfrm>
          <a:prstGeom prst="rect">
            <a:avLst/>
          </a:prstGeom>
          <a:solidFill>
            <a:srgbClr val="ffffff"/>
          </a:solidFill>
          <a:ln w="25560">
            <a:solidFill>
              <a:srgbClr val="b2b2b2"/>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Variation de l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empératu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du réacteur 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124.00</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124.00</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124.00</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124.00</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124.00</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124.00</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124.00</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124.00</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124.00</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124.00</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9" name=""/>
          <p:cNvSpPr/>
          <p:nvPr/>
        </p:nvSpPr>
        <p:spPr>
          <a:xfrm>
            <a:off x="6724800" y="3333600"/>
            <a:ext cx="1904760" cy="2588760"/>
          </a:xfrm>
          <a:prstGeom prst="rect">
            <a:avLst/>
          </a:prstGeom>
          <a:solidFill>
            <a:srgbClr val="ffffff"/>
          </a:solidFill>
          <a:ln w="25560">
            <a:solidFill>
              <a:srgbClr val="b2b2b2"/>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Rapport de fabric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du lot 1234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Chauffage réacteu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Mélange Acquitté</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Mélange Acquitté</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Chauffage réacteu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Chauffage réacteu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Mélange Acquitté</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Chauffage réacteu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Mélange Acquitté</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Chauffage réacteu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Mélange Acquitté</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12:00:01 Mélange Acquitté</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 name="PlaceHolder 3"/>
          <p:cNvSpPr>
            <a:spLocks noGrp="1"/>
          </p:cNvSpPr>
          <p:nvPr>
            <p:ph type="sldNum" idx="3"/>
          </p:nvPr>
        </p:nvSpPr>
        <p:spPr/>
        <p:txBody>
          <a:bodyPr/>
          <a:p>
            <a:fld id="{E731FC67-9E5E-4005-9594-5E9EB53F80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ff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304560"/>
            <a:ext cx="624816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c00"/>
                </a:solidFill>
                <a:latin typeface="Arial"/>
              </a:rPr>
              <a:t>Complexité du problème</a:t>
            </a:r>
            <a:endParaRPr b="1" lang="en-US" sz="2800" spc="-1" strike="noStrike">
              <a:solidFill>
                <a:srgbClr val="ffcc00"/>
              </a:solidFill>
              <a:latin typeface="Arial"/>
            </a:endParaRPr>
          </a:p>
        </p:txBody>
      </p:sp>
      <p:sp>
        <p:nvSpPr>
          <p:cNvPr id="71" name="PlaceHolder 2"/>
          <p:cNvSpPr>
            <a:spLocks noGrp="1"/>
          </p:cNvSpPr>
          <p:nvPr>
            <p:ph/>
          </p:nvPr>
        </p:nvSpPr>
        <p:spPr>
          <a:xfrm>
            <a:off x="457200" y="5562720"/>
            <a:ext cx="8305920" cy="457200"/>
          </a:xfrm>
          <a:prstGeom prst="rect">
            <a:avLst/>
          </a:prstGeom>
          <a:noFill/>
          <a:ln w="0">
            <a:noFill/>
          </a:ln>
        </p:spPr>
        <p:txBody>
          <a:bodyPr lIns="90000" rIns="90000" tIns="46800" bIns="46800" anchor="t">
            <a:normAutofit fontScale="74000"/>
          </a:bodyPr>
          <a:p>
            <a:pPr marL="253800" indent="-2538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6600"/>
                </a:solidFill>
                <a:latin typeface="Arial"/>
              </a:rPr>
              <a:t>Mobilité des lots</a:t>
            </a:r>
            <a:endParaRPr b="0" lang="en-US" sz="3200" spc="-1" strike="noStrike">
              <a:solidFill>
                <a:srgbClr val="ff6600"/>
              </a:solidFill>
              <a:latin typeface="Arial"/>
            </a:endParaRPr>
          </a:p>
        </p:txBody>
      </p:sp>
      <p:sp>
        <p:nvSpPr>
          <p:cNvPr id="72" name=""/>
          <p:cNvSpPr/>
          <p:nvPr/>
        </p:nvSpPr>
        <p:spPr>
          <a:xfrm>
            <a:off x="1905120" y="4343400"/>
            <a:ext cx="0" cy="10666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905120" y="5410080"/>
            <a:ext cx="12189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V="1">
            <a:off x="3124080" y="1218960"/>
            <a:ext cx="0" cy="4190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124080" y="1219320"/>
            <a:ext cx="4343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267080" y="1219320"/>
            <a:ext cx="0" cy="10666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676520" y="4572000"/>
            <a:ext cx="457200" cy="457200"/>
          </a:xfrm>
          <a:prstGeom prst="flowChartCollate">
            <a:avLst/>
          </a:prstGeom>
          <a:gradFill rotWithShape="0">
            <a:gsLst>
              <a:gs pos="0">
                <a:srgbClr val="5e5e75"/>
              </a:gs>
              <a:gs pos="50000">
                <a:srgbClr val="ccccff"/>
              </a:gs>
              <a:gs pos="100000">
                <a:srgbClr val="5e5e75"/>
              </a:gs>
            </a:gsLst>
            <a:lin ang="108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038480" y="1523880"/>
            <a:ext cx="457200" cy="457200"/>
          </a:xfrm>
          <a:prstGeom prst="flowChartCollate">
            <a:avLst/>
          </a:prstGeom>
          <a:gradFill rotWithShape="0">
            <a:gsLst>
              <a:gs pos="0">
                <a:srgbClr val="5e5e75"/>
              </a:gs>
              <a:gs pos="50000">
                <a:srgbClr val="ccccff"/>
              </a:gs>
              <a:gs pos="100000">
                <a:srgbClr val="5e5e75"/>
              </a:gs>
            </a:gsLst>
            <a:lin ang="108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705720" y="1219320"/>
            <a:ext cx="0" cy="10666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6477120" y="1523880"/>
            <a:ext cx="457200" cy="457200"/>
          </a:xfrm>
          <a:prstGeom prst="flowChartCollate">
            <a:avLst/>
          </a:prstGeom>
          <a:gradFill rotWithShape="0">
            <a:gsLst>
              <a:gs pos="0">
                <a:srgbClr val="5e5e75"/>
              </a:gs>
              <a:gs pos="50000">
                <a:srgbClr val="ccccff"/>
              </a:gs>
              <a:gs pos="100000">
                <a:srgbClr val="5e5e75"/>
              </a:gs>
            </a:gsLst>
            <a:lin ang="108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905120" y="1219320"/>
            <a:ext cx="0" cy="12189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676520" y="1523880"/>
            <a:ext cx="457200" cy="457200"/>
          </a:xfrm>
          <a:prstGeom prst="flowChartCollate">
            <a:avLst/>
          </a:prstGeom>
          <a:gradFill rotWithShape="0">
            <a:gsLst>
              <a:gs pos="0">
                <a:srgbClr val="5e5e75"/>
              </a:gs>
              <a:gs pos="50000">
                <a:srgbClr val="ccccff"/>
              </a:gs>
              <a:gs pos="100000">
                <a:srgbClr val="5e5e75"/>
              </a:gs>
            </a:gsLst>
            <a:lin ang="108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267080" y="4267080"/>
            <a:ext cx="0" cy="10670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038480" y="4572000"/>
            <a:ext cx="457200" cy="457200"/>
          </a:xfrm>
          <a:prstGeom prst="flowChartCollate">
            <a:avLst/>
          </a:prstGeom>
          <a:gradFill rotWithShape="0">
            <a:gsLst>
              <a:gs pos="0">
                <a:srgbClr val="5e5e75"/>
              </a:gs>
              <a:gs pos="50000">
                <a:srgbClr val="ccccff"/>
              </a:gs>
              <a:gs pos="100000">
                <a:srgbClr val="5e5e75"/>
              </a:gs>
            </a:gsLst>
            <a:lin ang="108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705720" y="4267080"/>
            <a:ext cx="0" cy="10670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477120" y="4572000"/>
            <a:ext cx="457200" cy="457200"/>
          </a:xfrm>
          <a:prstGeom prst="flowChartCollate">
            <a:avLst/>
          </a:prstGeom>
          <a:gradFill rotWithShape="0">
            <a:gsLst>
              <a:gs pos="0">
                <a:srgbClr val="5e5e75"/>
              </a:gs>
              <a:gs pos="50000">
                <a:srgbClr val="ccccff"/>
              </a:gs>
              <a:gs pos="100000">
                <a:srgbClr val="5e5e75"/>
              </a:gs>
            </a:gsLst>
            <a:lin ang="108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581280" y="2209680"/>
            <a:ext cx="1371600" cy="2057400"/>
          </a:xfrm>
          <a:custGeom>
            <a:avLst/>
            <a:gdLst>
              <a:gd name="textAreaLeft" fmla="*/ 66960 w 1371600"/>
              <a:gd name="textAreaRight" fmla="*/ 1304640 w 1371600"/>
              <a:gd name="textAreaTop" fmla="*/ 66960 h 2057400"/>
              <a:gd name="textAreaBottom" fmla="*/ 1990440 h 2057400"/>
            </a:gdLst>
            <a:ahLst/>
            <a:rect l="textAreaLeft" t="textAreaTop" r="textAreaRight" b="textAreaBottom"/>
            <a:pathLst>
              <a:path w="21600" h="32397">
                <a:moveTo>
                  <a:pt x="3600" y="0"/>
                </a:moveTo>
                <a:arcTo wR="3600" hR="3600" stAng="16200000" swAng="-5400000"/>
                <a:lnTo>
                  <a:pt x="0" y="28797"/>
                </a:lnTo>
                <a:arcTo wR="3600" hR="3600" stAng="10800000" swAng="-5400000"/>
                <a:lnTo>
                  <a:pt x="18000" y="32397"/>
                </a:lnTo>
                <a:arcTo wR="3600" hR="3600" stAng="5400000" swAng="-5400000"/>
                <a:lnTo>
                  <a:pt x="21600" y="3600"/>
                </a:lnTo>
                <a:arcTo wR="3600" hR="3600" stAng="0" swAng="-5400000"/>
                <a:close/>
              </a:path>
            </a:pathLst>
          </a:custGeom>
          <a:gradFill rotWithShape="0">
            <a:gsLst>
              <a:gs pos="0">
                <a:srgbClr val="757575"/>
              </a:gs>
              <a:gs pos="50000">
                <a:srgbClr val="ffffff"/>
              </a:gs>
              <a:gs pos="100000">
                <a:srgbClr val="757575"/>
              </a:gs>
            </a:gsLst>
            <a:lin ang="10800000"/>
          </a:gra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6019920" y="2209680"/>
            <a:ext cx="1371600" cy="2057400"/>
          </a:xfrm>
          <a:custGeom>
            <a:avLst/>
            <a:gdLst>
              <a:gd name="textAreaLeft" fmla="*/ 66960 w 1371600"/>
              <a:gd name="textAreaRight" fmla="*/ 1304640 w 1371600"/>
              <a:gd name="textAreaTop" fmla="*/ 66960 h 2057400"/>
              <a:gd name="textAreaBottom" fmla="*/ 1990440 h 2057400"/>
            </a:gdLst>
            <a:ahLst/>
            <a:rect l="textAreaLeft" t="textAreaTop" r="textAreaRight" b="textAreaBottom"/>
            <a:pathLst>
              <a:path w="21600" h="32397">
                <a:moveTo>
                  <a:pt x="3600" y="0"/>
                </a:moveTo>
                <a:arcTo wR="3600" hR="3600" stAng="16200000" swAng="-5400000"/>
                <a:lnTo>
                  <a:pt x="0" y="28797"/>
                </a:lnTo>
                <a:arcTo wR="3600" hR="3600" stAng="10800000" swAng="-5400000"/>
                <a:lnTo>
                  <a:pt x="18000" y="32397"/>
                </a:lnTo>
                <a:arcTo wR="3600" hR="3600" stAng="5400000" swAng="-5400000"/>
                <a:lnTo>
                  <a:pt x="21600" y="3600"/>
                </a:lnTo>
                <a:arcTo wR="3600" hR="3600" stAng="0" swAng="-5400000"/>
                <a:close/>
              </a:path>
            </a:pathLst>
          </a:custGeom>
          <a:gradFill rotWithShape="0">
            <a:gsLst>
              <a:gs pos="0">
                <a:srgbClr val="757575"/>
              </a:gs>
              <a:gs pos="50000">
                <a:srgbClr val="ffffff"/>
              </a:gs>
              <a:gs pos="100000">
                <a:srgbClr val="757575"/>
              </a:gs>
            </a:gsLst>
            <a:lin ang="10800000"/>
          </a:gra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1219320" y="2209680"/>
            <a:ext cx="1371600" cy="2057400"/>
          </a:xfrm>
          <a:custGeom>
            <a:avLst/>
            <a:gdLst>
              <a:gd name="textAreaLeft" fmla="*/ 66960 w 1371600"/>
              <a:gd name="textAreaRight" fmla="*/ 1304640 w 1371600"/>
              <a:gd name="textAreaTop" fmla="*/ 66960 h 2057400"/>
              <a:gd name="textAreaBottom" fmla="*/ 1990440 h 2057400"/>
            </a:gdLst>
            <a:ahLst/>
            <a:rect l="textAreaLeft" t="textAreaTop" r="textAreaRight" b="textAreaBottom"/>
            <a:pathLst>
              <a:path w="21600" h="32397">
                <a:moveTo>
                  <a:pt x="3600" y="0"/>
                </a:moveTo>
                <a:arcTo wR="3600" hR="3600" stAng="16200000" swAng="-5400000"/>
                <a:lnTo>
                  <a:pt x="0" y="28797"/>
                </a:lnTo>
                <a:arcTo wR="3600" hR="3600" stAng="10800000" swAng="-5400000"/>
                <a:lnTo>
                  <a:pt x="18000" y="32397"/>
                </a:lnTo>
                <a:arcTo wR="3600" hR="3600" stAng="5400000" swAng="-5400000"/>
                <a:lnTo>
                  <a:pt x="21600" y="3600"/>
                </a:lnTo>
                <a:arcTo wR="3600" hR="3600" stAng="0" swAng="-5400000"/>
                <a:close/>
              </a:path>
            </a:pathLst>
          </a:custGeom>
          <a:gradFill rotWithShape="0">
            <a:gsLst>
              <a:gs pos="0">
                <a:srgbClr val="757575"/>
              </a:gs>
              <a:gs pos="50000">
                <a:srgbClr val="ffffff"/>
              </a:gs>
              <a:gs pos="100000">
                <a:srgbClr val="757575"/>
              </a:gs>
            </a:gsLst>
            <a:lin ang="10800000"/>
          </a:gra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1219320" y="2209680"/>
            <a:ext cx="1371600" cy="2057400"/>
          </a:xfrm>
          <a:custGeom>
            <a:avLst/>
            <a:gdLst>
              <a:gd name="textAreaLeft" fmla="*/ 66960 w 1371600"/>
              <a:gd name="textAreaRight" fmla="*/ 1304640 w 1371600"/>
              <a:gd name="textAreaTop" fmla="*/ 66960 h 2057400"/>
              <a:gd name="textAreaBottom" fmla="*/ 1990440 h 2057400"/>
            </a:gdLst>
            <a:ahLst/>
            <a:rect l="textAreaLeft" t="textAreaTop" r="textAreaRight" b="textAreaBottom"/>
            <a:pathLst>
              <a:path w="21600" h="32397">
                <a:moveTo>
                  <a:pt x="3600" y="0"/>
                </a:moveTo>
                <a:arcTo wR="3600" hR="3600" stAng="16200000" swAng="-5400000"/>
                <a:lnTo>
                  <a:pt x="0" y="28797"/>
                </a:lnTo>
                <a:arcTo wR="3600" hR="3600" stAng="10800000" swAng="-5400000"/>
                <a:lnTo>
                  <a:pt x="18000" y="32397"/>
                </a:lnTo>
                <a:arcTo wR="3600" hR="3600" stAng="5400000" swAng="-5400000"/>
                <a:lnTo>
                  <a:pt x="21600" y="3600"/>
                </a:lnTo>
                <a:arcTo wR="3600" hR="3600" stAng="0" swAng="-5400000"/>
                <a:close/>
              </a:path>
            </a:pathLst>
          </a:custGeom>
          <a:gradFill rotWithShape="0">
            <a:gsLst>
              <a:gs pos="0">
                <a:srgbClr val="005e46"/>
              </a:gs>
              <a:gs pos="50000">
                <a:srgbClr val="00cc99"/>
              </a:gs>
              <a:gs pos="100000">
                <a:srgbClr val="005e46"/>
              </a:gs>
            </a:gsLst>
            <a:lin ang="10800000"/>
          </a:gra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ot A</a:t>
            </a:r>
            <a:endParaRPr b="0" lang="en-US" sz="2400" spc="-1" strike="noStrike">
              <a:solidFill>
                <a:srgbClr val="000000"/>
              </a:solidFill>
              <a:latin typeface="Times New Roman"/>
            </a:endParaRPr>
          </a:p>
        </p:txBody>
      </p:sp>
      <p:sp>
        <p:nvSpPr>
          <p:cNvPr id="91" name=""/>
          <p:cNvSpPr/>
          <p:nvPr/>
        </p:nvSpPr>
        <p:spPr>
          <a:xfrm>
            <a:off x="3581280" y="2209680"/>
            <a:ext cx="1371600" cy="2057400"/>
          </a:xfrm>
          <a:custGeom>
            <a:avLst/>
            <a:gdLst>
              <a:gd name="textAreaLeft" fmla="*/ 66960 w 1371600"/>
              <a:gd name="textAreaRight" fmla="*/ 1304640 w 1371600"/>
              <a:gd name="textAreaTop" fmla="*/ 66960 h 2057400"/>
              <a:gd name="textAreaBottom" fmla="*/ 1990440 h 2057400"/>
            </a:gdLst>
            <a:ahLst/>
            <a:rect l="textAreaLeft" t="textAreaTop" r="textAreaRight" b="textAreaBottom"/>
            <a:pathLst>
              <a:path w="21600" h="32397">
                <a:moveTo>
                  <a:pt x="3600" y="0"/>
                </a:moveTo>
                <a:arcTo wR="3600" hR="3600" stAng="16200000" swAng="-5400000"/>
                <a:lnTo>
                  <a:pt x="0" y="28797"/>
                </a:lnTo>
                <a:arcTo wR="3600" hR="3600" stAng="10800000" swAng="-5400000"/>
                <a:lnTo>
                  <a:pt x="18000" y="32397"/>
                </a:lnTo>
                <a:arcTo wR="3600" hR="3600" stAng="5400000" swAng="-5400000"/>
                <a:lnTo>
                  <a:pt x="21600" y="3600"/>
                </a:lnTo>
                <a:arcTo wR="3600" hR="3600" stAng="0" swAng="-5400000"/>
                <a:close/>
              </a:path>
            </a:pathLst>
          </a:custGeom>
          <a:gradFill rotWithShape="0">
            <a:gsLst>
              <a:gs pos="0">
                <a:srgbClr val="005e46"/>
              </a:gs>
              <a:gs pos="50000">
                <a:srgbClr val="00cc99"/>
              </a:gs>
              <a:gs pos="100000">
                <a:srgbClr val="005e46"/>
              </a:gs>
            </a:gsLst>
            <a:lin ang="10800000"/>
          </a:gra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ot A</a:t>
            </a:r>
            <a:endParaRPr b="0" lang="en-US" sz="2400" spc="-1" strike="noStrike">
              <a:solidFill>
                <a:srgbClr val="000000"/>
              </a:solidFill>
              <a:latin typeface="Times New Roman"/>
            </a:endParaRPr>
          </a:p>
        </p:txBody>
      </p:sp>
      <p:sp>
        <p:nvSpPr>
          <p:cNvPr id="92" name=""/>
          <p:cNvSpPr/>
          <p:nvPr/>
        </p:nvSpPr>
        <p:spPr>
          <a:xfrm>
            <a:off x="6019920" y="2209680"/>
            <a:ext cx="1371600" cy="2057400"/>
          </a:xfrm>
          <a:custGeom>
            <a:avLst/>
            <a:gdLst>
              <a:gd name="textAreaLeft" fmla="*/ 66960 w 1371600"/>
              <a:gd name="textAreaRight" fmla="*/ 1304640 w 1371600"/>
              <a:gd name="textAreaTop" fmla="*/ 66960 h 2057400"/>
              <a:gd name="textAreaBottom" fmla="*/ 1990440 h 2057400"/>
            </a:gdLst>
            <a:ahLst/>
            <a:rect l="textAreaLeft" t="textAreaTop" r="textAreaRight" b="textAreaBottom"/>
            <a:pathLst>
              <a:path w="21600" h="32397">
                <a:moveTo>
                  <a:pt x="3600" y="0"/>
                </a:moveTo>
                <a:arcTo wR="3600" hR="3600" stAng="16200000" swAng="-5400000"/>
                <a:lnTo>
                  <a:pt x="0" y="28797"/>
                </a:lnTo>
                <a:arcTo wR="3600" hR="3600" stAng="10800000" swAng="-5400000"/>
                <a:lnTo>
                  <a:pt x="18000" y="32397"/>
                </a:lnTo>
                <a:arcTo wR="3600" hR="3600" stAng="5400000" swAng="-5400000"/>
                <a:lnTo>
                  <a:pt x="21600" y="3600"/>
                </a:lnTo>
                <a:arcTo wR="3600" hR="3600" stAng="0" swAng="-5400000"/>
                <a:close/>
              </a:path>
            </a:pathLst>
          </a:custGeom>
          <a:gradFill rotWithShape="0">
            <a:gsLst>
              <a:gs pos="0">
                <a:srgbClr val="005e46"/>
              </a:gs>
              <a:gs pos="50000">
                <a:srgbClr val="00cc99"/>
              </a:gs>
              <a:gs pos="100000">
                <a:srgbClr val="005e46"/>
              </a:gs>
            </a:gsLst>
            <a:lin ang="10800000"/>
          </a:gra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ot A</a:t>
            </a:r>
            <a:endParaRPr b="0" lang="en-US" sz="2400" spc="-1" strike="noStrike">
              <a:solidFill>
                <a:srgbClr val="000000"/>
              </a:solidFill>
              <a:latin typeface="Times New Roman"/>
            </a:endParaRPr>
          </a:p>
        </p:txBody>
      </p:sp>
      <p:sp>
        <p:nvSpPr>
          <p:cNvPr id="93" name=""/>
          <p:cNvSpPr/>
          <p:nvPr/>
        </p:nvSpPr>
        <p:spPr>
          <a:xfrm>
            <a:off x="1219320" y="2209680"/>
            <a:ext cx="1371600" cy="2057400"/>
          </a:xfrm>
          <a:custGeom>
            <a:avLst/>
            <a:gdLst>
              <a:gd name="textAreaLeft" fmla="*/ 66960 w 1371600"/>
              <a:gd name="textAreaRight" fmla="*/ 1304640 w 1371600"/>
              <a:gd name="textAreaTop" fmla="*/ 66960 h 2057400"/>
              <a:gd name="textAreaBottom" fmla="*/ 1990440 h 2057400"/>
            </a:gdLst>
            <a:ahLst/>
            <a:rect l="textAreaLeft" t="textAreaTop" r="textAreaRight" b="textAreaBottom"/>
            <a:pathLst>
              <a:path w="21600" h="32397">
                <a:moveTo>
                  <a:pt x="3600" y="0"/>
                </a:moveTo>
                <a:arcTo wR="3600" hR="3600" stAng="16200000" swAng="-5400000"/>
                <a:lnTo>
                  <a:pt x="0" y="28797"/>
                </a:lnTo>
                <a:arcTo wR="3600" hR="3600" stAng="10800000" swAng="-5400000"/>
                <a:lnTo>
                  <a:pt x="18000" y="32397"/>
                </a:lnTo>
                <a:arcTo wR="3600" hR="3600" stAng="5400000" swAng="-5400000"/>
                <a:lnTo>
                  <a:pt x="21600" y="3600"/>
                </a:lnTo>
                <a:arcTo wR="3600" hR="3600" stAng="0" swAng="-5400000"/>
                <a:close/>
              </a:path>
            </a:pathLst>
          </a:custGeom>
          <a:gradFill rotWithShape="0">
            <a:gsLst>
              <a:gs pos="0">
                <a:srgbClr val="757575"/>
              </a:gs>
              <a:gs pos="50000">
                <a:srgbClr val="ffffff"/>
              </a:gs>
              <a:gs pos="100000">
                <a:srgbClr val="757575"/>
              </a:gs>
            </a:gsLst>
            <a:lin ang="10800000"/>
          </a:gra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3581280" y="2209680"/>
            <a:ext cx="1371600" cy="2057400"/>
          </a:xfrm>
          <a:custGeom>
            <a:avLst/>
            <a:gdLst>
              <a:gd name="textAreaLeft" fmla="*/ 66960 w 1371600"/>
              <a:gd name="textAreaRight" fmla="*/ 1304640 w 1371600"/>
              <a:gd name="textAreaTop" fmla="*/ 66960 h 2057400"/>
              <a:gd name="textAreaBottom" fmla="*/ 1990440 h 2057400"/>
            </a:gdLst>
            <a:ahLst/>
            <a:rect l="textAreaLeft" t="textAreaTop" r="textAreaRight" b="textAreaBottom"/>
            <a:pathLst>
              <a:path w="21600" h="32397">
                <a:moveTo>
                  <a:pt x="3600" y="0"/>
                </a:moveTo>
                <a:arcTo wR="3600" hR="3600" stAng="16200000" swAng="-5400000"/>
                <a:lnTo>
                  <a:pt x="0" y="28797"/>
                </a:lnTo>
                <a:arcTo wR="3600" hR="3600" stAng="10800000" swAng="-5400000"/>
                <a:lnTo>
                  <a:pt x="18000" y="32397"/>
                </a:lnTo>
                <a:arcTo wR="3600" hR="3600" stAng="5400000" swAng="-5400000"/>
                <a:lnTo>
                  <a:pt x="21600" y="3600"/>
                </a:lnTo>
                <a:arcTo wR="3600" hR="3600" stAng="0" swAng="-5400000"/>
                <a:close/>
              </a:path>
            </a:pathLst>
          </a:custGeom>
          <a:gradFill rotWithShape="0">
            <a:gsLst>
              <a:gs pos="0">
                <a:srgbClr val="757575"/>
              </a:gs>
              <a:gs pos="50000">
                <a:srgbClr val="ffffff"/>
              </a:gs>
              <a:gs pos="100000">
                <a:srgbClr val="757575"/>
              </a:gs>
            </a:gsLst>
            <a:lin ang="10800000"/>
          </a:gra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3AC8E4-523A-4354-BD83-3B59FA01B3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ff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304560"/>
            <a:ext cx="624816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c00"/>
                </a:solidFill>
                <a:latin typeface="Arial"/>
              </a:rPr>
              <a:t>Complexité du problème</a:t>
            </a:r>
            <a:endParaRPr b="1" lang="en-US" sz="2800" spc="-1" strike="noStrike">
              <a:solidFill>
                <a:srgbClr val="ffcc00"/>
              </a:solidFill>
              <a:latin typeface="Arial"/>
            </a:endParaRPr>
          </a:p>
        </p:txBody>
      </p:sp>
      <p:sp>
        <p:nvSpPr>
          <p:cNvPr id="96" name="PlaceHolder 2"/>
          <p:cNvSpPr>
            <a:spLocks noGrp="1"/>
          </p:cNvSpPr>
          <p:nvPr>
            <p:ph/>
          </p:nvPr>
        </p:nvSpPr>
        <p:spPr>
          <a:xfrm>
            <a:off x="457200" y="5562720"/>
            <a:ext cx="8305920" cy="457200"/>
          </a:xfrm>
          <a:prstGeom prst="rect">
            <a:avLst/>
          </a:prstGeom>
          <a:noFill/>
          <a:ln w="0">
            <a:noFill/>
          </a:ln>
        </p:spPr>
        <p:txBody>
          <a:bodyPr lIns="90000" rIns="90000" tIns="46800" bIns="46800" anchor="t">
            <a:normAutofit fontScale="74000"/>
          </a:bodyPr>
          <a:p>
            <a:pPr marL="253800" indent="-2538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6600"/>
                </a:solidFill>
                <a:latin typeface="Arial"/>
              </a:rPr>
              <a:t>Simultanéité des lots</a:t>
            </a:r>
            <a:endParaRPr b="0" lang="en-US" sz="3200" spc="-1" strike="noStrike">
              <a:solidFill>
                <a:srgbClr val="ff6600"/>
              </a:solidFill>
              <a:latin typeface="Arial"/>
            </a:endParaRPr>
          </a:p>
        </p:txBody>
      </p:sp>
      <p:sp>
        <p:nvSpPr>
          <p:cNvPr id="97" name=""/>
          <p:cNvSpPr/>
          <p:nvPr/>
        </p:nvSpPr>
        <p:spPr>
          <a:xfrm>
            <a:off x="1905120" y="4343400"/>
            <a:ext cx="0" cy="10666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905120" y="5410080"/>
            <a:ext cx="12189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3124080" y="1218960"/>
            <a:ext cx="0" cy="4190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124080" y="1219320"/>
            <a:ext cx="1143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267080" y="1219320"/>
            <a:ext cx="0" cy="10666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676520" y="4572000"/>
            <a:ext cx="457200" cy="457200"/>
          </a:xfrm>
          <a:prstGeom prst="flowChartCollate">
            <a:avLst/>
          </a:prstGeom>
          <a:gradFill rotWithShape="0">
            <a:gsLst>
              <a:gs pos="0">
                <a:srgbClr val="5e5e75"/>
              </a:gs>
              <a:gs pos="50000">
                <a:srgbClr val="ccccff"/>
              </a:gs>
              <a:gs pos="100000">
                <a:srgbClr val="5e5e75"/>
              </a:gs>
            </a:gsLst>
            <a:lin ang="108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038480" y="1523880"/>
            <a:ext cx="457200" cy="457200"/>
          </a:xfrm>
          <a:prstGeom prst="flowChartCollate">
            <a:avLst/>
          </a:prstGeom>
          <a:gradFill rotWithShape="0">
            <a:gsLst>
              <a:gs pos="0">
                <a:srgbClr val="5e5e75"/>
              </a:gs>
              <a:gs pos="50000">
                <a:srgbClr val="ccccff"/>
              </a:gs>
              <a:gs pos="100000">
                <a:srgbClr val="5e5e75"/>
              </a:gs>
            </a:gsLst>
            <a:lin ang="108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05720" y="1219320"/>
            <a:ext cx="0" cy="10666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477120" y="1523880"/>
            <a:ext cx="457200" cy="457200"/>
          </a:xfrm>
          <a:prstGeom prst="flowChartCollate">
            <a:avLst/>
          </a:prstGeom>
          <a:gradFill rotWithShape="0">
            <a:gsLst>
              <a:gs pos="0">
                <a:srgbClr val="5e5e75"/>
              </a:gs>
              <a:gs pos="50000">
                <a:srgbClr val="ccccff"/>
              </a:gs>
              <a:gs pos="100000">
                <a:srgbClr val="5e5e75"/>
              </a:gs>
            </a:gsLst>
            <a:lin ang="108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905120" y="1219320"/>
            <a:ext cx="0" cy="12189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676520" y="1523880"/>
            <a:ext cx="457200" cy="457200"/>
          </a:xfrm>
          <a:prstGeom prst="flowChartCollate">
            <a:avLst/>
          </a:prstGeom>
          <a:gradFill rotWithShape="0">
            <a:gsLst>
              <a:gs pos="0">
                <a:srgbClr val="5e5e75"/>
              </a:gs>
              <a:gs pos="50000">
                <a:srgbClr val="ccccff"/>
              </a:gs>
              <a:gs pos="100000">
                <a:srgbClr val="5e5e75"/>
              </a:gs>
            </a:gsLst>
            <a:lin ang="108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267080" y="4267080"/>
            <a:ext cx="0" cy="10670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720" y="4267080"/>
            <a:ext cx="0" cy="10670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477120" y="4572000"/>
            <a:ext cx="457200" cy="457200"/>
          </a:xfrm>
          <a:prstGeom prst="flowChartCollate">
            <a:avLst/>
          </a:prstGeom>
          <a:gradFill rotWithShape="0">
            <a:gsLst>
              <a:gs pos="0">
                <a:srgbClr val="5e5e75"/>
              </a:gs>
              <a:gs pos="50000">
                <a:srgbClr val="ccccff"/>
              </a:gs>
              <a:gs pos="100000">
                <a:srgbClr val="5e5e75"/>
              </a:gs>
            </a:gsLst>
            <a:lin ang="108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581280" y="2209680"/>
            <a:ext cx="1371600" cy="2057400"/>
          </a:xfrm>
          <a:custGeom>
            <a:avLst/>
            <a:gdLst>
              <a:gd name="textAreaLeft" fmla="*/ 66960 w 1371600"/>
              <a:gd name="textAreaRight" fmla="*/ 1304640 w 1371600"/>
              <a:gd name="textAreaTop" fmla="*/ 66960 h 2057400"/>
              <a:gd name="textAreaBottom" fmla="*/ 1990440 h 2057400"/>
            </a:gdLst>
            <a:ahLst/>
            <a:rect l="textAreaLeft" t="textAreaTop" r="textAreaRight" b="textAreaBottom"/>
            <a:pathLst>
              <a:path w="21600" h="32397">
                <a:moveTo>
                  <a:pt x="3600" y="0"/>
                </a:moveTo>
                <a:arcTo wR="3600" hR="3600" stAng="16200000" swAng="-5400000"/>
                <a:lnTo>
                  <a:pt x="0" y="28797"/>
                </a:lnTo>
                <a:arcTo wR="3600" hR="3600" stAng="10800000" swAng="-5400000"/>
                <a:lnTo>
                  <a:pt x="18000" y="32397"/>
                </a:lnTo>
                <a:arcTo wR="3600" hR="3600" stAng="5400000" swAng="-5400000"/>
                <a:lnTo>
                  <a:pt x="21600" y="3600"/>
                </a:lnTo>
                <a:arcTo wR="3600" hR="3600" stAng="0" swAng="-5400000"/>
                <a:close/>
              </a:path>
            </a:pathLst>
          </a:custGeom>
          <a:gradFill rotWithShape="0">
            <a:gsLst>
              <a:gs pos="0">
                <a:srgbClr val="757575"/>
              </a:gs>
              <a:gs pos="50000">
                <a:srgbClr val="ffffff"/>
              </a:gs>
              <a:gs pos="100000">
                <a:srgbClr val="757575"/>
              </a:gs>
            </a:gsLst>
            <a:lin ang="10800000"/>
          </a:gra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6019920" y="2209680"/>
            <a:ext cx="1371600" cy="2057400"/>
          </a:xfrm>
          <a:custGeom>
            <a:avLst/>
            <a:gdLst>
              <a:gd name="textAreaLeft" fmla="*/ 66960 w 1371600"/>
              <a:gd name="textAreaRight" fmla="*/ 1304640 w 1371600"/>
              <a:gd name="textAreaTop" fmla="*/ 66960 h 2057400"/>
              <a:gd name="textAreaBottom" fmla="*/ 1990440 h 2057400"/>
            </a:gdLst>
            <a:ahLst/>
            <a:rect l="textAreaLeft" t="textAreaTop" r="textAreaRight" b="textAreaBottom"/>
            <a:pathLst>
              <a:path w="21600" h="32397">
                <a:moveTo>
                  <a:pt x="3600" y="0"/>
                </a:moveTo>
                <a:arcTo wR="3600" hR="3600" stAng="16200000" swAng="-5400000"/>
                <a:lnTo>
                  <a:pt x="0" y="28797"/>
                </a:lnTo>
                <a:arcTo wR="3600" hR="3600" stAng="10800000" swAng="-5400000"/>
                <a:lnTo>
                  <a:pt x="18000" y="32397"/>
                </a:lnTo>
                <a:arcTo wR="3600" hR="3600" stAng="5400000" swAng="-5400000"/>
                <a:lnTo>
                  <a:pt x="21600" y="3600"/>
                </a:lnTo>
                <a:arcTo wR="3600" hR="3600" stAng="0" swAng="-5400000"/>
                <a:close/>
              </a:path>
            </a:pathLst>
          </a:custGeom>
          <a:gradFill rotWithShape="0">
            <a:gsLst>
              <a:gs pos="0">
                <a:srgbClr val="757575"/>
              </a:gs>
              <a:gs pos="50000">
                <a:srgbClr val="ffffff"/>
              </a:gs>
              <a:gs pos="100000">
                <a:srgbClr val="757575"/>
              </a:gs>
            </a:gsLst>
            <a:lin ang="10800000"/>
          </a:gra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1219320" y="2209680"/>
            <a:ext cx="1371600" cy="2057400"/>
          </a:xfrm>
          <a:custGeom>
            <a:avLst/>
            <a:gdLst>
              <a:gd name="textAreaLeft" fmla="*/ 66960 w 1371600"/>
              <a:gd name="textAreaRight" fmla="*/ 1304640 w 1371600"/>
              <a:gd name="textAreaTop" fmla="*/ 66960 h 2057400"/>
              <a:gd name="textAreaBottom" fmla="*/ 1990440 h 2057400"/>
            </a:gdLst>
            <a:ahLst/>
            <a:rect l="textAreaLeft" t="textAreaTop" r="textAreaRight" b="textAreaBottom"/>
            <a:pathLst>
              <a:path w="21600" h="32397">
                <a:moveTo>
                  <a:pt x="3600" y="0"/>
                </a:moveTo>
                <a:arcTo wR="3600" hR="3600" stAng="16200000" swAng="-5400000"/>
                <a:lnTo>
                  <a:pt x="0" y="28797"/>
                </a:lnTo>
                <a:arcTo wR="3600" hR="3600" stAng="10800000" swAng="-5400000"/>
                <a:lnTo>
                  <a:pt x="18000" y="32397"/>
                </a:lnTo>
                <a:arcTo wR="3600" hR="3600" stAng="5400000" swAng="-5400000"/>
                <a:lnTo>
                  <a:pt x="21600" y="3600"/>
                </a:lnTo>
                <a:arcTo wR="3600" hR="3600" stAng="0" swAng="-5400000"/>
                <a:close/>
              </a:path>
            </a:pathLst>
          </a:custGeom>
          <a:gradFill rotWithShape="0">
            <a:gsLst>
              <a:gs pos="0">
                <a:srgbClr val="757575"/>
              </a:gs>
              <a:gs pos="50000">
                <a:srgbClr val="ffffff"/>
              </a:gs>
              <a:gs pos="100000">
                <a:srgbClr val="757575"/>
              </a:gs>
            </a:gsLst>
            <a:lin ang="10800000"/>
          </a:gra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1219320" y="2209680"/>
            <a:ext cx="1371600" cy="2057400"/>
          </a:xfrm>
          <a:custGeom>
            <a:avLst/>
            <a:gdLst>
              <a:gd name="textAreaLeft" fmla="*/ 66960 w 1371600"/>
              <a:gd name="textAreaRight" fmla="*/ 1304640 w 1371600"/>
              <a:gd name="textAreaTop" fmla="*/ 66960 h 2057400"/>
              <a:gd name="textAreaBottom" fmla="*/ 1990440 h 2057400"/>
            </a:gdLst>
            <a:ahLst/>
            <a:rect l="textAreaLeft" t="textAreaTop" r="textAreaRight" b="textAreaBottom"/>
            <a:pathLst>
              <a:path w="21600" h="32397">
                <a:moveTo>
                  <a:pt x="3600" y="0"/>
                </a:moveTo>
                <a:arcTo wR="3600" hR="3600" stAng="16200000" swAng="-5400000"/>
                <a:lnTo>
                  <a:pt x="0" y="28797"/>
                </a:lnTo>
                <a:arcTo wR="3600" hR="3600" stAng="10800000" swAng="-5400000"/>
                <a:lnTo>
                  <a:pt x="18000" y="32397"/>
                </a:lnTo>
                <a:arcTo wR="3600" hR="3600" stAng="5400000" swAng="-5400000"/>
                <a:lnTo>
                  <a:pt x="21600" y="3600"/>
                </a:lnTo>
                <a:arcTo wR="3600" hR="3600" stAng="0" swAng="-5400000"/>
                <a:close/>
              </a:path>
            </a:pathLst>
          </a:custGeom>
          <a:gradFill rotWithShape="0">
            <a:gsLst>
              <a:gs pos="0">
                <a:srgbClr val="005e46"/>
              </a:gs>
              <a:gs pos="50000">
                <a:srgbClr val="00cc99"/>
              </a:gs>
              <a:gs pos="100000">
                <a:srgbClr val="005e46"/>
              </a:gs>
            </a:gsLst>
            <a:lin ang="10800000"/>
          </a:gra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ot A</a:t>
            </a:r>
            <a:endParaRPr b="0" lang="en-US" sz="2400" spc="-1" strike="noStrike">
              <a:solidFill>
                <a:srgbClr val="000000"/>
              </a:solidFill>
              <a:latin typeface="Times New Roman"/>
            </a:endParaRPr>
          </a:p>
        </p:txBody>
      </p:sp>
      <p:sp>
        <p:nvSpPr>
          <p:cNvPr id="115" name=""/>
          <p:cNvSpPr/>
          <p:nvPr/>
        </p:nvSpPr>
        <p:spPr>
          <a:xfrm>
            <a:off x="3581280" y="2209680"/>
            <a:ext cx="1371600" cy="2057400"/>
          </a:xfrm>
          <a:custGeom>
            <a:avLst/>
            <a:gdLst>
              <a:gd name="textAreaLeft" fmla="*/ 66960 w 1371600"/>
              <a:gd name="textAreaRight" fmla="*/ 1304640 w 1371600"/>
              <a:gd name="textAreaTop" fmla="*/ 66960 h 2057400"/>
              <a:gd name="textAreaBottom" fmla="*/ 1990440 h 2057400"/>
            </a:gdLst>
            <a:ahLst/>
            <a:rect l="textAreaLeft" t="textAreaTop" r="textAreaRight" b="textAreaBottom"/>
            <a:pathLst>
              <a:path w="21600" h="32397">
                <a:moveTo>
                  <a:pt x="3600" y="0"/>
                </a:moveTo>
                <a:arcTo wR="3600" hR="3600" stAng="16200000" swAng="-5400000"/>
                <a:lnTo>
                  <a:pt x="0" y="28797"/>
                </a:lnTo>
                <a:arcTo wR="3600" hR="3600" stAng="10800000" swAng="-5400000"/>
                <a:lnTo>
                  <a:pt x="18000" y="32397"/>
                </a:lnTo>
                <a:arcTo wR="3600" hR="3600" stAng="5400000" swAng="-5400000"/>
                <a:lnTo>
                  <a:pt x="21600" y="3600"/>
                </a:lnTo>
                <a:arcTo wR="3600" hR="3600" stAng="0" swAng="-5400000"/>
                <a:close/>
              </a:path>
            </a:pathLst>
          </a:custGeom>
          <a:gradFill rotWithShape="0">
            <a:gsLst>
              <a:gs pos="0">
                <a:srgbClr val="005e46"/>
              </a:gs>
              <a:gs pos="50000">
                <a:srgbClr val="00cc99"/>
              </a:gs>
              <a:gs pos="100000">
                <a:srgbClr val="005e46"/>
              </a:gs>
            </a:gsLst>
            <a:lin ang="10800000"/>
          </a:gra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ot A</a:t>
            </a:r>
            <a:endParaRPr b="0" lang="en-US" sz="2400" spc="-1" strike="noStrike">
              <a:solidFill>
                <a:srgbClr val="000000"/>
              </a:solidFill>
              <a:latin typeface="Times New Roman"/>
            </a:endParaRPr>
          </a:p>
        </p:txBody>
      </p:sp>
      <p:sp>
        <p:nvSpPr>
          <p:cNvPr id="116" name=""/>
          <p:cNvSpPr/>
          <p:nvPr/>
        </p:nvSpPr>
        <p:spPr>
          <a:xfrm>
            <a:off x="6019920" y="2209680"/>
            <a:ext cx="1371600" cy="2057400"/>
          </a:xfrm>
          <a:custGeom>
            <a:avLst/>
            <a:gdLst>
              <a:gd name="textAreaLeft" fmla="*/ 66960 w 1371600"/>
              <a:gd name="textAreaRight" fmla="*/ 1304640 w 1371600"/>
              <a:gd name="textAreaTop" fmla="*/ 66960 h 2057400"/>
              <a:gd name="textAreaBottom" fmla="*/ 1990440 h 2057400"/>
            </a:gdLst>
            <a:ahLst/>
            <a:rect l="textAreaLeft" t="textAreaTop" r="textAreaRight" b="textAreaBottom"/>
            <a:pathLst>
              <a:path w="21600" h="32397">
                <a:moveTo>
                  <a:pt x="3600" y="0"/>
                </a:moveTo>
                <a:arcTo wR="3600" hR="3600" stAng="16200000" swAng="-5400000"/>
                <a:lnTo>
                  <a:pt x="0" y="28797"/>
                </a:lnTo>
                <a:arcTo wR="3600" hR="3600" stAng="10800000" swAng="-5400000"/>
                <a:lnTo>
                  <a:pt x="18000" y="32397"/>
                </a:lnTo>
                <a:arcTo wR="3600" hR="3600" stAng="5400000" swAng="-5400000"/>
                <a:lnTo>
                  <a:pt x="21600" y="3600"/>
                </a:lnTo>
                <a:arcTo wR="3600" hR="3600" stAng="0" swAng="-5400000"/>
                <a:close/>
              </a:path>
            </a:pathLst>
          </a:custGeom>
          <a:gradFill rotWithShape="0">
            <a:gsLst>
              <a:gs pos="0">
                <a:srgbClr val="005e46"/>
              </a:gs>
              <a:gs pos="50000">
                <a:srgbClr val="00cc99"/>
              </a:gs>
              <a:gs pos="100000">
                <a:srgbClr val="005e46"/>
              </a:gs>
            </a:gsLst>
            <a:lin ang="10800000"/>
          </a:gra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ot A</a:t>
            </a:r>
            <a:endParaRPr b="0" lang="en-US" sz="2400" spc="-1" strike="noStrike">
              <a:solidFill>
                <a:srgbClr val="000000"/>
              </a:solidFill>
              <a:latin typeface="Times New Roman"/>
            </a:endParaRPr>
          </a:p>
        </p:txBody>
      </p:sp>
      <p:sp>
        <p:nvSpPr>
          <p:cNvPr id="117" name=""/>
          <p:cNvSpPr/>
          <p:nvPr/>
        </p:nvSpPr>
        <p:spPr>
          <a:xfrm>
            <a:off x="1219320" y="2209680"/>
            <a:ext cx="1371600" cy="2057400"/>
          </a:xfrm>
          <a:custGeom>
            <a:avLst/>
            <a:gdLst>
              <a:gd name="textAreaLeft" fmla="*/ 66960 w 1371600"/>
              <a:gd name="textAreaRight" fmla="*/ 1304640 w 1371600"/>
              <a:gd name="textAreaTop" fmla="*/ 66960 h 2057400"/>
              <a:gd name="textAreaBottom" fmla="*/ 1990440 h 2057400"/>
            </a:gdLst>
            <a:ahLst/>
            <a:rect l="textAreaLeft" t="textAreaTop" r="textAreaRight" b="textAreaBottom"/>
            <a:pathLst>
              <a:path w="21600" h="32397">
                <a:moveTo>
                  <a:pt x="3600" y="0"/>
                </a:moveTo>
                <a:arcTo wR="3600" hR="3600" stAng="16200000" swAng="-5400000"/>
                <a:lnTo>
                  <a:pt x="0" y="28797"/>
                </a:lnTo>
                <a:arcTo wR="3600" hR="3600" stAng="10800000" swAng="-5400000"/>
                <a:lnTo>
                  <a:pt x="18000" y="32397"/>
                </a:lnTo>
                <a:arcTo wR="3600" hR="3600" stAng="5400000" swAng="-5400000"/>
                <a:lnTo>
                  <a:pt x="21600" y="3600"/>
                </a:lnTo>
                <a:arcTo wR="3600" hR="3600" stAng="0" swAng="-5400000"/>
                <a:close/>
              </a:path>
            </a:pathLst>
          </a:custGeom>
          <a:gradFill rotWithShape="0">
            <a:gsLst>
              <a:gs pos="0">
                <a:srgbClr val="17175e"/>
              </a:gs>
              <a:gs pos="50000">
                <a:srgbClr val="3333cc"/>
              </a:gs>
              <a:gs pos="100000">
                <a:srgbClr val="17175e"/>
              </a:gs>
            </a:gsLst>
            <a:lin ang="10800000"/>
          </a:gra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ot B</a:t>
            </a:r>
            <a:endParaRPr b="0" lang="en-US" sz="2400" spc="-1" strike="noStrike">
              <a:solidFill>
                <a:srgbClr val="000000"/>
              </a:solidFill>
              <a:latin typeface="Times New Roman"/>
            </a:endParaRPr>
          </a:p>
        </p:txBody>
      </p:sp>
      <p:sp>
        <p:nvSpPr>
          <p:cNvPr id="118" name=""/>
          <p:cNvSpPr/>
          <p:nvPr/>
        </p:nvSpPr>
        <p:spPr>
          <a:xfrm>
            <a:off x="1219320" y="2209680"/>
            <a:ext cx="1371600" cy="2057400"/>
          </a:xfrm>
          <a:custGeom>
            <a:avLst/>
            <a:gdLst>
              <a:gd name="textAreaLeft" fmla="*/ 66960 w 1371600"/>
              <a:gd name="textAreaRight" fmla="*/ 1304640 w 1371600"/>
              <a:gd name="textAreaTop" fmla="*/ 66960 h 2057400"/>
              <a:gd name="textAreaBottom" fmla="*/ 1990440 h 2057400"/>
            </a:gdLst>
            <a:ahLst/>
            <a:rect l="textAreaLeft" t="textAreaTop" r="textAreaRight" b="textAreaBottom"/>
            <a:pathLst>
              <a:path w="21600" h="32397">
                <a:moveTo>
                  <a:pt x="3600" y="0"/>
                </a:moveTo>
                <a:arcTo wR="3600" hR="3600" stAng="16200000" swAng="-5400000"/>
                <a:lnTo>
                  <a:pt x="0" y="28797"/>
                </a:lnTo>
                <a:arcTo wR="3600" hR="3600" stAng="10800000" swAng="-5400000"/>
                <a:lnTo>
                  <a:pt x="18000" y="32397"/>
                </a:lnTo>
                <a:arcTo wR="3600" hR="3600" stAng="5400000" swAng="-5400000"/>
                <a:lnTo>
                  <a:pt x="21600" y="3600"/>
                </a:lnTo>
                <a:arcTo wR="3600" hR="3600" stAng="0" swAng="-5400000"/>
                <a:close/>
              </a:path>
            </a:pathLst>
          </a:custGeom>
          <a:gradFill rotWithShape="0">
            <a:gsLst>
              <a:gs pos="0">
                <a:srgbClr val="757500"/>
              </a:gs>
              <a:gs pos="50000">
                <a:srgbClr val="ffff00"/>
              </a:gs>
              <a:gs pos="100000">
                <a:srgbClr val="757500"/>
              </a:gs>
            </a:gsLst>
            <a:lin ang="10800000"/>
          </a:gra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ot C</a:t>
            </a:r>
            <a:endParaRPr b="0" lang="en-US" sz="2400" spc="-1" strike="noStrike">
              <a:solidFill>
                <a:srgbClr val="000000"/>
              </a:solidFill>
              <a:latin typeface="Times New Roman"/>
            </a:endParaRPr>
          </a:p>
        </p:txBody>
      </p:sp>
      <p:sp>
        <p:nvSpPr>
          <p:cNvPr id="119" name=""/>
          <p:cNvSpPr/>
          <p:nvPr/>
        </p:nvSpPr>
        <p:spPr>
          <a:xfrm>
            <a:off x="3581280" y="2209680"/>
            <a:ext cx="1371600" cy="2057400"/>
          </a:xfrm>
          <a:custGeom>
            <a:avLst/>
            <a:gdLst>
              <a:gd name="textAreaLeft" fmla="*/ 66960 w 1371600"/>
              <a:gd name="textAreaRight" fmla="*/ 1304640 w 1371600"/>
              <a:gd name="textAreaTop" fmla="*/ 66960 h 2057400"/>
              <a:gd name="textAreaBottom" fmla="*/ 1990440 h 2057400"/>
            </a:gdLst>
            <a:ahLst/>
            <a:rect l="textAreaLeft" t="textAreaTop" r="textAreaRight" b="textAreaBottom"/>
            <a:pathLst>
              <a:path w="21600" h="32397">
                <a:moveTo>
                  <a:pt x="3600" y="0"/>
                </a:moveTo>
                <a:arcTo wR="3600" hR="3600" stAng="16200000" swAng="-5400000"/>
                <a:lnTo>
                  <a:pt x="0" y="28797"/>
                </a:lnTo>
                <a:arcTo wR="3600" hR="3600" stAng="10800000" swAng="-5400000"/>
                <a:lnTo>
                  <a:pt x="18000" y="32397"/>
                </a:lnTo>
                <a:arcTo wR="3600" hR="3600" stAng="5400000" swAng="-5400000"/>
                <a:lnTo>
                  <a:pt x="21600" y="3600"/>
                </a:lnTo>
                <a:arcTo wR="3600" hR="3600" stAng="0" swAng="-5400000"/>
                <a:close/>
              </a:path>
            </a:pathLst>
          </a:custGeom>
          <a:gradFill rotWithShape="0">
            <a:gsLst>
              <a:gs pos="0">
                <a:srgbClr val="17175e"/>
              </a:gs>
              <a:gs pos="50000">
                <a:srgbClr val="3333cc"/>
              </a:gs>
              <a:gs pos="100000">
                <a:srgbClr val="17175e"/>
              </a:gs>
            </a:gsLst>
            <a:lin ang="10800000"/>
          </a:gra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ot B</a:t>
            </a:r>
            <a:endParaRPr b="0" lang="en-US" sz="2400" spc="-1" strike="noStrike">
              <a:solidFill>
                <a:srgbClr val="000000"/>
              </a:solidFill>
              <a:latin typeface="Times New Roman"/>
            </a:endParaRPr>
          </a:p>
        </p:txBody>
      </p:sp>
      <p:sp>
        <p:nvSpPr>
          <p:cNvPr id="120" name=""/>
          <p:cNvSpPr/>
          <p:nvPr/>
        </p:nvSpPr>
        <p:spPr>
          <a:xfrm>
            <a:off x="4267080" y="4267080"/>
            <a:ext cx="0" cy="11430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5486400" y="1218960"/>
            <a:ext cx="0" cy="4190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486400" y="1219320"/>
            <a:ext cx="12193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267080" y="5410080"/>
            <a:ext cx="12193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038480" y="4572000"/>
            <a:ext cx="457200" cy="457200"/>
          </a:xfrm>
          <a:prstGeom prst="flowChartCollate">
            <a:avLst/>
          </a:prstGeom>
          <a:gradFill rotWithShape="0">
            <a:gsLst>
              <a:gs pos="0">
                <a:srgbClr val="5e5e75"/>
              </a:gs>
              <a:gs pos="50000">
                <a:srgbClr val="ccccff"/>
              </a:gs>
              <a:gs pos="100000">
                <a:srgbClr val="5e5e75"/>
              </a:gs>
            </a:gsLst>
            <a:lin ang="108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BBA4E37-9E9D-42FF-AA82-DD7D3B9262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ff9"/>
        </a:solidFill>
      </p:bgPr>
    </p:bg>
    <p:spTree>
      <p:nvGrpSpPr>
        <p:cNvPr id="1" name=""/>
        <p:cNvGrpSpPr/>
        <p:nvPr/>
      </p:nvGrpSpPr>
      <p:grpSpPr>
        <a:xfrm>
          <a:off x="0" y="0"/>
          <a:ext cx="0" cy="0"/>
          <a:chOff x="0" y="0"/>
          <a:chExt cx="0" cy="0"/>
        </a:xfrm>
      </p:grpSpPr>
      <p:sp>
        <p:nvSpPr>
          <p:cNvPr id="125" name=""/>
          <p:cNvSpPr/>
          <p:nvPr/>
        </p:nvSpPr>
        <p:spPr>
          <a:xfrm>
            <a:off x="4419720" y="2895480"/>
            <a:ext cx="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PlaceHolder 1"/>
          <p:cNvSpPr>
            <a:spLocks noGrp="1"/>
          </p:cNvSpPr>
          <p:nvPr>
            <p:ph type="title"/>
          </p:nvPr>
        </p:nvSpPr>
        <p:spPr>
          <a:xfrm>
            <a:off x="762120" y="304560"/>
            <a:ext cx="624816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c00"/>
                </a:solidFill>
                <a:latin typeface="Arial"/>
              </a:rPr>
              <a:t>Complexité du problème</a:t>
            </a:r>
            <a:endParaRPr b="1" lang="en-US" sz="2800" spc="-1" strike="noStrike">
              <a:solidFill>
                <a:srgbClr val="ffcc00"/>
              </a:solidFill>
              <a:latin typeface="Arial"/>
            </a:endParaRPr>
          </a:p>
        </p:txBody>
      </p:sp>
      <p:sp>
        <p:nvSpPr>
          <p:cNvPr id="127" name="PlaceHolder 2"/>
          <p:cNvSpPr>
            <a:spLocks noGrp="1"/>
          </p:cNvSpPr>
          <p:nvPr>
            <p:ph/>
          </p:nvPr>
        </p:nvSpPr>
        <p:spPr>
          <a:xfrm>
            <a:off x="457200" y="5562720"/>
            <a:ext cx="8305920" cy="457200"/>
          </a:xfrm>
          <a:prstGeom prst="rect">
            <a:avLst/>
          </a:prstGeom>
          <a:noFill/>
          <a:ln w="0">
            <a:noFill/>
          </a:ln>
        </p:spPr>
        <p:txBody>
          <a:bodyPr lIns="90000" rIns="90000" tIns="46800" bIns="46800" anchor="t">
            <a:normAutofit fontScale="74000"/>
          </a:bodyPr>
          <a:p>
            <a:pPr marL="253800" indent="-2538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6600"/>
                </a:solidFill>
                <a:latin typeface="Arial"/>
              </a:rPr>
              <a:t>Opérations hors recette ou manuelles</a:t>
            </a:r>
            <a:endParaRPr b="0" lang="en-US" sz="3200" spc="-1" strike="noStrike">
              <a:solidFill>
                <a:srgbClr val="ff6600"/>
              </a:solidFill>
              <a:latin typeface="Arial"/>
            </a:endParaRPr>
          </a:p>
        </p:txBody>
      </p:sp>
      <p:sp>
        <p:nvSpPr>
          <p:cNvPr id="128" name=""/>
          <p:cNvSpPr/>
          <p:nvPr/>
        </p:nvSpPr>
        <p:spPr>
          <a:xfrm>
            <a:off x="6400800" y="2895480"/>
            <a:ext cx="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267080" y="3124080"/>
            <a:ext cx="304920" cy="381240"/>
          </a:xfrm>
          <a:prstGeom prst="flowChartCollate">
            <a:avLst/>
          </a:prstGeom>
          <a:gradFill rotWithShape="0">
            <a:gsLst>
              <a:gs pos="0">
                <a:srgbClr val="5e5e75"/>
              </a:gs>
              <a:gs pos="50000">
                <a:srgbClr val="ccccff"/>
              </a:gs>
              <a:gs pos="100000">
                <a:srgbClr val="5e5e75"/>
              </a:gs>
            </a:gsLst>
            <a:lin ang="108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886200" y="1600200"/>
            <a:ext cx="1066680" cy="1295280"/>
          </a:xfrm>
          <a:custGeom>
            <a:avLst/>
            <a:gdLst>
              <a:gd name="textAreaLeft" fmla="*/ 51840 w 1066680"/>
              <a:gd name="textAreaRight" fmla="*/ 1014840 w 1066680"/>
              <a:gd name="textAreaTop" fmla="*/ 51840 h 1295280"/>
              <a:gd name="textAreaBottom" fmla="*/ 1243440 h 1295280"/>
            </a:gdLst>
            <a:ahLst/>
            <a:rect l="textAreaLeft" t="textAreaTop" r="textAreaRight" b="textAreaBottom"/>
            <a:pathLst>
              <a:path w="21600" h="26228">
                <a:moveTo>
                  <a:pt x="3600" y="0"/>
                </a:moveTo>
                <a:arcTo wR="3600" hR="3600" stAng="16200000" swAng="-5400000"/>
                <a:lnTo>
                  <a:pt x="0" y="22628"/>
                </a:lnTo>
                <a:arcTo wR="3600" hR="3600" stAng="10800000" swAng="-5400000"/>
                <a:lnTo>
                  <a:pt x="18000" y="26228"/>
                </a:lnTo>
                <a:arcTo wR="3600" hR="3600" stAng="5400000" swAng="-5400000"/>
                <a:lnTo>
                  <a:pt x="21600" y="3600"/>
                </a:lnTo>
                <a:arcTo wR="3600" hR="3600" stAng="0" swAng="-5400000"/>
                <a:close/>
              </a:path>
            </a:pathLst>
          </a:custGeom>
          <a:gradFill rotWithShape="0">
            <a:gsLst>
              <a:gs pos="0">
                <a:srgbClr val="757575"/>
              </a:gs>
              <a:gs pos="50000">
                <a:srgbClr val="ffffff"/>
              </a:gs>
              <a:gs pos="100000">
                <a:srgbClr val="757575"/>
              </a:gs>
            </a:gsLst>
            <a:lin ang="10800000"/>
          </a:gra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5867280" y="1600200"/>
            <a:ext cx="1067040" cy="1295280"/>
          </a:xfrm>
          <a:custGeom>
            <a:avLst/>
            <a:gdLst>
              <a:gd name="textAreaLeft" fmla="*/ 51840 w 1067040"/>
              <a:gd name="textAreaRight" fmla="*/ 1015200 w 1067040"/>
              <a:gd name="textAreaTop" fmla="*/ 51840 h 1295280"/>
              <a:gd name="textAreaBottom" fmla="*/ 1243440 h 1295280"/>
            </a:gdLst>
            <a:ahLst/>
            <a:rect l="textAreaLeft" t="textAreaTop" r="textAreaRight" b="textAreaBottom"/>
            <a:pathLst>
              <a:path w="21600" h="26219">
                <a:moveTo>
                  <a:pt x="3600" y="0"/>
                </a:moveTo>
                <a:arcTo wR="3600" hR="3600" stAng="16200000" swAng="-5400000"/>
                <a:lnTo>
                  <a:pt x="0" y="22619"/>
                </a:lnTo>
                <a:arcTo wR="3600" hR="3600" stAng="10800000" swAng="-5400000"/>
                <a:lnTo>
                  <a:pt x="18000" y="26219"/>
                </a:lnTo>
                <a:arcTo wR="3600" hR="3600" stAng="5400000" swAng="-5400000"/>
                <a:lnTo>
                  <a:pt x="21600" y="3600"/>
                </a:lnTo>
                <a:arcTo wR="3600" hR="3600" stAng="0" swAng="-5400000"/>
                <a:close/>
              </a:path>
            </a:pathLst>
          </a:custGeom>
          <a:gradFill rotWithShape="0">
            <a:gsLst>
              <a:gs pos="0">
                <a:srgbClr val="005e46"/>
              </a:gs>
              <a:gs pos="50000">
                <a:srgbClr val="00cc99"/>
              </a:gs>
              <a:gs pos="100000">
                <a:srgbClr val="005e46"/>
              </a:gs>
            </a:gsLst>
            <a:lin ang="10800000"/>
          </a:gra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ot A</a:t>
            </a:r>
            <a:endParaRPr b="0" lang="en-US" sz="2400" spc="-1" strike="noStrike">
              <a:solidFill>
                <a:srgbClr val="000000"/>
              </a:solidFill>
              <a:latin typeface="Times New Roman"/>
            </a:endParaRPr>
          </a:p>
        </p:txBody>
      </p:sp>
      <p:sp>
        <p:nvSpPr>
          <p:cNvPr id="132" name=""/>
          <p:cNvSpPr/>
          <p:nvPr/>
        </p:nvSpPr>
        <p:spPr>
          <a:xfrm>
            <a:off x="6248520" y="3124080"/>
            <a:ext cx="304560" cy="381240"/>
          </a:xfrm>
          <a:prstGeom prst="flowChartCollate">
            <a:avLst/>
          </a:prstGeom>
          <a:gradFill rotWithShape="0">
            <a:gsLst>
              <a:gs pos="0">
                <a:srgbClr val="17175e"/>
              </a:gs>
              <a:gs pos="50000">
                <a:srgbClr val="3333cc"/>
              </a:gs>
              <a:gs pos="100000">
                <a:srgbClr val="17175e"/>
              </a:gs>
            </a:gsLst>
            <a:lin ang="108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105520" y="3657600"/>
            <a:ext cx="0" cy="533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715000" y="3657600"/>
            <a:ext cx="0" cy="533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4419360" y="3657600"/>
            <a:ext cx="685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H="1">
            <a:off x="5714640" y="3657600"/>
            <a:ext cx="685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876920" y="3886200"/>
            <a:ext cx="1066680" cy="1295280"/>
          </a:xfrm>
          <a:custGeom>
            <a:avLst/>
            <a:gdLst>
              <a:gd name="textAreaLeft" fmla="*/ 51840 w 1066680"/>
              <a:gd name="textAreaRight" fmla="*/ 1014840 w 1066680"/>
              <a:gd name="textAreaTop" fmla="*/ 51840 h 1295280"/>
              <a:gd name="textAreaBottom" fmla="*/ 1243440 h 1295280"/>
            </a:gdLst>
            <a:ahLst/>
            <a:rect l="textAreaLeft" t="textAreaTop" r="textAreaRight" b="textAreaBottom"/>
            <a:pathLst>
              <a:path w="21600" h="26228">
                <a:moveTo>
                  <a:pt x="3600" y="0"/>
                </a:moveTo>
                <a:arcTo wR="3600" hR="3600" stAng="16200000" swAng="-5400000"/>
                <a:lnTo>
                  <a:pt x="0" y="22628"/>
                </a:lnTo>
                <a:arcTo wR="3600" hR="3600" stAng="10800000" swAng="-5400000"/>
                <a:lnTo>
                  <a:pt x="18000" y="26228"/>
                </a:lnTo>
                <a:arcTo wR="3600" hR="3600" stAng="5400000" swAng="-5400000"/>
                <a:lnTo>
                  <a:pt x="21600" y="3600"/>
                </a:lnTo>
                <a:arcTo wR="3600" hR="3600" stAng="0" swAng="-5400000"/>
                <a:close/>
              </a:path>
            </a:pathLst>
          </a:custGeom>
          <a:gradFill rotWithShape="0">
            <a:gsLst>
              <a:gs pos="0">
                <a:srgbClr val="005e46"/>
              </a:gs>
              <a:gs pos="50000">
                <a:srgbClr val="00cc99"/>
              </a:gs>
              <a:gs pos="100000">
                <a:srgbClr val="005e46"/>
              </a:gs>
            </a:gsLst>
            <a:lin ang="10800000"/>
          </a:gra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ot A</a:t>
            </a:r>
            <a:endParaRPr b="0" lang="en-US" sz="2400" spc="-1" strike="noStrike">
              <a:solidFill>
                <a:srgbClr val="000000"/>
              </a:solidFill>
              <a:latin typeface="Times New Roman"/>
            </a:endParaRPr>
          </a:p>
        </p:txBody>
      </p:sp>
      <p:grpSp>
        <p:nvGrpSpPr>
          <p:cNvPr id="138" name=""/>
          <p:cNvGrpSpPr/>
          <p:nvPr/>
        </p:nvGrpSpPr>
        <p:grpSpPr>
          <a:xfrm>
            <a:off x="1143000" y="2514600"/>
            <a:ext cx="3026160" cy="2476440"/>
            <a:chOff x="1143000" y="2514600"/>
            <a:chExt cx="3026160" cy="2476440"/>
          </a:xfrm>
        </p:grpSpPr>
        <p:grpSp>
          <p:nvGrpSpPr>
            <p:cNvPr id="139" name=""/>
            <p:cNvGrpSpPr/>
            <p:nvPr/>
          </p:nvGrpSpPr>
          <p:grpSpPr>
            <a:xfrm>
              <a:off x="2664000" y="3227400"/>
              <a:ext cx="1505160" cy="1012680"/>
              <a:chOff x="2664000" y="3227400"/>
              <a:chExt cx="1505160" cy="1012680"/>
            </a:xfrm>
          </p:grpSpPr>
          <p:sp>
            <p:nvSpPr>
              <p:cNvPr id="140" name=""/>
              <p:cNvSpPr/>
              <p:nvPr/>
            </p:nvSpPr>
            <p:spPr>
              <a:xfrm rot="4363800">
                <a:off x="2837520" y="3277800"/>
                <a:ext cx="760320" cy="923760"/>
              </a:xfrm>
              <a:custGeom>
                <a:avLst/>
                <a:gdLst/>
                <a:ahLst/>
                <a:rect l="l" t="t" r="r" b="b"/>
                <a:pathLst>
                  <a:path w="1069" h="1275">
                    <a:moveTo>
                      <a:pt x="832" y="1275"/>
                    </a:moveTo>
                    <a:lnTo>
                      <a:pt x="853" y="1103"/>
                    </a:lnTo>
                    <a:lnTo>
                      <a:pt x="912" y="1011"/>
                    </a:lnTo>
                    <a:lnTo>
                      <a:pt x="972" y="930"/>
                    </a:lnTo>
                    <a:lnTo>
                      <a:pt x="1028" y="828"/>
                    </a:lnTo>
                    <a:lnTo>
                      <a:pt x="1057" y="742"/>
                    </a:lnTo>
                    <a:lnTo>
                      <a:pt x="1069" y="638"/>
                    </a:lnTo>
                    <a:lnTo>
                      <a:pt x="1045" y="525"/>
                    </a:lnTo>
                    <a:lnTo>
                      <a:pt x="1008" y="434"/>
                    </a:lnTo>
                    <a:lnTo>
                      <a:pt x="1014" y="352"/>
                    </a:lnTo>
                    <a:lnTo>
                      <a:pt x="999" y="278"/>
                    </a:lnTo>
                    <a:lnTo>
                      <a:pt x="978" y="236"/>
                    </a:lnTo>
                    <a:lnTo>
                      <a:pt x="949" y="201"/>
                    </a:lnTo>
                    <a:lnTo>
                      <a:pt x="938" y="177"/>
                    </a:lnTo>
                    <a:lnTo>
                      <a:pt x="897" y="153"/>
                    </a:lnTo>
                    <a:lnTo>
                      <a:pt x="863" y="148"/>
                    </a:lnTo>
                    <a:lnTo>
                      <a:pt x="837" y="161"/>
                    </a:lnTo>
                    <a:lnTo>
                      <a:pt x="806" y="242"/>
                    </a:lnTo>
                    <a:lnTo>
                      <a:pt x="749" y="360"/>
                    </a:lnTo>
                    <a:lnTo>
                      <a:pt x="833" y="157"/>
                    </a:lnTo>
                    <a:lnTo>
                      <a:pt x="848" y="132"/>
                    </a:lnTo>
                    <a:lnTo>
                      <a:pt x="829" y="87"/>
                    </a:lnTo>
                    <a:lnTo>
                      <a:pt x="798" y="71"/>
                    </a:lnTo>
                    <a:lnTo>
                      <a:pt x="757" y="54"/>
                    </a:lnTo>
                    <a:lnTo>
                      <a:pt x="701" y="34"/>
                    </a:lnTo>
                    <a:lnTo>
                      <a:pt x="687" y="22"/>
                    </a:lnTo>
                    <a:lnTo>
                      <a:pt x="661" y="0"/>
                    </a:lnTo>
                    <a:lnTo>
                      <a:pt x="506" y="34"/>
                    </a:lnTo>
                    <a:lnTo>
                      <a:pt x="301" y="147"/>
                    </a:lnTo>
                    <a:lnTo>
                      <a:pt x="286" y="177"/>
                    </a:lnTo>
                    <a:lnTo>
                      <a:pt x="239" y="225"/>
                    </a:lnTo>
                    <a:lnTo>
                      <a:pt x="183" y="263"/>
                    </a:lnTo>
                    <a:lnTo>
                      <a:pt x="134" y="283"/>
                    </a:lnTo>
                    <a:lnTo>
                      <a:pt x="89" y="328"/>
                    </a:lnTo>
                    <a:lnTo>
                      <a:pt x="59" y="405"/>
                    </a:lnTo>
                    <a:lnTo>
                      <a:pt x="18" y="507"/>
                    </a:lnTo>
                    <a:lnTo>
                      <a:pt x="0" y="564"/>
                    </a:lnTo>
                    <a:lnTo>
                      <a:pt x="18" y="654"/>
                    </a:lnTo>
                    <a:lnTo>
                      <a:pt x="48" y="748"/>
                    </a:lnTo>
                    <a:lnTo>
                      <a:pt x="96" y="867"/>
                    </a:lnTo>
                    <a:lnTo>
                      <a:pt x="123" y="965"/>
                    </a:lnTo>
                    <a:lnTo>
                      <a:pt x="190" y="1055"/>
                    </a:lnTo>
                    <a:lnTo>
                      <a:pt x="224" y="1071"/>
                    </a:lnTo>
                    <a:lnTo>
                      <a:pt x="243" y="1121"/>
                    </a:lnTo>
                    <a:lnTo>
                      <a:pt x="246" y="1273"/>
                    </a:lnTo>
                    <a:lnTo>
                      <a:pt x="832" y="1275"/>
                    </a:lnTo>
                    <a:close/>
                  </a:path>
                </a:pathLst>
              </a:custGeom>
              <a:solidFill>
                <a:srgbClr val="ff9f9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rot="4363800">
                <a:off x="3197160" y="3829680"/>
                <a:ext cx="332640" cy="173160"/>
              </a:xfrm>
              <a:custGeom>
                <a:avLst/>
                <a:gdLst/>
                <a:ahLst/>
                <a:rect l="l" t="t" r="r" b="b"/>
                <a:pathLst>
                  <a:path w="468" h="239">
                    <a:moveTo>
                      <a:pt x="0" y="0"/>
                    </a:moveTo>
                    <a:lnTo>
                      <a:pt x="204" y="142"/>
                    </a:lnTo>
                    <a:lnTo>
                      <a:pt x="387" y="214"/>
                    </a:lnTo>
                    <a:lnTo>
                      <a:pt x="468" y="239"/>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rot="4363800">
                <a:off x="3058200" y="3556800"/>
                <a:ext cx="371160" cy="404280"/>
              </a:xfrm>
              <a:custGeom>
                <a:avLst/>
                <a:gdLst/>
                <a:ahLst/>
                <a:rect l="l" t="t" r="r" b="b"/>
                <a:pathLst>
                  <a:path w="522" h="558">
                    <a:moveTo>
                      <a:pt x="0" y="0"/>
                    </a:moveTo>
                    <a:lnTo>
                      <a:pt x="293" y="156"/>
                    </a:lnTo>
                    <a:lnTo>
                      <a:pt x="359" y="213"/>
                    </a:lnTo>
                    <a:lnTo>
                      <a:pt x="443" y="313"/>
                    </a:lnTo>
                    <a:lnTo>
                      <a:pt x="479" y="394"/>
                    </a:lnTo>
                    <a:lnTo>
                      <a:pt x="498" y="464"/>
                    </a:lnTo>
                    <a:lnTo>
                      <a:pt x="522" y="558"/>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rot="4363800">
                <a:off x="3365280" y="3576960"/>
                <a:ext cx="244080" cy="392040"/>
              </a:xfrm>
              <a:custGeom>
                <a:avLst/>
                <a:gdLst/>
                <a:ahLst/>
                <a:rect l="l" t="t" r="r" b="b"/>
                <a:pathLst>
                  <a:path w="343" h="541">
                    <a:moveTo>
                      <a:pt x="340" y="121"/>
                    </a:moveTo>
                    <a:lnTo>
                      <a:pt x="343" y="85"/>
                    </a:lnTo>
                    <a:lnTo>
                      <a:pt x="320" y="37"/>
                    </a:lnTo>
                    <a:lnTo>
                      <a:pt x="285" y="13"/>
                    </a:lnTo>
                    <a:lnTo>
                      <a:pt x="252" y="0"/>
                    </a:lnTo>
                    <a:lnTo>
                      <a:pt x="216" y="1"/>
                    </a:lnTo>
                    <a:lnTo>
                      <a:pt x="183" y="9"/>
                    </a:lnTo>
                    <a:lnTo>
                      <a:pt x="157" y="25"/>
                    </a:lnTo>
                    <a:lnTo>
                      <a:pt x="107" y="145"/>
                    </a:lnTo>
                    <a:lnTo>
                      <a:pt x="72" y="259"/>
                    </a:lnTo>
                    <a:lnTo>
                      <a:pt x="39" y="349"/>
                    </a:lnTo>
                    <a:lnTo>
                      <a:pt x="0" y="445"/>
                    </a:lnTo>
                    <a:lnTo>
                      <a:pt x="14" y="505"/>
                    </a:lnTo>
                    <a:lnTo>
                      <a:pt x="33" y="525"/>
                    </a:lnTo>
                    <a:lnTo>
                      <a:pt x="63" y="541"/>
                    </a:lnTo>
                    <a:lnTo>
                      <a:pt x="96" y="537"/>
                    </a:lnTo>
                    <a:lnTo>
                      <a:pt x="129" y="523"/>
                    </a:lnTo>
                    <a:lnTo>
                      <a:pt x="162" y="469"/>
                    </a:lnTo>
                    <a:lnTo>
                      <a:pt x="175" y="394"/>
                    </a:lnTo>
                    <a:lnTo>
                      <a:pt x="204" y="346"/>
                    </a:lnTo>
                    <a:lnTo>
                      <a:pt x="230" y="289"/>
                    </a:lnTo>
                    <a:lnTo>
                      <a:pt x="274" y="232"/>
                    </a:lnTo>
                    <a:lnTo>
                      <a:pt x="316" y="159"/>
                    </a:lnTo>
                    <a:lnTo>
                      <a:pt x="340" y="121"/>
                    </a:lnTo>
                    <a:close/>
                  </a:path>
                </a:pathLst>
              </a:custGeom>
              <a:solidFill>
                <a:srgbClr val="ff9f9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rot="4363800">
                <a:off x="3306600" y="3706200"/>
                <a:ext cx="70200" cy="93240"/>
              </a:xfrm>
              <a:custGeom>
                <a:avLst/>
                <a:gdLst/>
                <a:ahLst/>
                <a:rect l="l" t="t" r="r" b="b"/>
                <a:pathLst>
                  <a:path w="99" h="129">
                    <a:moveTo>
                      <a:pt x="14" y="16"/>
                    </a:moveTo>
                    <a:lnTo>
                      <a:pt x="33" y="0"/>
                    </a:lnTo>
                    <a:lnTo>
                      <a:pt x="67" y="4"/>
                    </a:lnTo>
                    <a:lnTo>
                      <a:pt x="99" y="19"/>
                    </a:lnTo>
                    <a:lnTo>
                      <a:pt x="99" y="67"/>
                    </a:lnTo>
                    <a:lnTo>
                      <a:pt x="94" y="93"/>
                    </a:lnTo>
                    <a:lnTo>
                      <a:pt x="80" y="121"/>
                    </a:lnTo>
                    <a:lnTo>
                      <a:pt x="47" y="129"/>
                    </a:lnTo>
                    <a:lnTo>
                      <a:pt x="30" y="127"/>
                    </a:lnTo>
                    <a:lnTo>
                      <a:pt x="11" y="108"/>
                    </a:lnTo>
                    <a:lnTo>
                      <a:pt x="0" y="85"/>
                    </a:lnTo>
                    <a:lnTo>
                      <a:pt x="14" y="16"/>
                    </a:lnTo>
                    <a:close/>
                  </a:path>
                </a:pathLst>
              </a:custGeom>
              <a:solidFill>
                <a:srgbClr val="ffbfbf"/>
              </a:solidFill>
              <a:ln w="1260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45" name=""/>
              <p:cNvSpPr/>
              <p:nvPr/>
            </p:nvSpPr>
            <p:spPr>
              <a:xfrm rot="4363800">
                <a:off x="3725280" y="3071520"/>
                <a:ext cx="178920" cy="686160"/>
              </a:xfrm>
              <a:custGeom>
                <a:avLst/>
                <a:gdLst/>
                <a:ahLst/>
                <a:rect l="l" t="t" r="r" b="b"/>
                <a:pathLst>
                  <a:path w="252" h="947">
                    <a:moveTo>
                      <a:pt x="247" y="873"/>
                    </a:moveTo>
                    <a:lnTo>
                      <a:pt x="251" y="823"/>
                    </a:lnTo>
                    <a:lnTo>
                      <a:pt x="252" y="711"/>
                    </a:lnTo>
                    <a:lnTo>
                      <a:pt x="244" y="601"/>
                    </a:lnTo>
                    <a:lnTo>
                      <a:pt x="239" y="552"/>
                    </a:lnTo>
                    <a:lnTo>
                      <a:pt x="236" y="516"/>
                    </a:lnTo>
                    <a:lnTo>
                      <a:pt x="236" y="439"/>
                    </a:lnTo>
                    <a:lnTo>
                      <a:pt x="240" y="353"/>
                    </a:lnTo>
                    <a:lnTo>
                      <a:pt x="239" y="289"/>
                    </a:lnTo>
                    <a:lnTo>
                      <a:pt x="237" y="240"/>
                    </a:lnTo>
                    <a:lnTo>
                      <a:pt x="228" y="145"/>
                    </a:lnTo>
                    <a:lnTo>
                      <a:pt x="220" y="77"/>
                    </a:lnTo>
                    <a:lnTo>
                      <a:pt x="205" y="21"/>
                    </a:lnTo>
                    <a:lnTo>
                      <a:pt x="186" y="3"/>
                    </a:lnTo>
                    <a:lnTo>
                      <a:pt x="162" y="1"/>
                    </a:lnTo>
                    <a:lnTo>
                      <a:pt x="136" y="0"/>
                    </a:lnTo>
                    <a:lnTo>
                      <a:pt x="105" y="13"/>
                    </a:lnTo>
                    <a:lnTo>
                      <a:pt x="80" y="61"/>
                    </a:lnTo>
                    <a:lnTo>
                      <a:pt x="74" y="139"/>
                    </a:lnTo>
                    <a:lnTo>
                      <a:pt x="71" y="230"/>
                    </a:lnTo>
                    <a:lnTo>
                      <a:pt x="66" y="289"/>
                    </a:lnTo>
                    <a:lnTo>
                      <a:pt x="58" y="350"/>
                    </a:lnTo>
                    <a:lnTo>
                      <a:pt x="59" y="422"/>
                    </a:lnTo>
                    <a:lnTo>
                      <a:pt x="56" y="504"/>
                    </a:lnTo>
                    <a:lnTo>
                      <a:pt x="44" y="566"/>
                    </a:lnTo>
                    <a:lnTo>
                      <a:pt x="32" y="665"/>
                    </a:lnTo>
                    <a:lnTo>
                      <a:pt x="17" y="769"/>
                    </a:lnTo>
                    <a:lnTo>
                      <a:pt x="3" y="857"/>
                    </a:lnTo>
                    <a:lnTo>
                      <a:pt x="0" y="947"/>
                    </a:lnTo>
                    <a:lnTo>
                      <a:pt x="231" y="943"/>
                    </a:lnTo>
                    <a:lnTo>
                      <a:pt x="247" y="873"/>
                    </a:lnTo>
                    <a:close/>
                  </a:path>
                </a:pathLst>
              </a:custGeom>
              <a:solidFill>
                <a:srgbClr val="ff9f9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rot="4363800">
                <a:off x="3367800" y="3944160"/>
                <a:ext cx="136440" cy="17280"/>
              </a:xfrm>
              <a:custGeom>
                <a:avLst/>
                <a:gdLst/>
                <a:ahLst/>
                <a:rect l="l" t="t" r="r" b="b"/>
                <a:pathLst>
                  <a:path w="192" h="24">
                    <a:moveTo>
                      <a:pt x="192" y="12"/>
                    </a:moveTo>
                    <a:lnTo>
                      <a:pt x="135" y="21"/>
                    </a:lnTo>
                    <a:lnTo>
                      <a:pt x="90" y="24"/>
                    </a:lnTo>
                    <a:lnTo>
                      <a:pt x="30" y="12"/>
                    </a:lnTo>
                    <a:lnTo>
                      <a:pt x="0" y="0"/>
                    </a:lnTo>
                  </a:path>
                </a:pathLst>
              </a:custGeom>
              <a:noFill/>
              <a:ln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 name=""/>
              <p:cNvSpPr/>
              <p:nvPr/>
            </p:nvSpPr>
            <p:spPr>
              <a:xfrm rot="4363800">
                <a:off x="2802600" y="3682800"/>
                <a:ext cx="111600" cy="8640"/>
              </a:xfrm>
              <a:custGeom>
                <a:avLst/>
                <a:gdLst/>
                <a:ahLst/>
                <a:rect l="l" t="t" r="r" b="b"/>
                <a:pathLst>
                  <a:path w="157" h="12">
                    <a:moveTo>
                      <a:pt x="0" y="0"/>
                    </a:moveTo>
                    <a:lnTo>
                      <a:pt x="61" y="12"/>
                    </a:lnTo>
                    <a:lnTo>
                      <a:pt x="127" y="12"/>
                    </a:lnTo>
                    <a:lnTo>
                      <a:pt x="157" y="6"/>
                    </a:lnTo>
                  </a:path>
                </a:pathLst>
              </a:custGeom>
              <a:noFill/>
              <a:ln w="1260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 name=""/>
              <p:cNvSpPr/>
              <p:nvPr/>
            </p:nvSpPr>
            <p:spPr>
              <a:xfrm rot="4363800">
                <a:off x="3357360" y="3731040"/>
                <a:ext cx="228960" cy="315000"/>
              </a:xfrm>
              <a:custGeom>
                <a:avLst/>
                <a:gdLst/>
                <a:ahLst/>
                <a:rect l="l" t="t" r="r" b="b"/>
                <a:pathLst>
                  <a:path w="322" h="435">
                    <a:moveTo>
                      <a:pt x="322" y="84"/>
                    </a:moveTo>
                    <a:lnTo>
                      <a:pt x="315" y="138"/>
                    </a:lnTo>
                    <a:lnTo>
                      <a:pt x="288" y="186"/>
                    </a:lnTo>
                    <a:lnTo>
                      <a:pt x="240" y="231"/>
                    </a:lnTo>
                    <a:lnTo>
                      <a:pt x="208" y="242"/>
                    </a:lnTo>
                    <a:lnTo>
                      <a:pt x="182" y="255"/>
                    </a:lnTo>
                    <a:lnTo>
                      <a:pt x="166" y="299"/>
                    </a:lnTo>
                    <a:lnTo>
                      <a:pt x="142" y="360"/>
                    </a:lnTo>
                    <a:lnTo>
                      <a:pt x="115" y="417"/>
                    </a:lnTo>
                    <a:lnTo>
                      <a:pt x="84" y="435"/>
                    </a:lnTo>
                    <a:lnTo>
                      <a:pt x="40" y="435"/>
                    </a:lnTo>
                    <a:lnTo>
                      <a:pt x="12" y="422"/>
                    </a:lnTo>
                    <a:lnTo>
                      <a:pt x="0" y="387"/>
                    </a:lnTo>
                    <a:lnTo>
                      <a:pt x="3" y="348"/>
                    </a:lnTo>
                    <a:lnTo>
                      <a:pt x="17" y="276"/>
                    </a:lnTo>
                    <a:lnTo>
                      <a:pt x="45" y="218"/>
                    </a:lnTo>
                    <a:lnTo>
                      <a:pt x="78" y="168"/>
                    </a:lnTo>
                    <a:lnTo>
                      <a:pt x="139" y="60"/>
                    </a:lnTo>
                    <a:lnTo>
                      <a:pt x="180" y="12"/>
                    </a:lnTo>
                    <a:lnTo>
                      <a:pt x="234" y="0"/>
                    </a:lnTo>
                    <a:lnTo>
                      <a:pt x="265" y="8"/>
                    </a:lnTo>
                    <a:lnTo>
                      <a:pt x="288" y="24"/>
                    </a:lnTo>
                    <a:lnTo>
                      <a:pt x="310" y="53"/>
                    </a:lnTo>
                    <a:lnTo>
                      <a:pt x="322" y="84"/>
                    </a:lnTo>
                    <a:close/>
                  </a:path>
                </a:pathLst>
              </a:custGeom>
              <a:solidFill>
                <a:srgbClr val="ff9f9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rot="4363800">
                <a:off x="3312360" y="3815640"/>
                <a:ext cx="60120" cy="71640"/>
              </a:xfrm>
              <a:custGeom>
                <a:avLst/>
                <a:gdLst/>
                <a:ahLst/>
                <a:rect l="l" t="t" r="r" b="b"/>
                <a:pathLst>
                  <a:path w="85" h="99">
                    <a:moveTo>
                      <a:pt x="15" y="0"/>
                    </a:moveTo>
                    <a:lnTo>
                      <a:pt x="49" y="0"/>
                    </a:lnTo>
                    <a:lnTo>
                      <a:pt x="83" y="12"/>
                    </a:lnTo>
                    <a:lnTo>
                      <a:pt x="85" y="51"/>
                    </a:lnTo>
                    <a:lnTo>
                      <a:pt x="75" y="80"/>
                    </a:lnTo>
                    <a:lnTo>
                      <a:pt x="42" y="99"/>
                    </a:lnTo>
                    <a:lnTo>
                      <a:pt x="18" y="89"/>
                    </a:lnTo>
                    <a:lnTo>
                      <a:pt x="9" y="72"/>
                    </a:lnTo>
                    <a:lnTo>
                      <a:pt x="0" y="47"/>
                    </a:lnTo>
                    <a:lnTo>
                      <a:pt x="3" y="14"/>
                    </a:lnTo>
                    <a:lnTo>
                      <a:pt x="15" y="0"/>
                    </a:lnTo>
                    <a:close/>
                  </a:path>
                </a:pathLst>
              </a:custGeom>
              <a:solidFill>
                <a:srgbClr val="ffbfbf"/>
              </a:solidFill>
              <a:ln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0" name=""/>
              <p:cNvSpPr/>
              <p:nvPr/>
            </p:nvSpPr>
            <p:spPr>
              <a:xfrm rot="4363800">
                <a:off x="3387240" y="3471480"/>
                <a:ext cx="196200" cy="393480"/>
              </a:xfrm>
              <a:custGeom>
                <a:avLst/>
                <a:gdLst/>
                <a:ahLst/>
                <a:rect l="l" t="t" r="r" b="b"/>
                <a:pathLst>
                  <a:path w="276" h="543">
                    <a:moveTo>
                      <a:pt x="276" y="78"/>
                    </a:moveTo>
                    <a:lnTo>
                      <a:pt x="264" y="41"/>
                    </a:lnTo>
                    <a:lnTo>
                      <a:pt x="244" y="15"/>
                    </a:lnTo>
                    <a:lnTo>
                      <a:pt x="213" y="6"/>
                    </a:lnTo>
                    <a:lnTo>
                      <a:pt x="174" y="0"/>
                    </a:lnTo>
                    <a:lnTo>
                      <a:pt x="120" y="18"/>
                    </a:lnTo>
                    <a:lnTo>
                      <a:pt x="80" y="42"/>
                    </a:lnTo>
                    <a:lnTo>
                      <a:pt x="46" y="102"/>
                    </a:lnTo>
                    <a:lnTo>
                      <a:pt x="26" y="240"/>
                    </a:lnTo>
                    <a:lnTo>
                      <a:pt x="3" y="342"/>
                    </a:lnTo>
                    <a:lnTo>
                      <a:pt x="0" y="444"/>
                    </a:lnTo>
                    <a:lnTo>
                      <a:pt x="7" y="492"/>
                    </a:lnTo>
                    <a:lnTo>
                      <a:pt x="29" y="528"/>
                    </a:lnTo>
                    <a:lnTo>
                      <a:pt x="79" y="543"/>
                    </a:lnTo>
                    <a:lnTo>
                      <a:pt x="126" y="522"/>
                    </a:lnTo>
                    <a:lnTo>
                      <a:pt x="151" y="468"/>
                    </a:lnTo>
                    <a:lnTo>
                      <a:pt x="168" y="378"/>
                    </a:lnTo>
                    <a:lnTo>
                      <a:pt x="192" y="296"/>
                    </a:lnTo>
                    <a:lnTo>
                      <a:pt x="232" y="219"/>
                    </a:lnTo>
                    <a:lnTo>
                      <a:pt x="261" y="134"/>
                    </a:lnTo>
                    <a:lnTo>
                      <a:pt x="276" y="78"/>
                    </a:lnTo>
                    <a:close/>
                  </a:path>
                </a:pathLst>
              </a:custGeom>
              <a:solidFill>
                <a:srgbClr val="ff9f9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rot="4363800">
                <a:off x="3307320" y="3614400"/>
                <a:ext cx="81720" cy="95400"/>
              </a:xfrm>
              <a:custGeom>
                <a:avLst/>
                <a:gdLst/>
                <a:ahLst/>
                <a:rect l="l" t="t" r="r" b="b"/>
                <a:pathLst>
                  <a:path w="115" h="132">
                    <a:moveTo>
                      <a:pt x="114" y="21"/>
                    </a:moveTo>
                    <a:lnTo>
                      <a:pt x="115" y="70"/>
                    </a:lnTo>
                    <a:lnTo>
                      <a:pt x="98" y="119"/>
                    </a:lnTo>
                    <a:lnTo>
                      <a:pt x="68" y="132"/>
                    </a:lnTo>
                    <a:lnTo>
                      <a:pt x="23" y="119"/>
                    </a:lnTo>
                    <a:lnTo>
                      <a:pt x="9" y="97"/>
                    </a:lnTo>
                    <a:lnTo>
                      <a:pt x="2" y="71"/>
                    </a:lnTo>
                    <a:lnTo>
                      <a:pt x="0" y="34"/>
                    </a:lnTo>
                    <a:lnTo>
                      <a:pt x="19" y="9"/>
                    </a:lnTo>
                    <a:lnTo>
                      <a:pt x="80" y="0"/>
                    </a:lnTo>
                    <a:lnTo>
                      <a:pt x="114" y="21"/>
                    </a:lnTo>
                    <a:close/>
                  </a:path>
                </a:pathLst>
              </a:custGeom>
              <a:solidFill>
                <a:srgbClr val="ffbfb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rot="4363800">
                <a:off x="3123360" y="3204720"/>
                <a:ext cx="357120" cy="591840"/>
              </a:xfrm>
              <a:custGeom>
                <a:avLst/>
                <a:gdLst/>
                <a:ahLst/>
                <a:rect l="l" t="t" r="r" b="b"/>
                <a:pathLst>
                  <a:path w="502" h="817">
                    <a:moveTo>
                      <a:pt x="210" y="102"/>
                    </a:moveTo>
                    <a:lnTo>
                      <a:pt x="283" y="84"/>
                    </a:lnTo>
                    <a:lnTo>
                      <a:pt x="331" y="54"/>
                    </a:lnTo>
                    <a:lnTo>
                      <a:pt x="391" y="18"/>
                    </a:lnTo>
                    <a:lnTo>
                      <a:pt x="457" y="0"/>
                    </a:lnTo>
                    <a:lnTo>
                      <a:pt x="481" y="9"/>
                    </a:lnTo>
                    <a:lnTo>
                      <a:pt x="499" y="29"/>
                    </a:lnTo>
                    <a:lnTo>
                      <a:pt x="502" y="62"/>
                    </a:lnTo>
                    <a:lnTo>
                      <a:pt x="493" y="102"/>
                    </a:lnTo>
                    <a:lnTo>
                      <a:pt x="484" y="137"/>
                    </a:lnTo>
                    <a:lnTo>
                      <a:pt x="457" y="180"/>
                    </a:lnTo>
                    <a:lnTo>
                      <a:pt x="394" y="240"/>
                    </a:lnTo>
                    <a:lnTo>
                      <a:pt x="349" y="270"/>
                    </a:lnTo>
                    <a:lnTo>
                      <a:pt x="313" y="288"/>
                    </a:lnTo>
                    <a:lnTo>
                      <a:pt x="319" y="354"/>
                    </a:lnTo>
                    <a:lnTo>
                      <a:pt x="325" y="414"/>
                    </a:lnTo>
                    <a:lnTo>
                      <a:pt x="319" y="504"/>
                    </a:lnTo>
                    <a:lnTo>
                      <a:pt x="307" y="558"/>
                    </a:lnTo>
                    <a:lnTo>
                      <a:pt x="301" y="612"/>
                    </a:lnTo>
                    <a:lnTo>
                      <a:pt x="274" y="668"/>
                    </a:lnTo>
                    <a:lnTo>
                      <a:pt x="249" y="708"/>
                    </a:lnTo>
                    <a:lnTo>
                      <a:pt x="204" y="746"/>
                    </a:lnTo>
                    <a:lnTo>
                      <a:pt x="162" y="781"/>
                    </a:lnTo>
                    <a:lnTo>
                      <a:pt x="117" y="804"/>
                    </a:lnTo>
                    <a:lnTo>
                      <a:pt x="84" y="817"/>
                    </a:lnTo>
                    <a:lnTo>
                      <a:pt x="54" y="751"/>
                    </a:lnTo>
                    <a:lnTo>
                      <a:pt x="36" y="684"/>
                    </a:lnTo>
                    <a:lnTo>
                      <a:pt x="6" y="582"/>
                    </a:lnTo>
                    <a:lnTo>
                      <a:pt x="0" y="534"/>
                    </a:lnTo>
                    <a:lnTo>
                      <a:pt x="24" y="456"/>
                    </a:lnTo>
                    <a:lnTo>
                      <a:pt x="48" y="348"/>
                    </a:lnTo>
                    <a:lnTo>
                      <a:pt x="78" y="210"/>
                    </a:lnTo>
                    <a:lnTo>
                      <a:pt x="108" y="144"/>
                    </a:lnTo>
                    <a:lnTo>
                      <a:pt x="162" y="114"/>
                    </a:lnTo>
                    <a:lnTo>
                      <a:pt x="210" y="102"/>
                    </a:lnTo>
                    <a:close/>
                  </a:path>
                </a:pathLst>
              </a:custGeom>
              <a:solidFill>
                <a:srgbClr val="ff9f9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rot="4363800">
                <a:off x="3502800" y="3476520"/>
                <a:ext cx="129960" cy="93240"/>
              </a:xfrm>
              <a:custGeom>
                <a:avLst/>
                <a:gdLst/>
                <a:ahLst/>
                <a:rect l="l" t="t" r="r" b="b"/>
                <a:pathLst>
                  <a:path w="183" h="129">
                    <a:moveTo>
                      <a:pt x="0" y="72"/>
                    </a:moveTo>
                    <a:lnTo>
                      <a:pt x="24" y="117"/>
                    </a:lnTo>
                    <a:lnTo>
                      <a:pt x="48" y="129"/>
                    </a:lnTo>
                    <a:lnTo>
                      <a:pt x="105" y="114"/>
                    </a:lnTo>
                    <a:lnTo>
                      <a:pt x="159" y="90"/>
                    </a:lnTo>
                    <a:lnTo>
                      <a:pt x="180" y="72"/>
                    </a:lnTo>
                    <a:lnTo>
                      <a:pt x="183" y="27"/>
                    </a:lnTo>
                    <a:lnTo>
                      <a:pt x="165" y="0"/>
                    </a:lnTo>
                    <a:lnTo>
                      <a:pt x="123" y="3"/>
                    </a:lnTo>
                    <a:lnTo>
                      <a:pt x="90" y="17"/>
                    </a:lnTo>
                    <a:lnTo>
                      <a:pt x="54" y="35"/>
                    </a:lnTo>
                    <a:lnTo>
                      <a:pt x="0" y="72"/>
                    </a:lnTo>
                    <a:close/>
                  </a:path>
                </a:pathLst>
              </a:custGeom>
              <a:solidFill>
                <a:srgbClr val="ffbfbf"/>
              </a:solidFill>
              <a:ln w="1260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4" name=""/>
              <p:cNvSpPr/>
              <p:nvPr/>
            </p:nvSpPr>
            <p:spPr>
              <a:xfrm rot="4363800">
                <a:off x="3457800" y="3889440"/>
                <a:ext cx="3960" cy="25920"/>
              </a:xfrm>
              <a:custGeom>
                <a:avLst/>
                <a:gdLst/>
                <a:ahLst/>
                <a:rect l="l" t="t" r="r" b="b"/>
                <a:pathLst>
                  <a:path w="6" h="36">
                    <a:moveTo>
                      <a:pt x="6" y="36"/>
                    </a:moveTo>
                    <a:lnTo>
                      <a:pt x="6" y="15"/>
                    </a:lnTo>
                    <a:lnTo>
                      <a:pt x="0" y="0"/>
                    </a:lnTo>
                  </a:path>
                </a:pathLst>
              </a:custGeom>
              <a:noFill/>
              <a:ln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pic>
          <p:nvPicPr>
            <p:cNvPr id="155" name="" descr=""/>
            <p:cNvPicPr/>
            <p:nvPr/>
          </p:nvPicPr>
          <p:blipFill>
            <a:blip r:embed="rId1"/>
            <a:stretch/>
          </p:blipFill>
          <p:spPr>
            <a:xfrm>
              <a:off x="1143000" y="2514600"/>
              <a:ext cx="1486080" cy="2476440"/>
            </a:xfrm>
            <a:prstGeom prst="rect">
              <a:avLst/>
            </a:prstGeom>
            <a:ln w="0">
              <a:noFill/>
            </a:ln>
          </p:spPr>
        </p:pic>
      </p:grpSp>
      <p:sp>
        <p:nvSpPr>
          <p:cNvPr id="156" name=""/>
          <p:cNvSpPr/>
          <p:nvPr/>
        </p:nvSpPr>
        <p:spPr>
          <a:xfrm>
            <a:off x="3886200" y="1600200"/>
            <a:ext cx="1066680" cy="1295280"/>
          </a:xfrm>
          <a:custGeom>
            <a:avLst/>
            <a:gdLst>
              <a:gd name="textAreaLeft" fmla="*/ 51840 w 1066680"/>
              <a:gd name="textAreaRight" fmla="*/ 1014840 w 1066680"/>
              <a:gd name="textAreaTop" fmla="*/ 51840 h 1295280"/>
              <a:gd name="textAreaBottom" fmla="*/ 1243440 h 1295280"/>
            </a:gdLst>
            <a:ahLst/>
            <a:rect l="textAreaLeft" t="textAreaTop" r="textAreaRight" b="textAreaBottom"/>
            <a:pathLst>
              <a:path w="21600" h="26228">
                <a:moveTo>
                  <a:pt x="3600" y="0"/>
                </a:moveTo>
                <a:arcTo wR="3600" hR="3600" stAng="16200000" swAng="-5400000"/>
                <a:lnTo>
                  <a:pt x="0" y="22628"/>
                </a:lnTo>
                <a:arcTo wR="3600" hR="3600" stAng="10800000" swAng="-5400000"/>
                <a:lnTo>
                  <a:pt x="18000" y="26228"/>
                </a:lnTo>
                <a:arcTo wR="3600" hR="3600" stAng="5400000" swAng="-5400000"/>
                <a:lnTo>
                  <a:pt x="21600" y="3600"/>
                </a:lnTo>
                <a:arcTo wR="3600" hR="3600" stAng="0" swAng="-5400000"/>
                <a:close/>
              </a:path>
            </a:pathLst>
          </a:custGeom>
          <a:gradFill rotWithShape="0">
            <a:gsLst>
              <a:gs pos="0">
                <a:srgbClr val="757500"/>
              </a:gs>
              <a:gs pos="50000">
                <a:srgbClr val="ffff00"/>
              </a:gs>
              <a:gs pos="100000">
                <a:srgbClr val="757500"/>
              </a:gs>
            </a:gsLst>
            <a:lin ang="10800000"/>
          </a:gra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ép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972A376-1E7B-4009-8B2A-336FFF28FB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ff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304560"/>
            <a:ext cx="624816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c00"/>
                </a:solidFill>
                <a:latin typeface="Arial"/>
              </a:rPr>
              <a:t>Gestionnaire de Batch</a:t>
            </a:r>
            <a:endParaRPr b="1" lang="en-US" sz="2800" spc="-1" strike="noStrike">
              <a:solidFill>
                <a:srgbClr val="ffcc00"/>
              </a:solidFill>
              <a:latin typeface="Arial"/>
            </a:endParaRPr>
          </a:p>
        </p:txBody>
      </p:sp>
      <p:sp>
        <p:nvSpPr>
          <p:cNvPr id="158" name="PlaceHolder 2"/>
          <p:cNvSpPr>
            <a:spLocks noGrp="1"/>
          </p:cNvSpPr>
          <p:nvPr>
            <p:ph/>
          </p:nvPr>
        </p:nvSpPr>
        <p:spPr>
          <a:xfrm>
            <a:off x="990360" y="1143000"/>
            <a:ext cx="7924680" cy="5029200"/>
          </a:xfrm>
          <a:prstGeom prst="rect">
            <a:avLst/>
          </a:prstGeom>
          <a:noFill/>
          <a:ln w="0">
            <a:noFill/>
          </a:ln>
        </p:spPr>
        <p:txBody>
          <a:bodyPr lIns="90000" rIns="90000" tIns="46800" bIns="46800" anchor="t">
            <a:normAutofit/>
          </a:bodyPr>
          <a:p>
            <a:pPr marL="343080" indent="-343080">
              <a:lnSpc>
                <a:spcPct val="170000"/>
              </a:lnSpc>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6600"/>
                </a:solidFill>
                <a:latin typeface="Arial"/>
              </a:rPr>
              <a:t>Enregistrement de l’activité des lots</a:t>
            </a:r>
            <a:endParaRPr b="0" lang="en-US" sz="3200" spc="-1" strike="noStrike">
              <a:solidFill>
                <a:srgbClr val="ff6600"/>
              </a:solidFill>
              <a:latin typeface="Arial"/>
            </a:endParaRPr>
          </a:p>
          <a:p>
            <a:pPr lvl="1" marL="743040" indent="-285840">
              <a:lnSpc>
                <a:spcPct val="170000"/>
              </a:lnSpc>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00"/>
                </a:solidFill>
                <a:latin typeface="Arial"/>
              </a:rPr>
              <a:t>Unités et connexions</a:t>
            </a:r>
            <a:endParaRPr b="0" lang="en-US" sz="2800" spc="-1" strike="noStrike">
              <a:solidFill>
                <a:srgbClr val="ff6600"/>
              </a:solidFill>
              <a:latin typeface="Arial"/>
            </a:endParaRPr>
          </a:p>
          <a:p>
            <a:pPr lvl="1" marL="743040" indent="-285840">
              <a:lnSpc>
                <a:spcPct val="170000"/>
              </a:lnSpc>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00"/>
                </a:solidFill>
                <a:latin typeface="Arial"/>
              </a:rPr>
              <a:t>Phases</a:t>
            </a:r>
            <a:endParaRPr b="0" lang="en-US" sz="2800" spc="-1" strike="noStrike">
              <a:solidFill>
                <a:srgbClr val="ff6600"/>
              </a:solidFill>
              <a:latin typeface="Arial"/>
            </a:endParaRPr>
          </a:p>
          <a:p>
            <a:pPr lvl="1" marL="743040" indent="-285840">
              <a:lnSpc>
                <a:spcPct val="170000"/>
              </a:lnSpc>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00"/>
                </a:solidFill>
                <a:latin typeface="Arial"/>
              </a:rPr>
              <a:t>Matières</a:t>
            </a:r>
            <a:endParaRPr b="0" lang="en-US" sz="2800" spc="-1" strike="noStrike">
              <a:solidFill>
                <a:srgbClr val="ff6600"/>
              </a:solidFill>
              <a:latin typeface="Arial"/>
            </a:endParaRPr>
          </a:p>
          <a:p>
            <a:pPr lvl="1" marL="743040" indent="-285840">
              <a:lnSpc>
                <a:spcPct val="170000"/>
              </a:lnSpc>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00"/>
                </a:solidFill>
                <a:latin typeface="Arial"/>
              </a:rPr>
              <a:t>Actions opérateurs</a:t>
            </a:r>
            <a:endParaRPr b="0" lang="en-US" sz="2800" spc="-1" strike="noStrike">
              <a:solidFill>
                <a:srgbClr val="ff6600"/>
              </a:solidFill>
              <a:latin typeface="Arial"/>
            </a:endParaRPr>
          </a:p>
        </p:txBody>
      </p:sp>
      <p:sp>
        <p:nvSpPr>
          <p:cNvPr id="159" name=""/>
          <p:cNvSpPr/>
          <p:nvPr/>
        </p:nvSpPr>
        <p:spPr>
          <a:xfrm>
            <a:off x="6095880" y="3886200"/>
            <a:ext cx="1828800" cy="1752480"/>
          </a:xfrm>
          <a:prstGeom prst="can">
            <a:avLst>
              <a:gd name="adj" fmla="val 25000"/>
            </a:avLst>
          </a:prstGeom>
          <a:gradFill rotWithShape="0">
            <a:gsLst>
              <a:gs pos="0">
                <a:srgbClr val="752b4b"/>
              </a:gs>
              <a:gs pos="50000">
                <a:srgbClr val="ff5fa4"/>
              </a:gs>
              <a:gs pos="100000">
                <a:srgbClr val="752b4b"/>
              </a:gs>
            </a:gsLst>
            <a:lin ang="10800000"/>
          </a:gradFill>
          <a:ln w="25560">
            <a:solidFill>
              <a:srgbClr val="000000"/>
            </a:solidFill>
            <a:miter/>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Bd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SQL</a:t>
            </a:r>
            <a:endParaRPr b="0" lang="en-US" sz="2400" spc="-1" strike="noStrike">
              <a:solidFill>
                <a:srgbClr val="000000"/>
              </a:solidFill>
              <a:latin typeface="Times New Roman"/>
            </a:endParaRPr>
          </a:p>
        </p:txBody>
      </p:sp>
      <p:sp>
        <p:nvSpPr>
          <p:cNvPr id="160" name=""/>
          <p:cNvSpPr/>
          <p:nvPr/>
        </p:nvSpPr>
        <p:spPr>
          <a:xfrm>
            <a:off x="4648320" y="3543480"/>
            <a:ext cx="1676160" cy="1790640"/>
          </a:xfrm>
          <a:custGeom>
            <a:avLst/>
            <a:gdLst/>
            <a:ahLst/>
            <a:rect l="l" t="t" r="r" b="b"/>
            <a:pathLst>
              <a:path w="1056" h="1128">
                <a:moveTo>
                  <a:pt x="0" y="1128"/>
                </a:moveTo>
                <a:cubicBezTo>
                  <a:pt x="68" y="1116"/>
                  <a:pt x="136" y="1104"/>
                  <a:pt x="192" y="1032"/>
                </a:cubicBezTo>
                <a:cubicBezTo>
                  <a:pt x="248" y="960"/>
                  <a:pt x="288" y="832"/>
                  <a:pt x="336" y="696"/>
                </a:cubicBezTo>
                <a:cubicBezTo>
                  <a:pt x="384" y="560"/>
                  <a:pt x="424" y="328"/>
                  <a:pt x="480" y="216"/>
                </a:cubicBezTo>
                <a:cubicBezTo>
                  <a:pt x="536" y="104"/>
                  <a:pt x="608" y="48"/>
                  <a:pt x="672" y="24"/>
                </a:cubicBezTo>
                <a:cubicBezTo>
                  <a:pt x="736" y="0"/>
                  <a:pt x="800" y="24"/>
                  <a:pt x="864" y="72"/>
                </a:cubicBezTo>
                <a:cubicBezTo>
                  <a:pt x="928" y="120"/>
                  <a:pt x="992" y="216"/>
                  <a:pt x="1056" y="312"/>
                </a:cubicBezTo>
              </a:path>
            </a:pathLst>
          </a:custGeom>
          <a:noFill/>
          <a:ln w="88920">
            <a:solidFill>
              <a:srgbClr val="ccccff"/>
            </a:solidFill>
            <a:round/>
            <a:tailEnd len="lg"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895480" y="3352680"/>
            <a:ext cx="3886200" cy="1143000"/>
          </a:xfrm>
          <a:custGeom>
            <a:avLst/>
            <a:gdLst/>
            <a:ahLst/>
            <a:rect l="l" t="t" r="r" b="b"/>
            <a:pathLst>
              <a:path w="2448" h="720">
                <a:moveTo>
                  <a:pt x="0" y="720"/>
                </a:moveTo>
                <a:cubicBezTo>
                  <a:pt x="204" y="712"/>
                  <a:pt x="408" y="704"/>
                  <a:pt x="576" y="672"/>
                </a:cubicBezTo>
                <a:cubicBezTo>
                  <a:pt x="744" y="640"/>
                  <a:pt x="856" y="624"/>
                  <a:pt x="1008" y="528"/>
                </a:cubicBezTo>
                <a:cubicBezTo>
                  <a:pt x="1160" y="432"/>
                  <a:pt x="1352" y="184"/>
                  <a:pt x="1488" y="96"/>
                </a:cubicBezTo>
                <a:cubicBezTo>
                  <a:pt x="1624" y="8"/>
                  <a:pt x="1712" y="0"/>
                  <a:pt x="1824" y="0"/>
                </a:cubicBezTo>
                <a:cubicBezTo>
                  <a:pt x="1936" y="0"/>
                  <a:pt x="2064" y="48"/>
                  <a:pt x="2160" y="96"/>
                </a:cubicBezTo>
                <a:cubicBezTo>
                  <a:pt x="2256" y="144"/>
                  <a:pt x="2352" y="232"/>
                  <a:pt x="2400" y="288"/>
                </a:cubicBezTo>
                <a:cubicBezTo>
                  <a:pt x="2448" y="344"/>
                  <a:pt x="2448" y="388"/>
                  <a:pt x="2448" y="432"/>
                </a:cubicBezTo>
              </a:path>
            </a:pathLst>
          </a:custGeom>
          <a:noFill/>
          <a:ln w="88920">
            <a:solidFill>
              <a:srgbClr val="ccccff"/>
            </a:solidFill>
            <a:round/>
            <a:tailEnd len="lg"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590920" y="3035160"/>
            <a:ext cx="4647960" cy="1003320"/>
          </a:xfrm>
          <a:custGeom>
            <a:avLst/>
            <a:gdLst/>
            <a:ahLst/>
            <a:rect l="l" t="t" r="r" b="b"/>
            <a:pathLst>
              <a:path w="2928" h="632">
                <a:moveTo>
                  <a:pt x="0" y="440"/>
                </a:moveTo>
                <a:cubicBezTo>
                  <a:pt x="276" y="468"/>
                  <a:pt x="552" y="496"/>
                  <a:pt x="816" y="440"/>
                </a:cubicBezTo>
                <a:cubicBezTo>
                  <a:pt x="1080" y="384"/>
                  <a:pt x="1344" y="176"/>
                  <a:pt x="1584" y="104"/>
                </a:cubicBezTo>
                <a:cubicBezTo>
                  <a:pt x="1824" y="32"/>
                  <a:pt x="2072" y="0"/>
                  <a:pt x="2256" y="8"/>
                </a:cubicBezTo>
                <a:cubicBezTo>
                  <a:pt x="2440" y="16"/>
                  <a:pt x="2584" y="96"/>
                  <a:pt x="2688" y="152"/>
                </a:cubicBezTo>
                <a:cubicBezTo>
                  <a:pt x="2792" y="208"/>
                  <a:pt x="2840" y="264"/>
                  <a:pt x="2880" y="344"/>
                </a:cubicBezTo>
                <a:cubicBezTo>
                  <a:pt x="2920" y="424"/>
                  <a:pt x="2924" y="528"/>
                  <a:pt x="2928" y="632"/>
                </a:cubicBezTo>
              </a:path>
            </a:pathLst>
          </a:custGeom>
          <a:noFill/>
          <a:ln w="88920">
            <a:solidFill>
              <a:srgbClr val="ccccff"/>
            </a:solidFill>
            <a:round/>
            <a:tailEnd len="lg"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952880" y="2730600"/>
            <a:ext cx="2692440" cy="1307880"/>
          </a:xfrm>
          <a:custGeom>
            <a:avLst/>
            <a:gdLst/>
            <a:ahLst/>
            <a:rect l="l" t="t" r="r" b="b"/>
            <a:pathLst>
              <a:path w="1696" h="824">
                <a:moveTo>
                  <a:pt x="0" y="104"/>
                </a:moveTo>
                <a:cubicBezTo>
                  <a:pt x="164" y="60"/>
                  <a:pt x="328" y="16"/>
                  <a:pt x="528" y="8"/>
                </a:cubicBezTo>
                <a:cubicBezTo>
                  <a:pt x="728" y="0"/>
                  <a:pt x="1024" y="8"/>
                  <a:pt x="1200" y="56"/>
                </a:cubicBezTo>
                <a:cubicBezTo>
                  <a:pt x="1376" y="104"/>
                  <a:pt x="1504" y="192"/>
                  <a:pt x="1584" y="296"/>
                </a:cubicBezTo>
                <a:cubicBezTo>
                  <a:pt x="1664" y="400"/>
                  <a:pt x="1664" y="592"/>
                  <a:pt x="1680" y="680"/>
                </a:cubicBezTo>
                <a:cubicBezTo>
                  <a:pt x="1696" y="768"/>
                  <a:pt x="1688" y="796"/>
                  <a:pt x="1680" y="824"/>
                </a:cubicBezTo>
              </a:path>
            </a:pathLst>
          </a:custGeom>
          <a:noFill/>
          <a:ln w="88920">
            <a:solidFill>
              <a:srgbClr val="ccccff"/>
            </a:solidFill>
            <a:round/>
            <a:tailEnd len="lg"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16E130-8149-4366-B2A4-1141501F24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ff9"/>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7200" y="762120"/>
            <a:ext cx="8305920" cy="4876560"/>
          </a:xfrm>
          <a:prstGeom prst="rect">
            <a:avLst/>
          </a:prstGeom>
          <a:noFill/>
          <a:ln w="0">
            <a:noFill/>
          </a:ln>
        </p:spPr>
        <p:txBody>
          <a:bodyPr lIns="90000" rIns="90000" tIns="46800" bIns="46800" anchor="t">
            <a:normAutofit fontScale="95000"/>
          </a:bodyPr>
          <a:p>
            <a:pPr marL="325800" indent="-325800">
              <a:lnSpc>
                <a:spcPct val="270000"/>
              </a:lnSpc>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6600"/>
                </a:solidFill>
                <a:latin typeface="Arial"/>
              </a:rPr>
              <a:t>Enregistrement de l’activité de l’atelier</a:t>
            </a:r>
            <a:endParaRPr b="0" lang="en-US" sz="3200" spc="-1" strike="noStrike">
              <a:solidFill>
                <a:srgbClr val="ff6600"/>
              </a:solidFill>
              <a:latin typeface="Arial"/>
            </a:endParaRPr>
          </a:p>
          <a:p>
            <a:pPr lvl="1" marL="705600" indent="-271440">
              <a:lnSpc>
                <a:spcPct val="270000"/>
              </a:lnSpc>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00"/>
                </a:solidFill>
                <a:latin typeface="Arial"/>
              </a:rPr>
              <a:t>Variables process</a:t>
            </a:r>
            <a:endParaRPr b="0" lang="en-US" sz="2800" spc="-1" strike="noStrike">
              <a:solidFill>
                <a:srgbClr val="ff6600"/>
              </a:solidFill>
              <a:latin typeface="Arial"/>
            </a:endParaRPr>
          </a:p>
          <a:p>
            <a:pPr lvl="1" marL="705600" indent="-271440">
              <a:lnSpc>
                <a:spcPct val="270000"/>
              </a:lnSpc>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00"/>
                </a:solidFill>
                <a:latin typeface="Arial"/>
              </a:rPr>
              <a:t>Événements</a:t>
            </a:r>
            <a:endParaRPr b="0" lang="en-US" sz="2800" spc="-1" strike="noStrike">
              <a:solidFill>
                <a:srgbClr val="ff6600"/>
              </a:solidFill>
              <a:latin typeface="Arial"/>
            </a:endParaRPr>
          </a:p>
          <a:p>
            <a:pPr lvl="1" marL="705600" indent="-271440">
              <a:lnSpc>
                <a:spcPct val="270000"/>
              </a:lnSpc>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00"/>
                </a:solidFill>
                <a:latin typeface="Arial"/>
              </a:rPr>
              <a:t>Alarmes</a:t>
            </a:r>
            <a:endParaRPr b="0" lang="en-US" sz="2800" spc="-1" strike="noStrike">
              <a:solidFill>
                <a:srgbClr val="ff6600"/>
              </a:solidFill>
              <a:latin typeface="Arial"/>
            </a:endParaRPr>
          </a:p>
        </p:txBody>
      </p:sp>
      <p:sp>
        <p:nvSpPr>
          <p:cNvPr id="165" name=""/>
          <p:cNvSpPr/>
          <p:nvPr/>
        </p:nvSpPr>
        <p:spPr>
          <a:xfrm>
            <a:off x="6095880" y="3886200"/>
            <a:ext cx="1828800" cy="1752480"/>
          </a:xfrm>
          <a:prstGeom prst="can">
            <a:avLst>
              <a:gd name="adj" fmla="val 25000"/>
            </a:avLst>
          </a:prstGeom>
          <a:gradFill rotWithShape="0">
            <a:gsLst>
              <a:gs pos="0">
                <a:srgbClr val="752b4b"/>
              </a:gs>
              <a:gs pos="50000">
                <a:srgbClr val="ff5fa4"/>
              </a:gs>
              <a:gs pos="100000">
                <a:srgbClr val="752b4b"/>
              </a:gs>
            </a:gsLst>
            <a:lin ang="10800000"/>
          </a:gradFill>
          <a:ln w="25560">
            <a:solidFill>
              <a:srgbClr val="000000"/>
            </a:solidFill>
            <a:miter/>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BdD SQL</a:t>
            </a:r>
            <a:endParaRPr b="0" lang="en-US" sz="2400" spc="-1" strike="noStrike">
              <a:solidFill>
                <a:srgbClr val="000000"/>
              </a:solidFill>
              <a:latin typeface="Times New Roman"/>
            </a:endParaRPr>
          </a:p>
        </p:txBody>
      </p:sp>
      <p:sp>
        <p:nvSpPr>
          <p:cNvPr id="166" name="PlaceHolder 2"/>
          <p:cNvSpPr>
            <a:spLocks noGrp="1"/>
          </p:cNvSpPr>
          <p:nvPr>
            <p:ph type="title"/>
          </p:nvPr>
        </p:nvSpPr>
        <p:spPr>
          <a:xfrm>
            <a:off x="762120" y="304560"/>
            <a:ext cx="624816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c00"/>
                </a:solidFill>
                <a:latin typeface="Arial"/>
              </a:rPr>
              <a:t>Base de données relationnelle</a:t>
            </a:r>
            <a:endParaRPr b="1" lang="en-US" sz="2800" spc="-1" strike="noStrike">
              <a:solidFill>
                <a:srgbClr val="ffcc00"/>
              </a:solidFill>
              <a:latin typeface="Arial"/>
            </a:endParaRPr>
          </a:p>
        </p:txBody>
      </p:sp>
      <p:sp>
        <p:nvSpPr>
          <p:cNvPr id="167" name=""/>
          <p:cNvSpPr/>
          <p:nvPr/>
        </p:nvSpPr>
        <p:spPr>
          <a:xfrm>
            <a:off x="4611600" y="2494080"/>
            <a:ext cx="2703600" cy="1544400"/>
          </a:xfrm>
          <a:custGeom>
            <a:avLst/>
            <a:gdLst/>
            <a:ahLst/>
            <a:rect l="l" t="t" r="r" b="b"/>
            <a:pathLst>
              <a:path w="607" h="944">
                <a:moveTo>
                  <a:pt x="0" y="0"/>
                </a:moveTo>
                <a:cubicBezTo>
                  <a:pt x="39" y="5"/>
                  <a:pt x="159" y="3"/>
                  <a:pt x="233" y="33"/>
                </a:cubicBezTo>
                <a:cubicBezTo>
                  <a:pt x="307" y="63"/>
                  <a:pt x="389" y="110"/>
                  <a:pt x="444" y="178"/>
                </a:cubicBezTo>
                <a:cubicBezTo>
                  <a:pt x="499" y="246"/>
                  <a:pt x="539" y="316"/>
                  <a:pt x="566" y="444"/>
                </a:cubicBezTo>
                <a:cubicBezTo>
                  <a:pt x="593" y="572"/>
                  <a:pt x="599" y="840"/>
                  <a:pt x="607" y="944"/>
                </a:cubicBezTo>
              </a:path>
            </a:pathLst>
          </a:custGeom>
          <a:noFill/>
          <a:ln w="7632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492360" y="3168720"/>
            <a:ext cx="3422880" cy="1028520"/>
          </a:xfrm>
          <a:custGeom>
            <a:avLst/>
            <a:gdLst/>
            <a:ahLst/>
            <a:rect l="l" t="t" r="r" b="b"/>
            <a:pathLst>
              <a:path w="2156" h="648">
                <a:moveTo>
                  <a:pt x="0" y="648"/>
                </a:moveTo>
                <a:cubicBezTo>
                  <a:pt x="93" y="628"/>
                  <a:pt x="410" y="596"/>
                  <a:pt x="556" y="526"/>
                </a:cubicBezTo>
                <a:cubicBezTo>
                  <a:pt x="702" y="456"/>
                  <a:pt x="769" y="304"/>
                  <a:pt x="878" y="226"/>
                </a:cubicBezTo>
                <a:cubicBezTo>
                  <a:pt x="987" y="148"/>
                  <a:pt x="1097" y="96"/>
                  <a:pt x="1212" y="59"/>
                </a:cubicBezTo>
                <a:cubicBezTo>
                  <a:pt x="1327" y="22"/>
                  <a:pt x="1454" y="0"/>
                  <a:pt x="1567" y="4"/>
                </a:cubicBezTo>
                <a:cubicBezTo>
                  <a:pt x="1680" y="8"/>
                  <a:pt x="1808" y="40"/>
                  <a:pt x="1889" y="82"/>
                </a:cubicBezTo>
                <a:cubicBezTo>
                  <a:pt x="1970" y="124"/>
                  <a:pt x="2012" y="186"/>
                  <a:pt x="2056" y="259"/>
                </a:cubicBezTo>
                <a:cubicBezTo>
                  <a:pt x="2100" y="332"/>
                  <a:pt x="2135" y="466"/>
                  <a:pt x="2156" y="521"/>
                </a:cubicBezTo>
              </a:path>
            </a:pathLst>
          </a:custGeom>
          <a:noFill/>
          <a:ln w="7632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822400" y="3495600"/>
            <a:ext cx="3578400" cy="1936800"/>
          </a:xfrm>
          <a:custGeom>
            <a:avLst/>
            <a:gdLst/>
            <a:ahLst/>
            <a:rect l="l" t="t" r="r" b="b"/>
            <a:pathLst>
              <a:path w="2254" h="1220">
                <a:moveTo>
                  <a:pt x="0" y="1220"/>
                </a:moveTo>
                <a:cubicBezTo>
                  <a:pt x="133" y="1207"/>
                  <a:pt x="587" y="1214"/>
                  <a:pt x="800" y="1142"/>
                </a:cubicBezTo>
                <a:cubicBezTo>
                  <a:pt x="1013" y="1070"/>
                  <a:pt x="1150" y="941"/>
                  <a:pt x="1278" y="787"/>
                </a:cubicBezTo>
                <a:cubicBezTo>
                  <a:pt x="1406" y="633"/>
                  <a:pt x="1473" y="348"/>
                  <a:pt x="1567" y="220"/>
                </a:cubicBezTo>
                <a:cubicBezTo>
                  <a:pt x="1661" y="92"/>
                  <a:pt x="1755" y="40"/>
                  <a:pt x="1845" y="20"/>
                </a:cubicBezTo>
                <a:cubicBezTo>
                  <a:pt x="1935" y="0"/>
                  <a:pt x="2042" y="48"/>
                  <a:pt x="2110" y="102"/>
                </a:cubicBezTo>
                <a:cubicBezTo>
                  <a:pt x="2178" y="156"/>
                  <a:pt x="2218" y="246"/>
                  <a:pt x="2254" y="342"/>
                </a:cubicBezTo>
              </a:path>
            </a:pathLst>
          </a:custGeom>
          <a:noFill/>
          <a:ln w="7632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40FF29C-F972-48AC-92CB-0C74056BC3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4T19:22:07Z</dcterms:created>
  <dc:creator>Gregory A. Noll</dc:creator>
  <dc:description/>
  <dc:language>en-US</dc:language>
  <cp:lastModifiedBy>FMercier</cp:lastModifiedBy>
  <cp:lastPrinted>2000-01-12T12:24:57Z</cp:lastPrinted>
  <dcterms:modified xsi:type="dcterms:W3CDTF">2000-01-14T18:06:36Z</dcterms:modified>
  <cp:revision>33</cp:revision>
  <dc:subject/>
  <dc:title>No Slide Title</dc:title>
</cp:coreProperties>
</file>