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689D-64D2-4B45-AF8B-697B2D4F76F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-Correct :  Il reflète exactement le besoin de l’utilisate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-Non ambigu :non sujet à différentes interprétati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- Complet : aucune incertitude ne subsiste (notamment vis à vis des situations de déviation, habituellement génératrice d’environ 80% du volume de code et d’autant de celui de valid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- Conséquent  : Il ne doit comporter ni contradiction interne ni avec d’autres documents de spécification de l’application non identifiés a priori comme afférents au contrôle automatiq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- Priorisé : par exemple sur un échelle allant d’indispensable à souhaitabl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- Vérifiable : il doit être possible de démontrer que le résultat obtenu est conforme aux spécification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- Modifiable : ceci suppose une structuration du document rendant sa modification simple, en particulier bien localisée dans le corps du docum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- Traçable : toute modification du document donnant lieu à une nouvelle version doit également permettre un suivi aisé des documents générés en av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La nature de l'approche adoptée pour concevoir, analyser, développer et, parallèlement, valider une application de type batch n'est pas indifférente.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exigences Qualité doivent apparaître clairement tout au long du processus de fabrication: c ’est une difficulté pour les responsables de la mise au point du procédé de traduire des exigences finales en terme d ’exigences intermédiai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Il est encore temps de revoir sa copie au moment où l ’on mène l ’analyse de risq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Si on oublie de réceptionner l ’installation on s ’expose au risque suiv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exécute les te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prononce la qua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 ’utilisateur refuse une partie de l ’installation lors de la mise en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doit exécuter à nouveau les tests portant sur la partie modifiée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s de mise en service sans qualification dûment prononcée sous peine de difficultés sérieuses lors d ’un aud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émarche ascendant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 risques sont le plus souvent hiérarchisés depuis le capteur de détection du dépassement du seuil vers les niveaux supérie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te occurrence du risque prise en compte par un équipement contenant le capteur entraînera à son tour la détection par la fo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émarche descenda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rise en compte des risque de nature qualité (ne pas chauffer pendant plus de 20 minutes à 90°C) se traduit par une prescription descendante dans une fonction et parfois de là dans un ou plusieurs équip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rètement voici comment nous spécifions nos appl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des éléments de contrôle et de mesure de l ’équip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on du comportement en situation de dévi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is en situation nomi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ter: un équipement fournit plusieurs services à ses fonctions allocataires, Ces services ou comportements doivent être clairement identifiés dès cette étape de la spéc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761760" y="640044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/01/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981080" y="6400440"/>
            <a:ext cx="6477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orum Batch Francophone | Jean-Pierre BOVEE - API ENGINEERING          </a:t>
            </a:r>
            <a:fld id="{5F1FA4F7-FDB6-46FA-B158-D1939DF625D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AVENTI~1" descr=""/>
          <p:cNvPicPr/>
          <p:nvPr/>
        </p:nvPicPr>
        <p:blipFill>
          <a:blip r:embed="rId2"/>
          <a:stretch/>
        </p:blipFill>
        <p:spPr>
          <a:xfrm>
            <a:off x="7315200" y="422280"/>
            <a:ext cx="1066680" cy="58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669960" y="422280"/>
            <a:ext cx="7788240" cy="644400"/>
          </a:xfrm>
          <a:prstGeom prst="rect">
            <a:avLst/>
          </a:prstGeom>
          <a:noFill/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er en suivant le fil... d ’Ast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4479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 ’application devra être VALIDE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1447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s encor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981080"/>
            <a:ext cx="7696080" cy="94716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ablir la preuve documentée de la conformité d ’une application avec ses spé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124080"/>
            <a:ext cx="76201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spécifi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lles sont les qualités d ’une bonne spécific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ne rien oubli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t en restant simple et lisible de tou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 quand bien même on saurait répondre à ces questions, que restera-t-il à faire pour VALIDER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219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énération des documents de tests de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42880" y="1771560"/>
            <a:ext cx="8153280" cy="4494240"/>
            <a:chOff x="542880" y="1771560"/>
            <a:chExt cx="8153280" cy="4494240"/>
          </a:xfrm>
        </p:grpSpPr>
        <p:grpSp>
          <p:nvGrpSpPr>
            <p:cNvPr id="102" name=""/>
            <p:cNvGrpSpPr/>
            <p:nvPr/>
          </p:nvGrpSpPr>
          <p:grpSpPr>
            <a:xfrm>
              <a:off x="542880" y="1771560"/>
              <a:ext cx="8153280" cy="4494240"/>
              <a:chOff x="542880" y="1771560"/>
              <a:chExt cx="8153280" cy="4494240"/>
            </a:xfrm>
          </p:grpSpPr>
          <p:pic>
            <p:nvPicPr>
              <p:cNvPr id="103" name="" descr=""/>
              <p:cNvPicPr/>
              <p:nvPr/>
            </p:nvPicPr>
            <p:blipFill>
              <a:blip r:embed="rId1"/>
              <a:srcRect l="0" t="0" r="36184" b="0"/>
              <a:stretch/>
            </p:blipFill>
            <p:spPr>
              <a:xfrm>
                <a:off x="542880" y="1771560"/>
                <a:ext cx="8153280" cy="449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 flipV="1">
                <a:off x="4352760" y="23814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5876640" y="23814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248240" y="238140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 flipV="1">
              <a:off x="1886040" y="23814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71480" y="2857680"/>
            <a:ext cx="767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ID =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CIF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960" y="1657440"/>
            <a:ext cx="767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TRI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YSIWY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??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1371600"/>
            <a:ext cx="7772400" cy="45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qualités d ’un bon cahier des charges s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 ’IEEE Std 830-1993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n ambig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équent / Cohé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oris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éri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i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ç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48320" y="5105520"/>
            <a:ext cx="304560" cy="609480"/>
          </a:xfrm>
          <a:prstGeom prst="downArrow">
            <a:avLst>
              <a:gd name="adj1" fmla="val 50000"/>
              <a:gd name="adj2" fmla="val 500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885400">
            <a:off x="2741760" y="2289960"/>
            <a:ext cx="2057400" cy="8254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modes opéra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3523800">
            <a:off x="3474720" y="2244960"/>
            <a:ext cx="2057400" cy="4597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recet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10480" y="5715000"/>
            <a:ext cx="3178440" cy="459720"/>
          </a:xfrm>
          <a:prstGeom prst="rect">
            <a:avLst/>
          </a:prstGeom>
          <a:noFill/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ahier des char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885400">
            <a:off x="1126080" y="1924920"/>
            <a:ext cx="2241360" cy="82548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traitement des dév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68400" y="3691800"/>
            <a:ext cx="6955920" cy="1642320"/>
            <a:chOff x="968400" y="3691800"/>
            <a:chExt cx="6955920" cy="1642320"/>
          </a:xfrm>
        </p:grpSpPr>
        <p:grpSp>
          <p:nvGrpSpPr>
            <p:cNvPr id="59" name=""/>
            <p:cNvGrpSpPr/>
            <p:nvPr/>
          </p:nvGrpSpPr>
          <p:grpSpPr>
            <a:xfrm>
              <a:off x="1676520" y="3962520"/>
              <a:ext cx="6247800" cy="1371600"/>
              <a:chOff x="1676520" y="3962520"/>
              <a:chExt cx="6247800" cy="137160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1676520" y="4133520"/>
                <a:ext cx="6247800" cy="120024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676520" y="3962520"/>
                <a:ext cx="6247800" cy="3142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" name=""/>
            <p:cNvCxnSpPr>
              <a:stCxn id="60" idx="1"/>
              <a:endCxn id="60" idx="2"/>
            </p:cNvCxnSpPr>
            <p:nvPr/>
          </p:nvCxnSpPr>
          <p:spPr>
            <a:xfrm rot="10800000">
              <a:off x="1675800" y="4133160"/>
              <a:ext cx="1560960" cy="600840"/>
            </a:xfrm>
            <a:prstGeom prst="curvedConnector5">
              <a:avLst>
                <a:gd name="adj1" fmla="val 145351"/>
                <a:gd name="adj2" fmla="val 86750"/>
                <a:gd name="adj3" fmla="val 145351"/>
              </a:avLst>
            </a:prstGeom>
            <a:ln w="66600">
              <a:solidFill>
                <a:srgbClr val="008080"/>
              </a:solidFill>
              <a:miter/>
            </a:ln>
          </p:spPr>
        </p:cxnSp>
      </p:grpSp>
      <p:sp>
        <p:nvSpPr>
          <p:cNvPr id="63" name=""/>
          <p:cNvSpPr/>
          <p:nvPr/>
        </p:nvSpPr>
        <p:spPr>
          <a:xfrm rot="20356200">
            <a:off x="5947920" y="1751400"/>
            <a:ext cx="2481120" cy="209844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exig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écu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giè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nvironne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Qu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832400">
            <a:off x="1068480" y="3200760"/>
            <a:ext cx="2384640" cy="4597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 ’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3523800">
            <a:off x="4236840" y="2397240"/>
            <a:ext cx="2057400" cy="459720"/>
          </a:xfrm>
          <a:prstGeom prst="rect">
            <a:avLst/>
          </a:prstGeom>
          <a:noFill/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 ’ergon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12193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rocessus de validation et le projet se déroulent de manière concourante avec des étapes verro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oncourance" descr=""/>
          <p:cNvPicPr/>
          <p:nvPr/>
        </p:nvPicPr>
        <p:blipFill>
          <a:blip r:embed="rId1"/>
          <a:srcRect l="9520" t="2692" r="0" b="11039"/>
          <a:stretch/>
        </p:blipFill>
        <p:spPr>
          <a:xfrm>
            <a:off x="4800600" y="1219320"/>
            <a:ext cx="3616200" cy="487656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4191120" y="3124080"/>
            <a:ext cx="38088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296250"/>
              <a:gd name="adj5" fmla="val -41254"/>
              <a:gd name="adj6" fmla="val 36241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572000"/>
            <a:ext cx="38088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85416"/>
              <a:gd name="adj5" fmla="val -55435"/>
              <a:gd name="adj6" fmla="val -10991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5486400"/>
            <a:ext cx="38088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229166"/>
              <a:gd name="adj5" fmla="val 91254"/>
              <a:gd name="adj6" fmla="val 2699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2924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aluer les risq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35352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hever la réception avant l ’exécution des tests de valid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8769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tre en service une fois la qualification prononcé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523880" y="1143000"/>
          <a:ext cx="6096240" cy="35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143000"/>
                    <a:ext cx="6096240" cy="3598920"/>
                  </a:xfrm>
                  <a:prstGeom prst="rect">
                    <a:avLst/>
                  </a:prstGeom>
                  <a:ln w="9360">
                    <a:solidFill>
                      <a:srgbClr val="0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1600200" y="48006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référentiel de représentation unique pou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cripteur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tes automat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1371600"/>
            <a:ext cx="411480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référenciel de spécification unique pour défin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comportement des fonctions et des objets quelles allou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traitement des dévi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prise en compte des risques (Q, H, S, 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Dessin3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4800600" y="1447920"/>
            <a:ext cx="3672000" cy="452412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657600" y="1295280"/>
            <a:ext cx="4764240" cy="4876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57160" y="1839960"/>
            <a:ext cx="2114640" cy="580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40281" y="17960"/>
                </a:moveTo>
                <a:lnTo>
                  <a:pt x="22378" y="4181"/>
                </a:lnTo>
              </a:path>
              <a:path w="21600" h="21600">
                <a:moveTo>
                  <a:pt x="22378" y="0"/>
                </a:moveTo>
                <a:lnTo>
                  <a:pt x="2237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 que demande le  prescript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25909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2895480"/>
            <a:ext cx="2114640" cy="1067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6269" y="6904"/>
                </a:moveTo>
                <a:lnTo>
                  <a:pt x="22378" y="2287"/>
                </a:lnTo>
              </a:path>
              <a:path w="21600" h="21600">
                <a:moveTo>
                  <a:pt x="22378" y="0"/>
                </a:moveTo>
                <a:lnTo>
                  <a:pt x="2237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quels éléments de contrôle et de mesure est composé l ’équip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4673520"/>
            <a:ext cx="2114640" cy="131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685" y="5682"/>
                </a:moveTo>
                <a:lnTo>
                  <a:pt x="22378" y="1865"/>
                </a:lnTo>
              </a:path>
              <a:path w="21600" h="21600">
                <a:moveTo>
                  <a:pt x="22378" y="0"/>
                </a:moveTo>
                <a:lnTo>
                  <a:pt x="22378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s quel état on trouve et on remet un équipement selon recettes ou fonctions allocat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29000" y="40384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76920" y="2057400"/>
            <a:ext cx="152280" cy="533520"/>
          </a:xfrm>
          <a:custGeom>
            <a:avLst/>
            <a:gdLst>
              <a:gd name="textAreaLeft" fmla="*/ 97200 w 152280"/>
              <a:gd name="textAreaRight" fmla="*/ 15264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2514600"/>
            <a:ext cx="5969160" cy="2273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2700360"/>
            <a:ext cx="1733400" cy="94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029" y="17181"/>
                </a:moveTo>
                <a:lnTo>
                  <a:pt x="22549" y="2592"/>
                </a:lnTo>
              </a:path>
              <a:path w="21600" h="21600">
                <a:moveTo>
                  <a:pt x="22549" y="0"/>
                </a:moveTo>
                <a:lnTo>
                  <a:pt x="22549" y="21600"/>
                </a:lnTo>
              </a:path>
            </a:pathLst>
          </a:cu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éférencer la prise en compte des risques dès l ’étape de spé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4724280"/>
            <a:ext cx="2114280" cy="94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7121" y="-25132"/>
                </a:moveTo>
                <a:lnTo>
                  <a:pt x="-778" y="2592"/>
                </a:lnTo>
              </a:path>
              <a:path w="21600" h="21600">
                <a:moveTo>
                  <a:pt x="-778" y="0"/>
                </a:moveTo>
                <a:lnTo>
                  <a:pt x="-778" y="21600"/>
                </a:lnTo>
              </a:path>
            </a:pathLst>
          </a:cu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si que la présence d ’un test à exécuter pour qualifier l ’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63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notion de risques intégrée dès les spécifications fonctionne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1480" y="563868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1: risque de débordement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ebdings"/>
                <a:ea typeface="Web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5638680" cy="360036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762120" y="2895480"/>
            <a:ext cx="7315200" cy="1251000"/>
            <a:chOff x="762120" y="2895480"/>
            <a:chExt cx="7315200" cy="1251000"/>
          </a:xfrm>
        </p:grpSpPr>
        <p:sp>
          <p:nvSpPr>
            <p:cNvPr id="93" name=""/>
            <p:cNvSpPr/>
            <p:nvPr/>
          </p:nvSpPr>
          <p:spPr>
            <a:xfrm>
              <a:off x="762120" y="3200040"/>
              <a:ext cx="1733400" cy="946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56965" y="-99"/>
                  </a:moveTo>
                  <a:lnTo>
                    <a:pt x="22549" y="2592"/>
                  </a:lnTo>
                </a:path>
                <a:path w="21600" h="21600">
                  <a:moveTo>
                    <a:pt x="22549" y="0"/>
                  </a:moveTo>
                  <a:lnTo>
                    <a:pt x="22549" y="2160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t poursuivre dans la description du comportement nominal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34120" y="2895480"/>
              <a:ext cx="114300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6400" y="3276360"/>
              <a:ext cx="114300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34320" y="3581280"/>
              <a:ext cx="1143000" cy="380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590920" y="3581280"/>
              <a:ext cx="28954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590920" y="3885840"/>
              <a:ext cx="43434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685800" y="1066680"/>
            <a:ext cx="419112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1: risque de débordement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ebdings"/>
                <a:ea typeface="Webdings"/>
              </a:rPr>
              <a:t>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2: risque produit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Webdings"/>
                <a:ea typeface="Webdings"/>
              </a:rPr>
              <a:t>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3: risque équipement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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Webdings"/>
                <a:ea typeface="Webdings"/>
              </a:rPr>
              <a:t>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5:22:17Z</dcterms:created>
  <dc:creator>Jean-Pierre BOVEE</dc:creator>
  <dc:description/>
  <dc:language>en-US</dc:language>
  <cp:lastModifiedBy>Jean Vieille</cp:lastModifiedBy>
  <dcterms:modified xsi:type="dcterms:W3CDTF">2000-01-17T12:26:18Z</dcterms:modified>
  <cp:revision>13</cp:revision>
  <dc:subject/>
  <dc:title>Aucun titre de diapositive</dc:title>
</cp:coreProperties>
</file>