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6FE14-9B10-4D49-9C53-EC4DB3C4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520" y="3769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654-E9BB-43ED-8851-DAB1CB35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08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8EB-25BF-438F-BA88-694E42E0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448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5800" y="114300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52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448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5800" y="3769920"/>
            <a:ext cx="26006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335-29F6-4E77-945C-9ACA1011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9195-7179-48E7-916B-1B094212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12C7D-4A11-4A8F-AE3F-2D4D658D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13EF-76E3-4EF7-AD1E-A3FA23A9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7873-44FF-4C40-9B15-74617DBE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24FB-46D5-4CE3-B84A-D30779E28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A049-24A1-4C8D-ABAB-C846577EC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080" y="376992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4513-9D16-46B7-86AA-C39D7F94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080" y="1143000"/>
            <a:ext cx="39412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520" y="3769920"/>
            <a:ext cx="80769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642D-7793-4A68-8018-7F2F164C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an Viei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ing FBF du 13 septembre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 </a:t>
            </a:r>
            <a:fld id="{521F9C75-CF16-409A-8E4A-40357B9D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0666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324480"/>
            <a:ext cx="8229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FBF_Logo" descr=""/>
          <p:cNvPicPr/>
          <p:nvPr/>
        </p:nvPicPr>
        <p:blipFill>
          <a:blip r:embed="rId2"/>
          <a:stretch/>
        </p:blipFill>
        <p:spPr>
          <a:xfrm>
            <a:off x="30240" y="355680"/>
            <a:ext cx="1036440" cy="558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 Upd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éunion FBF du 13/09/99 à P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7F95-6E9A-4F97-ACF8-6C841F679B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2 : Le langage PF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509840" y="60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3520" y="1231920"/>
            <a:ext cx="8076960" cy="494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9946-1AFB-4142-AC64-E4B1C86427A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Problè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SA Copy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SA exige un droit d’utilisation de la norme, en particulier pour les symb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s droits devraient être versés par les éditeurs qui vendent des solutions (pas par les utilisateu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tte attitude et vivement contestée par le comité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séquence : la norme ISA n’est pas acceptée pour publication (vote négatif par quasi-unanimité des memb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conséquences pour la norme IEC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DE5-8927-4AA6-A032-8FAA2F40D2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Internationalis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omité IEC SC65A WG11 est chargé de l’internationalisation de la nor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NSI / ISA S88.02 (América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-&gt; IEC 61512-2 (Internationa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chaine réunion 23 september (avec SP8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e participation française (organisme habilité : U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ppel aux sponso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695F-5E12-4753-A97C-E6760D3FEE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P88 Memb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Environ 30 membres actifs / 100+, 10 personnes / mee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Membres votan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9880" y="2120760"/>
            <a:ext cx="46483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BB Industrial System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mation Research Corp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utomation Vis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I Autom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.I. Dupo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astman Chemica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Elsag Bail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isher-Rosemount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oxbor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SE System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neywel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llu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88480" y="2120760"/>
            <a:ext cx="442944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ubrizol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er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oore Product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vo Nordisk Engineer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harmacia &amp; Upjoh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ohm &amp; Ha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quenci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iemen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erling Diagnostic Imagi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Valmet Automatio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nderware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Yokogawa Industrial Auto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20D4-74FE-45AD-821D-89DEBCFC6B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Etat de la nor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88.0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s de projet immédiat de mise à j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88.02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 14 revu lors du dernier meeting 13-14/07 (46 commentai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D (Committee Draft) publié à l’IEC. Commentaires par le Canada et la Polog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raft 15 après prochain meeting commun ISA/I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DV (Committee Draft for Vote) IEC avant la fin de l’ann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7A0A-9A10-4571-98AD-B5C9A85A7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suit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88.03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avec l’équipement ? (opportunités ASTRI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General et Site Recip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chnical Report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erface XML, EXPRESS STEP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P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OLE for Process Control : un Name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95.01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mpatibilité entre les modèles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1D85-CDFC-4D4F-9B5B-D5F53F7130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norme S88.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modèle de donné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imité aux besoins de l’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e spécification d’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bles SQL standardis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as de protocole impos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dèle pour d’autre types d’é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langage procédural pour la description des rec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 panaché SFC / Gan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ransitions implicites, allocation d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E017-5928-4BD3-928D-CC28E1256AB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2 : Modèle de donné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076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-380880" y="1219320"/>
          <a:ext cx="952488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219320"/>
                    <a:ext cx="952488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99B2-E0DF-4621-AD90-313EFF28E63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1143000"/>
          <a:ext cx="815328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143000"/>
                    <a:ext cx="81532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2 : les blocs fonctionne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720-9845-492A-B00D-F652D042D42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2 :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38440" y="18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95440" y="1523880"/>
            <a:ext cx="8015040" cy="44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A189-34FD-4B14-BE5E-342EB047B4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80880" y="1066680"/>
            <a:ext cx="8153640" cy="51991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S88.02 : Relations entre t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04880" y="122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BBAC-8CB1-4FDE-A56B-4908AB73233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24T19:22:07Z</dcterms:created>
  <dc:creator>Gregory A. Noll</dc:creator>
  <dc:description/>
  <dc:language>en-US</dc:language>
  <cp:lastModifiedBy>Jean Vieille</cp:lastModifiedBy>
  <dcterms:modified xsi:type="dcterms:W3CDTF">1999-09-22T12:48:31Z</dcterms:modified>
  <cp:revision>16</cp:revision>
  <dc:subject/>
  <dc:title>S88 UpDate - Réunion FBF du 13 septembre 1999</dc:title>
</cp:coreProperties>
</file>