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wmf" ContentType="image/x-wmf"/>
  <Override PartName="/ppt/media/image6.jpeg" ContentType="image/jpeg"/>
  <Override PartName="/ppt/media/image8.png" ContentType="image/png"/>
  <Override PartName="/ppt/media/image1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E95-9531-4A32-AFB5-64C15CA7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21A-2512-4C31-8E9D-ED000D12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A4A-45B7-4E8B-90F1-AA08426B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607-6D88-48EB-B46C-E4EF9B52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A3D-413A-42F2-A0FB-0C614D0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9EA-8118-4861-A8F1-8226D982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FE6-1C0C-4EF7-8F0D-245FA29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125-5A1A-4173-9614-D1AF420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522-3464-4EBB-B9C5-9F074CF6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BD4-8378-47DD-AF5D-E6FE02E0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89A-F0C1-4CA6-91D7-DD2BA4A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77E-A4CF-49D6-A506-AC16B2CA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férence SEE – Amiens – 25 Nov.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C2CD-2778-4AF3-A502-193FDD208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1600200" cy="9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00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norme S88.02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 langage pour le contrôle des procédés B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9718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an Vieille, Consul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E – Conférence « Nouvelles percées dans les langages pour l’Automatique » - 25/11/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raduction et mise à jour de la présentation de Dave Emerson à la conférence WBF de San Diego en Avril 19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vec l’autorisation du World Batch For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épartir les fonctions entre Equipement et Recet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057400"/>
            <a:ext cx="1371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céd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3886200"/>
            <a:ext cx="1371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Opé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2971800"/>
            <a:ext cx="1371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céd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Unit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4800600"/>
            <a:ext cx="1371600" cy="609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057400"/>
            <a:ext cx="13716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Reci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céd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800600"/>
            <a:ext cx="13716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22560" y="274320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(Doit toujours exi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22560" y="152388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Recette de Contrô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35053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333400" y="35053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14720" y="152388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trôle des Equip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- Contexte et Objectifs S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2860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- Rappel ANSI-ISA S88.01 /  IEC61512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 - Origine du P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- Le PFC (ANSI-ISA S88.02 / IEC 61512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8006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-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990720" y="457200"/>
            <a:ext cx="7772400" cy="2819520"/>
            <a:chOff x="990720" y="457200"/>
            <a:chExt cx="7772400" cy="2819520"/>
          </a:xfrm>
        </p:grpSpPr>
        <p:sp>
          <p:nvSpPr>
            <p:cNvPr id="216" name=""/>
            <p:cNvSpPr/>
            <p:nvPr/>
          </p:nvSpPr>
          <p:spPr>
            <a:xfrm>
              <a:off x="990720" y="457200"/>
              <a:ext cx="7772400" cy="838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ff0000"/>
                  </a:solidFill>
                  <a:latin typeface="Arial"/>
                </a:rPr>
                <a:t>Pourquoi une Norm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1295640"/>
              <a:ext cx="7772400" cy="1981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88.01 </a:t>
              </a:r>
              <a:r>
                <a:rPr b="0" lang="fr-FR" sz="3200" spc="-1" strike="noStrike">
                  <a:solidFill>
                    <a:srgbClr val="000000"/>
                  </a:solidFill>
                  <a:latin typeface="Comic Sans MS"/>
                </a:rPr>
                <a:t>ne définit pas de format pour la description de la procéd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5360" indent="-31536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Comic Sans MS"/>
                </a:rPr>
                <a:t>Les fournisseurs ont comblé le vide en proposant de multiples forma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5360" indent="-31536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5360" indent="-31536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2057400" y="0"/>
          <a:ext cx="44197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0"/>
                    <a:ext cx="44197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093080" y="2590920"/>
            <a:ext cx="2050920" cy="4267080"/>
          </a:xfrm>
          <a:prstGeom prst="rect">
            <a:avLst/>
          </a:prstGeom>
          <a:ln w="0">
            <a:noFill/>
          </a:ln>
        </p:spPr>
      </p:pic>
      <p:pic>
        <p:nvPicPr>
          <p:cNvPr id="221" name="PFC%20Paper%20-%20FRSI%20Recipe%20SFC" descr=""/>
          <p:cNvPicPr/>
          <p:nvPr/>
        </p:nvPicPr>
        <p:blipFill>
          <a:blip r:embed="rId4"/>
          <a:srcRect l="5184" t="0" r="0" b="-1067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914400" y="914400"/>
            <a:ext cx="1619280" cy="2286000"/>
          </a:xfrm>
          <a:prstGeom prst="rect">
            <a:avLst/>
          </a:prstGeom>
          <a:ln w="0">
            <a:noFill/>
          </a:ln>
        </p:spPr>
      </p:pic>
      <p:pic>
        <p:nvPicPr>
          <p:cNvPr id="223" name="PFC%20Paper%20-%20Inbatch%20UProc%20copy" descr=""/>
          <p:cNvPicPr/>
          <p:nvPr/>
        </p:nvPicPr>
        <p:blipFill>
          <a:blip r:embed="rId6"/>
          <a:stretch/>
        </p:blipFill>
        <p:spPr>
          <a:xfrm>
            <a:off x="0" y="3200400"/>
            <a:ext cx="3608280" cy="3657600"/>
          </a:xfrm>
          <a:prstGeom prst="rect">
            <a:avLst/>
          </a:prstGeom>
          <a:ln w="0">
            <a:noFill/>
          </a:ln>
        </p:spPr>
      </p:pic>
      <p:pic>
        <p:nvPicPr>
          <p:cNvPr id="224" name="PFC%203%20OpenBatch%20cropped" descr=""/>
          <p:cNvPicPr/>
          <p:nvPr/>
        </p:nvPicPr>
        <p:blipFill>
          <a:blip r:embed="rId7"/>
          <a:stretch/>
        </p:blipFill>
        <p:spPr>
          <a:xfrm>
            <a:off x="2409840" y="3048120"/>
            <a:ext cx="277164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280"/>
            <a:ext cx="2438280" cy="1112760"/>
          </a:xfrm>
          <a:prstGeom prst="rect">
            <a:avLst/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l with 1000 kg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ally add 50 kg S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t with steam to 50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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ally add 30 kg su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FC%203%20CD%20RecProc%20cropped" descr=""/>
          <p:cNvPicPr/>
          <p:nvPr/>
        </p:nvPicPr>
        <p:blipFill>
          <a:blip r:embed="rId8"/>
          <a:stretch/>
        </p:blipFill>
        <p:spPr>
          <a:xfrm>
            <a:off x="4772160" y="2438280"/>
            <a:ext cx="292392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838080" y="457200"/>
            <a:ext cx="7772400" cy="4876560"/>
            <a:chOff x="838080" y="457200"/>
            <a:chExt cx="7772400" cy="4876560"/>
          </a:xfrm>
        </p:grpSpPr>
        <p:sp>
          <p:nvSpPr>
            <p:cNvPr id="228" name=""/>
            <p:cNvSpPr/>
            <p:nvPr/>
          </p:nvSpPr>
          <p:spPr>
            <a:xfrm>
              <a:off x="838080" y="457200"/>
              <a:ext cx="7772400" cy="1450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ff0000"/>
                  </a:solidFill>
                  <a:latin typeface="Arial"/>
                </a:rPr>
                <a:t>Pourquoi une Norm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1907280"/>
              <a:ext cx="7772400" cy="3426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 marL="335880" indent="-3358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88.01 </a:t>
              </a:r>
              <a:r>
                <a:rPr b="0" lang="fr-FR" sz="3200" spc="-1" strike="noStrike">
                  <a:solidFill>
                    <a:srgbClr val="000000"/>
                  </a:solidFill>
                  <a:latin typeface="Comic Sans MS"/>
                </a:rPr>
                <a:t>ne définit pas de format pour la description de la procéd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Comic Sans MS"/>
                </a:rPr>
                <a:t>Les fournisseurs ont comblé le vide en proposant de multiples forma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5880" indent="-3358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ff0000"/>
                  </a:solidFill>
                  <a:latin typeface="Arial"/>
                </a:rPr>
                <a:t>Les utilisateurs veulent un Standard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1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rapport TR88.0.03-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1066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ist</a:t>
            </a: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1219320"/>
            <a:ext cx="2743200" cy="111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ll with 1000 kg 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ally add 50 kg S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t with steam to 50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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3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ally add 30 kg su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2209680"/>
          <a:ext cx="494028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494028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535640" y="4648320"/>
          <a:ext cx="43164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5640" y="4648320"/>
                    <a:ext cx="4316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52280" y="137160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quential Function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92840" y="3081240"/>
            <a:ext cx="19810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Diagrammes de Gantt modif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162920" y="1143000"/>
          <a:ext cx="1752480" cy="359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1143000"/>
                    <a:ext cx="175248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rot="17813400">
            <a:off x="6095520" y="3657240"/>
            <a:ext cx="1752840" cy="16002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4018" y="14263"/>
                </a:moveTo>
                <a:arcTo wR="-7615" hR="-7615" stAng="9177229" swAng="-5475296"/>
                <a:lnTo>
                  <a:pt x="5680" y="1291"/>
                </a:lnTo>
                <a:arcTo wR="10800" hR="10800" stAng="-7098067" swAng="5475296"/>
                <a:lnTo>
                  <a:pt x="22824" y="4661"/>
                </a:lnTo>
                <a:lnTo>
                  <a:pt x="20952" y="10436"/>
                </a:lnTo>
                <a:lnTo>
                  <a:pt x="15177" y="8565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veloppement du PF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219320"/>
            <a:ext cx="4343400" cy="5029200"/>
          </a:xfrm>
          <a:prstGeom prst="rightArrow">
            <a:avLst>
              <a:gd name="adj1" fmla="val 83898"/>
              <a:gd name="adj2" fmla="val 23463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Simple à suiv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Limites clairement défin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Ordre d’exécution déterminis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Représentation des relations de coordin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Support des Niveaux procédurau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Applicables aux recettes Maître et Contrô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Indépendent du mediu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48320" y="1371600"/>
          <a:ext cx="419076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4190760" cy="479592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09480" y="4724280"/>
          <a:ext cx="2971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724280"/>
                    <a:ext cx="2971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143000" y="1752480"/>
            <a:ext cx="1981080" cy="8218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ll with 1000 kg W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nually add 50 kg Sa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at with steam to 50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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nually add 30 kg s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362320" y="3124080"/>
          <a:ext cx="182880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124080"/>
                    <a:ext cx="18288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- Contexte et Objectifs S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2860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- Rappel ANSI-ISA S88.01 /  IEC61512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- Origine du P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 - Le PFC (ANSI-ISA S88.02 / IEC 61512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8006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-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mboles PF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800" y="1143000"/>
            <a:ext cx="395280" cy="343080"/>
          </a:xfrm>
          <a:custGeom>
            <a:avLst/>
            <a:gdLst/>
            <a:ahLst/>
            <a:rect l="l" t="t" r="r" b="b"/>
            <a:pathLst>
              <a:path w="249" h="216">
                <a:moveTo>
                  <a:pt x="249" y="0"/>
                </a:moveTo>
                <a:lnTo>
                  <a:pt x="125" y="216"/>
                </a:lnTo>
                <a:lnTo>
                  <a:pt x="0" y="0"/>
                </a:lnTo>
                <a:lnTo>
                  <a:pt x="249" y="0"/>
                </a:lnTo>
                <a:close/>
              </a:path>
            </a:pathLst>
          </a:custGeom>
          <a:solidFill>
            <a:srgbClr val="66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143000"/>
            <a:ext cx="397080" cy="344520"/>
          </a:xfrm>
          <a:custGeom>
            <a:avLst/>
            <a:gdLst/>
            <a:ahLst/>
            <a:rect l="l" t="t" r="r" b="b"/>
            <a:pathLst>
              <a:path w="250" h="217">
                <a:moveTo>
                  <a:pt x="250" y="217"/>
                </a:moveTo>
                <a:lnTo>
                  <a:pt x="125" y="0"/>
                </a:lnTo>
                <a:lnTo>
                  <a:pt x="0" y="217"/>
                </a:lnTo>
                <a:lnTo>
                  <a:pt x="250" y="217"/>
                </a:lnTo>
                <a:close/>
              </a:path>
            </a:pathLst>
          </a:custGeom>
          <a:solidFill>
            <a:srgbClr val="66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2743200"/>
            <a:ext cx="685800" cy="344520"/>
          </a:xfrm>
          <a:custGeom>
            <a:avLst/>
            <a:gdLst/>
            <a:ahLst/>
            <a:rect l="l" t="t" r="r" b="b"/>
            <a:pathLst>
              <a:path w="432" h="217">
                <a:moveTo>
                  <a:pt x="0" y="108"/>
                </a:moveTo>
                <a:lnTo>
                  <a:pt x="2" y="95"/>
                </a:lnTo>
                <a:lnTo>
                  <a:pt x="8" y="80"/>
                </a:lnTo>
                <a:lnTo>
                  <a:pt x="16" y="67"/>
                </a:lnTo>
                <a:lnTo>
                  <a:pt x="29" y="54"/>
                </a:lnTo>
                <a:lnTo>
                  <a:pt x="44" y="43"/>
                </a:lnTo>
                <a:lnTo>
                  <a:pt x="63" y="32"/>
                </a:lnTo>
                <a:lnTo>
                  <a:pt x="84" y="23"/>
                </a:lnTo>
                <a:lnTo>
                  <a:pt x="108" y="15"/>
                </a:lnTo>
                <a:lnTo>
                  <a:pt x="133" y="8"/>
                </a:lnTo>
                <a:lnTo>
                  <a:pt x="160" y="4"/>
                </a:lnTo>
                <a:lnTo>
                  <a:pt x="188" y="1"/>
                </a:lnTo>
                <a:lnTo>
                  <a:pt x="216" y="0"/>
                </a:lnTo>
                <a:lnTo>
                  <a:pt x="244" y="1"/>
                </a:lnTo>
                <a:lnTo>
                  <a:pt x="272" y="4"/>
                </a:lnTo>
                <a:lnTo>
                  <a:pt x="298" y="8"/>
                </a:lnTo>
                <a:lnTo>
                  <a:pt x="324" y="15"/>
                </a:lnTo>
                <a:lnTo>
                  <a:pt x="347" y="23"/>
                </a:lnTo>
                <a:lnTo>
                  <a:pt x="368" y="32"/>
                </a:lnTo>
                <a:lnTo>
                  <a:pt x="388" y="43"/>
                </a:lnTo>
                <a:lnTo>
                  <a:pt x="403" y="54"/>
                </a:lnTo>
                <a:lnTo>
                  <a:pt x="415" y="67"/>
                </a:lnTo>
                <a:lnTo>
                  <a:pt x="424" y="80"/>
                </a:lnTo>
                <a:lnTo>
                  <a:pt x="430" y="95"/>
                </a:lnTo>
                <a:lnTo>
                  <a:pt x="432" y="108"/>
                </a:lnTo>
                <a:lnTo>
                  <a:pt x="430" y="123"/>
                </a:lnTo>
                <a:lnTo>
                  <a:pt x="424" y="136"/>
                </a:lnTo>
                <a:lnTo>
                  <a:pt x="415" y="149"/>
                </a:lnTo>
                <a:lnTo>
                  <a:pt x="403" y="163"/>
                </a:lnTo>
                <a:lnTo>
                  <a:pt x="388" y="174"/>
                </a:lnTo>
                <a:lnTo>
                  <a:pt x="368" y="185"/>
                </a:lnTo>
                <a:lnTo>
                  <a:pt x="347" y="195"/>
                </a:lnTo>
                <a:lnTo>
                  <a:pt x="324" y="202"/>
                </a:lnTo>
                <a:lnTo>
                  <a:pt x="298" y="208"/>
                </a:lnTo>
                <a:lnTo>
                  <a:pt x="272" y="213"/>
                </a:lnTo>
                <a:lnTo>
                  <a:pt x="244" y="216"/>
                </a:lnTo>
                <a:lnTo>
                  <a:pt x="216" y="217"/>
                </a:lnTo>
                <a:lnTo>
                  <a:pt x="188" y="216"/>
                </a:lnTo>
                <a:lnTo>
                  <a:pt x="160" y="213"/>
                </a:lnTo>
                <a:lnTo>
                  <a:pt x="133" y="208"/>
                </a:lnTo>
                <a:lnTo>
                  <a:pt x="108" y="202"/>
                </a:lnTo>
                <a:lnTo>
                  <a:pt x="84" y="195"/>
                </a:lnTo>
                <a:lnTo>
                  <a:pt x="63" y="185"/>
                </a:lnTo>
                <a:lnTo>
                  <a:pt x="44" y="174"/>
                </a:lnTo>
                <a:lnTo>
                  <a:pt x="29" y="163"/>
                </a:lnTo>
                <a:lnTo>
                  <a:pt x="16" y="149"/>
                </a:lnTo>
                <a:lnTo>
                  <a:pt x="8" y="136"/>
                </a:lnTo>
                <a:lnTo>
                  <a:pt x="2" y="123"/>
                </a:lnTo>
                <a:lnTo>
                  <a:pt x="0" y="108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505320" y="11426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62640" y="3255840"/>
            <a:ext cx="343080" cy="173160"/>
          </a:xfrm>
          <a:prstGeom prst="rect">
            <a:avLst/>
          </a:prstGeom>
          <a:solidFill>
            <a:srgbClr val="66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124080" y="5178600"/>
            <a:ext cx="914040" cy="536040"/>
            <a:chOff x="3124080" y="5178600"/>
            <a:chExt cx="914040" cy="536040"/>
          </a:xfrm>
        </p:grpSpPr>
        <p:sp>
          <p:nvSpPr>
            <p:cNvPr id="265" name=""/>
            <p:cNvSpPr/>
            <p:nvPr/>
          </p:nvSpPr>
          <p:spPr>
            <a:xfrm>
              <a:off x="3124080" y="5178600"/>
              <a:ext cx="914040" cy="536040"/>
            </a:xfrm>
            <a:prstGeom prst="rect">
              <a:avLst/>
            </a:prstGeom>
            <a:solidFill>
              <a:srgbClr val="66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24080" y="5178600"/>
              <a:ext cx="914040" cy="53604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432" y="145"/>
                  </a:moveTo>
                  <a:lnTo>
                    <a:pt x="360" y="217"/>
                  </a:lnTo>
                  <a:moveTo>
                    <a:pt x="360" y="0"/>
                  </a:moveTo>
                  <a:lnTo>
                    <a:pt x="432" y="73"/>
                  </a:lnTo>
                  <a:moveTo>
                    <a:pt x="72" y="0"/>
                  </a:moveTo>
                  <a:lnTo>
                    <a:pt x="0" y="73"/>
                  </a:lnTo>
                </a:path>
              </a:pathLst>
            </a:custGeom>
            <a:solidFill>
              <a:srgbClr val="66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95880" y="5178600"/>
            <a:ext cx="914040" cy="536040"/>
            <a:chOff x="6095880" y="5178600"/>
            <a:chExt cx="914040" cy="536040"/>
          </a:xfrm>
        </p:grpSpPr>
        <p:sp>
          <p:nvSpPr>
            <p:cNvPr id="268" name=""/>
            <p:cNvSpPr/>
            <p:nvPr/>
          </p:nvSpPr>
          <p:spPr>
            <a:xfrm>
              <a:off x="6095880" y="5178600"/>
              <a:ext cx="914040" cy="536040"/>
            </a:xfrm>
            <a:prstGeom prst="rect">
              <a:avLst/>
            </a:prstGeom>
            <a:solidFill>
              <a:srgbClr val="66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5178600"/>
              <a:ext cx="914040" cy="53604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145"/>
                  </a:moveTo>
                  <a:lnTo>
                    <a:pt x="72" y="217"/>
                  </a:lnTo>
                  <a:moveTo>
                    <a:pt x="432" y="145"/>
                  </a:moveTo>
                  <a:lnTo>
                    <a:pt x="360" y="217"/>
                  </a:lnTo>
                  <a:moveTo>
                    <a:pt x="360" y="0"/>
                  </a:moveTo>
                  <a:lnTo>
                    <a:pt x="432" y="73"/>
                  </a:lnTo>
                  <a:moveTo>
                    <a:pt x="72" y="0"/>
                  </a:moveTo>
                  <a:lnTo>
                    <a:pt x="0" y="73"/>
                  </a:lnTo>
                </a:path>
              </a:pathLst>
            </a:custGeom>
            <a:solidFill>
              <a:srgbClr val="66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57200" y="5181480"/>
            <a:ext cx="914040" cy="533160"/>
            <a:chOff x="457200" y="5181480"/>
            <a:chExt cx="914040" cy="533160"/>
          </a:xfrm>
        </p:grpSpPr>
        <p:sp>
          <p:nvSpPr>
            <p:cNvPr id="271" name=""/>
            <p:cNvSpPr/>
            <p:nvPr/>
          </p:nvSpPr>
          <p:spPr>
            <a:xfrm>
              <a:off x="457200" y="5181480"/>
              <a:ext cx="914040" cy="533160"/>
            </a:xfrm>
            <a:prstGeom prst="rect">
              <a:avLst/>
            </a:prstGeom>
            <a:solidFill>
              <a:srgbClr val="66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5181480"/>
              <a:ext cx="914040" cy="177480"/>
            </a:xfrm>
            <a:custGeom>
              <a:avLst/>
              <a:gdLst/>
              <a:ahLst/>
              <a:rect l="l" t="t" r="r" b="b"/>
              <a:pathLst>
                <a:path w="432" h="72">
                  <a:moveTo>
                    <a:pt x="72" y="0"/>
                  </a:moveTo>
                  <a:lnTo>
                    <a:pt x="0" y="72"/>
                  </a:lnTo>
                  <a:moveTo>
                    <a:pt x="360" y="0"/>
                  </a:moveTo>
                  <a:lnTo>
                    <a:pt x="432" y="72"/>
                  </a:lnTo>
                </a:path>
              </a:pathLst>
            </a:custGeom>
            <a:solidFill>
              <a:srgbClr val="66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56840" y="2719440"/>
            <a:ext cx="914400" cy="533160"/>
            <a:chOff x="456840" y="2719440"/>
            <a:chExt cx="914400" cy="533160"/>
          </a:xfrm>
        </p:grpSpPr>
        <p:sp>
          <p:nvSpPr>
            <p:cNvPr id="274" name=""/>
            <p:cNvSpPr/>
            <p:nvPr/>
          </p:nvSpPr>
          <p:spPr>
            <a:xfrm>
              <a:off x="457200" y="2719440"/>
              <a:ext cx="914040" cy="533160"/>
            </a:xfrm>
            <a:prstGeom prst="rect">
              <a:avLst/>
            </a:prstGeom>
            <a:solidFill>
              <a:srgbClr val="66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56840" y="2719440"/>
              <a:ext cx="152280" cy="17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095880" y="19810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22860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5880" y="1263600"/>
            <a:ext cx="230400" cy="46080"/>
            <a:chOff x="6095880" y="1263600"/>
            <a:chExt cx="230400" cy="46080"/>
          </a:xfrm>
        </p:grpSpPr>
        <p:sp>
          <p:nvSpPr>
            <p:cNvPr id="279" name=""/>
            <p:cNvSpPr/>
            <p:nvPr/>
          </p:nvSpPr>
          <p:spPr>
            <a:xfrm>
              <a:off x="6095880" y="1263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97680" y="1309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371600" y="1066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but, F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10280" y="3886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 contient PFC de niveau inf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10280" y="5105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 référence Procédure Equi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35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férence Phase Equi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10666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aison di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1828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lection de sé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3059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nt de synchro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" y="1905120"/>
            <a:ext cx="761760" cy="303840"/>
            <a:chOff x="457200" y="1905120"/>
            <a:chExt cx="761760" cy="303840"/>
          </a:xfrm>
        </p:grpSpPr>
        <p:sp>
          <p:nvSpPr>
            <p:cNvPr id="289" name=""/>
            <p:cNvSpPr/>
            <p:nvPr/>
          </p:nvSpPr>
          <p:spPr>
            <a:xfrm>
              <a:off x="457200" y="205704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38440" y="190512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123920" y="205704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52600" y="2057040"/>
              <a:ext cx="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124080" y="1936440"/>
            <a:ext cx="761760" cy="356400"/>
            <a:chOff x="3124080" y="1936440"/>
            <a:chExt cx="761760" cy="356400"/>
          </a:xfrm>
        </p:grpSpPr>
        <p:sp>
          <p:nvSpPr>
            <p:cNvPr id="294" name=""/>
            <p:cNvSpPr/>
            <p:nvPr/>
          </p:nvSpPr>
          <p:spPr>
            <a:xfrm flipV="1">
              <a:off x="3124080" y="2069640"/>
              <a:ext cx="76176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124080" y="2161080"/>
              <a:ext cx="76176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506760" y="1936440"/>
              <a:ext cx="0" cy="13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793320" y="2160720"/>
              <a:ext cx="0" cy="13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228840" y="2152080"/>
              <a:ext cx="0" cy="13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4038480" y="3898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 Unité contient PFC de niveau inf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513396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 Unité référence Procédure Unité Equi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1066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ition explic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1828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quences simulta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18572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 de synchronisation sans / avec transfert mat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1143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49640" y="266688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3886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ération contient PFC de niveau inf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ération référence Opération Equip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124080" y="3975120"/>
            <a:ext cx="919080" cy="533160"/>
            <a:chOff x="3124080" y="3975120"/>
            <a:chExt cx="919080" cy="533160"/>
          </a:xfrm>
        </p:grpSpPr>
        <p:grpSp>
          <p:nvGrpSpPr>
            <p:cNvPr id="309" name=""/>
            <p:cNvGrpSpPr/>
            <p:nvPr/>
          </p:nvGrpSpPr>
          <p:grpSpPr>
            <a:xfrm>
              <a:off x="3124080" y="3975120"/>
              <a:ext cx="914040" cy="533160"/>
              <a:chOff x="3124080" y="3975120"/>
              <a:chExt cx="914040" cy="533160"/>
            </a:xfrm>
          </p:grpSpPr>
          <p:sp>
            <p:nvSpPr>
              <p:cNvPr id="310" name=""/>
              <p:cNvSpPr/>
              <p:nvPr/>
            </p:nvSpPr>
            <p:spPr>
              <a:xfrm>
                <a:off x="3124080" y="3975120"/>
                <a:ext cx="914040" cy="533160"/>
              </a:xfrm>
              <a:prstGeom prst="rect">
                <a:avLst/>
              </a:prstGeom>
              <a:solidFill>
                <a:srgbClr val="66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24080" y="3975120"/>
                <a:ext cx="914040" cy="533160"/>
              </a:xfrm>
              <a:custGeom>
                <a:avLst/>
                <a:gdLst/>
                <a:ahLst/>
                <a:rect l="l" t="t" r="r" b="b"/>
                <a:pathLst>
                  <a:path w="432" h="216">
                    <a:moveTo>
                      <a:pt x="432" y="144"/>
                    </a:moveTo>
                    <a:lnTo>
                      <a:pt x="360" y="216"/>
                    </a:lnTo>
                    <a:moveTo>
                      <a:pt x="360" y="0"/>
                    </a:moveTo>
                    <a:lnTo>
                      <a:pt x="432" y="72"/>
                    </a:lnTo>
                    <a:moveTo>
                      <a:pt x="72" y="0"/>
                    </a:moveTo>
                    <a:lnTo>
                      <a:pt x="0" y="72"/>
                    </a:lnTo>
                  </a:path>
                </a:pathLst>
              </a:custGeom>
              <a:solidFill>
                <a:srgbClr val="66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53160" y="4021920"/>
                <a:ext cx="74160" cy="14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84840" y="3984840"/>
                <a:ext cx="12600" cy="882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971880" y="4006800"/>
              <a:ext cx="71280" cy="71280"/>
              <a:chOff x="3971880" y="4006800"/>
              <a:chExt cx="71280" cy="712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4005000" y="400680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71880" y="403812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457200" y="3962520"/>
            <a:ext cx="914040" cy="536040"/>
            <a:chOff x="457200" y="3962520"/>
            <a:chExt cx="914040" cy="536040"/>
          </a:xfrm>
        </p:grpSpPr>
        <p:grpSp>
          <p:nvGrpSpPr>
            <p:cNvPr id="318" name=""/>
            <p:cNvGrpSpPr/>
            <p:nvPr/>
          </p:nvGrpSpPr>
          <p:grpSpPr>
            <a:xfrm>
              <a:off x="457200" y="3962520"/>
              <a:ext cx="914040" cy="536040"/>
              <a:chOff x="457200" y="3962520"/>
              <a:chExt cx="914040" cy="536040"/>
            </a:xfrm>
          </p:grpSpPr>
          <p:sp>
            <p:nvSpPr>
              <p:cNvPr id="319" name=""/>
              <p:cNvSpPr/>
              <p:nvPr/>
            </p:nvSpPr>
            <p:spPr>
              <a:xfrm>
                <a:off x="457200" y="3962520"/>
                <a:ext cx="914040" cy="536040"/>
              </a:xfrm>
              <a:prstGeom prst="rect">
                <a:avLst/>
              </a:prstGeom>
              <a:solidFill>
                <a:srgbClr val="66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7200" y="3962520"/>
                <a:ext cx="914040" cy="177840"/>
              </a:xfrm>
              <a:custGeom>
                <a:avLst/>
                <a:gdLst/>
                <a:ahLst/>
                <a:rect l="l" t="t" r="r" b="b"/>
                <a:pathLst>
                  <a:path w="432" h="72">
                    <a:moveTo>
                      <a:pt x="72" y="0"/>
                    </a:moveTo>
                    <a:lnTo>
                      <a:pt x="0" y="72"/>
                    </a:lnTo>
                    <a:moveTo>
                      <a:pt x="360" y="0"/>
                    </a:moveTo>
                    <a:lnTo>
                      <a:pt x="432" y="72"/>
                    </a:lnTo>
                  </a:path>
                </a:pathLst>
              </a:custGeom>
              <a:solidFill>
                <a:srgbClr val="66cc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87000" y="4011480"/>
                <a:ext cx="73800" cy="122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14360" y="3976920"/>
                <a:ext cx="12240" cy="889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290600" y="3987720"/>
              <a:ext cx="71280" cy="71280"/>
              <a:chOff x="1290600" y="3987720"/>
              <a:chExt cx="71280" cy="7128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1323720" y="398772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90600" y="401904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6095880" y="3975120"/>
            <a:ext cx="913680" cy="532800"/>
            <a:chOff x="6095880" y="3975120"/>
            <a:chExt cx="913680" cy="532800"/>
          </a:xfrm>
        </p:grpSpPr>
        <p:grpSp>
          <p:nvGrpSpPr>
            <p:cNvPr id="327" name=""/>
            <p:cNvGrpSpPr/>
            <p:nvPr/>
          </p:nvGrpSpPr>
          <p:grpSpPr>
            <a:xfrm>
              <a:off x="6095880" y="3975120"/>
              <a:ext cx="913680" cy="532800"/>
              <a:chOff x="6095880" y="3975120"/>
              <a:chExt cx="913680" cy="5328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6095880" y="3975120"/>
                <a:ext cx="913680" cy="532800"/>
                <a:chOff x="6095880" y="3975120"/>
                <a:chExt cx="913680" cy="5328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95880" y="3975120"/>
                  <a:ext cx="913680" cy="532800"/>
                </a:xfrm>
                <a:prstGeom prst="rect">
                  <a:avLst/>
                </a:prstGeom>
                <a:solidFill>
                  <a:srgbClr val="66cc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95880" y="3975120"/>
                  <a:ext cx="913680" cy="53280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144"/>
                      </a:moveTo>
                      <a:lnTo>
                        <a:pt x="72" y="216"/>
                      </a:lnTo>
                      <a:moveTo>
                        <a:pt x="432" y="144"/>
                      </a:moveTo>
                      <a:lnTo>
                        <a:pt x="360" y="216"/>
                      </a:lnTo>
                      <a:moveTo>
                        <a:pt x="360" y="0"/>
                      </a:moveTo>
                      <a:lnTo>
                        <a:pt x="432" y="72"/>
                      </a:lnTo>
                      <a:moveTo>
                        <a:pt x="72" y="0"/>
                      </a:moveTo>
                      <a:lnTo>
                        <a:pt x="0" y="72"/>
                      </a:lnTo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25320" y="4021920"/>
                  <a:ext cx="73800" cy="1440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57000" y="3984840"/>
                  <a:ext cx="12240" cy="8892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921360" y="3984840"/>
                <a:ext cx="73440" cy="87840"/>
                <a:chOff x="6921360" y="3984840"/>
                <a:chExt cx="73440" cy="878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921360" y="4021200"/>
                  <a:ext cx="73440" cy="1476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2680" y="3984840"/>
                  <a:ext cx="12240" cy="87840"/>
                </a:xfrm>
                <a:prstGeom prst="rect">
                  <a:avLst/>
                </a:prstGeom>
                <a:solidFill>
                  <a:srgbClr val="66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6933960" y="4003560"/>
              <a:ext cx="71280" cy="71280"/>
              <a:chOff x="6933960" y="4003560"/>
              <a:chExt cx="71280" cy="7128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6967080" y="400356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33960" y="40348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ansitions Explicites et Implic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 Implic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ition existe, non représent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at « Terminé » du RPE précéd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PE suivant lancé à la fin du précéd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Explic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ntrée du RPE précédent pour demander sa termina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ôle, et Représentation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u SFC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990720"/>
          <a:ext cx="27907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27907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rot="21217800">
            <a:off x="1531800" y="2057040"/>
            <a:ext cx="1981440" cy="228600"/>
          </a:xfrm>
          <a:prstGeom prst="leftArrow">
            <a:avLst>
              <a:gd name="adj1" fmla="val 50000"/>
              <a:gd name="adj2" fmla="val 216693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407400">
            <a:off x="2435040" y="3047760"/>
            <a:ext cx="1218960" cy="228600"/>
          </a:xfrm>
          <a:prstGeom prst="leftArrow">
            <a:avLst>
              <a:gd name="adj1" fmla="val 50000"/>
              <a:gd name="adj2" fmla="val 13330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120" y="4446720"/>
            <a:ext cx="838800" cy="492120"/>
            <a:chOff x="609120" y="4446720"/>
            <a:chExt cx="838800" cy="492120"/>
          </a:xfrm>
        </p:grpSpPr>
        <p:sp>
          <p:nvSpPr>
            <p:cNvPr id="346" name=""/>
            <p:cNvSpPr/>
            <p:nvPr/>
          </p:nvSpPr>
          <p:spPr>
            <a:xfrm>
              <a:off x="609480" y="4446720"/>
              <a:ext cx="838440" cy="4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hase Recet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09120" y="4446720"/>
              <a:ext cx="16740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822400" y="4446720"/>
            <a:ext cx="70812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hase Equ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5334120"/>
            <a:ext cx="2217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ransition = Fin E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742840" y="5025960"/>
            <a:ext cx="43020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37880" y="5029200"/>
            <a:ext cx="358920" cy="24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66960" y="4114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66960" y="4943520"/>
            <a:ext cx="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1480" y="4952880"/>
            <a:ext cx="221004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Transitio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Fin EPE ET condition vra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467480" y="5045040"/>
            <a:ext cx="45720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876920" y="5203440"/>
            <a:ext cx="38088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4175280"/>
            <a:ext cx="0" cy="31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967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5203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4119480"/>
            <a:ext cx="2210040" cy="52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dition vraie </a:t>
            </a:r>
            <a:r>
              <a:rPr b="0" i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demande fin d’exécution E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343040" y="4492800"/>
            <a:ext cx="754560" cy="468000"/>
            <a:chOff x="4343040" y="4492800"/>
            <a:chExt cx="754560" cy="468000"/>
          </a:xfrm>
        </p:grpSpPr>
        <p:sp>
          <p:nvSpPr>
            <p:cNvPr id="362" name=""/>
            <p:cNvSpPr/>
            <p:nvPr/>
          </p:nvSpPr>
          <p:spPr>
            <a:xfrm>
              <a:off x="4343400" y="4492800"/>
              <a:ext cx="7542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Phase Recet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343040" y="4492800"/>
              <a:ext cx="15084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780320" y="4491000"/>
            <a:ext cx="754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hase Equ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876920" y="4800600"/>
            <a:ext cx="5331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62920" y="4410000"/>
            <a:ext cx="60948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5715000"/>
            <a:ext cx="71625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C’est à l’utilisateur de choisir le type de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cédures Un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04920" y="1600200"/>
          <a:ext cx="474012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474012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952880" y="1523880"/>
            <a:ext cx="40388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Que contient un R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tient un PFC de niveau inféri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ou rie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RPE referenc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E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ize -&gt; Charge -&gt; Reaction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La séquence se lit comme une li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Les transitions explicites sont requises pour une sélection de sé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i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fer Complet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 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ont facultativ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429000" y="1165320"/>
            <a:ext cx="5562720" cy="46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éd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2 Procédures Un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mbol d’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ient les réquisitions de res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enu non norm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itions explicites = Conditions de lancement (allocation effectué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Simulta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 = Les 2 Procédures Unité sont termi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formations manqu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action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tre Procédures Uni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roulement dans le Te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sentation en série in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cé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2160" y="3487680"/>
          <a:ext cx="182736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3487680"/>
                    <a:ext cx="182736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152280" y="685800"/>
          <a:ext cx="3467160" cy="29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85800"/>
                    <a:ext cx="346716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990720" y="3581280"/>
            <a:ext cx="1295280" cy="2819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 - Contexte et Objectifs S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- Rappel ANSI-ISA S88.01 /  IEC61512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- Origine du P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- Le PFC (ANSI-ISA S88.02 / IEC 61512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006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-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457200" y="1143000"/>
          <a:ext cx="31654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3165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429000" y="1371600"/>
            <a:ext cx="5486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actions entre Procédures Unit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lations temporel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uteur des symboles P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acement vertical des symbo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ecette Maître ne contient pas d’informations de temps absol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nts de synchron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nes fléchées pour transferts de matiè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1143000"/>
          <a:ext cx="3048120" cy="51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0481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cé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9000" y="441972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édures multi-niv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ment de l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vantage de dé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PF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952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s PF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09520" y="-5789520"/>
            <a:ext cx="70408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09520" y="-5789520"/>
            <a:ext cx="70408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09520" y="-5789520"/>
            <a:ext cx="70408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09520" y="-5789520"/>
            <a:ext cx="7040880" cy="65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09520" y="-5265720"/>
            <a:ext cx="70408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5276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704960" y="1123920"/>
            <a:ext cx="58388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144792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- Contexte et Objectifs S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2860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- Rappel ANSI-ISA S88.01 /  IEC61512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- Origine du P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- Le PFC (ANSI-ISA S88.02 / IEC 61512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4800600"/>
            <a:ext cx="77724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5 -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Function Chart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 Un comprom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Basé sur des formats et des objectifs multi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C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 Une méthode de description des recet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’autres méthodes peuvent être utilis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Implémentation partielle des mécanismes propos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Extensions au-delà des spécifications de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seul format à assimiler pour les utilisat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Facilite la Communication (ingénierie, exploit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e base pour l’échange des don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88.02 Section 6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Guidelin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Revue en cours ANSI et IE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raft disponible auprès de l’I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286000" y="373392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33cc"/>
                </a:solidFill>
                <a:latin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a norme ANSI-ISA S88.02 :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Un langage pour le contrôle des procédés B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82600" y="5094360"/>
            <a:ext cx="56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formations : jean-vieille@usa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ypologies de fabr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752480"/>
            <a:ext cx="8229240" cy="1218960"/>
            <a:chOff x="457200" y="1752480"/>
            <a:chExt cx="8229240" cy="1218960"/>
          </a:xfrm>
        </p:grpSpPr>
        <p:sp>
          <p:nvSpPr>
            <p:cNvPr id="52" name=""/>
            <p:cNvSpPr/>
            <p:nvPr/>
          </p:nvSpPr>
          <p:spPr>
            <a:xfrm>
              <a:off x="2553120" y="1752480"/>
              <a:ext cx="1943280" cy="121896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Fabrication su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53000" y="1752480"/>
              <a:ext cx="1939320" cy="121896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ception à 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9280" y="1752480"/>
              <a:ext cx="1937160" cy="121896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figuration à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" y="1752480"/>
              <a:ext cx="1944000" cy="121896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Fabrication à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443600" y="3803760"/>
            <a:ext cx="6185520" cy="1834560"/>
            <a:chOff x="1443600" y="3803760"/>
            <a:chExt cx="6185520" cy="1834560"/>
          </a:xfrm>
        </p:grpSpPr>
        <p:sp>
          <p:nvSpPr>
            <p:cNvPr id="57" name=""/>
            <p:cNvSpPr/>
            <p:nvPr/>
          </p:nvSpPr>
          <p:spPr>
            <a:xfrm>
              <a:off x="1608480" y="3803760"/>
              <a:ext cx="1274400" cy="1092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DX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3600" y="4935960"/>
              <a:ext cx="140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Conti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44440" y="3825000"/>
              <a:ext cx="1277640" cy="10951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88.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94520" y="3825000"/>
              <a:ext cx="1275120" cy="10951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2920" y="4924800"/>
              <a:ext cx="1517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isconti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6560" y="4924800"/>
              <a:ext cx="140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iscrè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747160" y="1219320"/>
            <a:ext cx="348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tratégies logis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8080" y="5638680"/>
            <a:ext cx="377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ratégies d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887560"/>
            <a:ext cx="8382240" cy="104292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Fabr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utomatisation traditionn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8120" y="2666880"/>
            <a:ext cx="274320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ôle des équip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éd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952880"/>
            <a:ext cx="27432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 6113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 615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429000"/>
            <a:ext cx="1295640" cy="838080"/>
          </a:xfrm>
          <a:prstGeom prst="rightArrow">
            <a:avLst>
              <a:gd name="adj1" fmla="val 50000"/>
              <a:gd name="adj2" fmla="val 386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55880" y="316404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a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676520"/>
            <a:ext cx="274320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 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cé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.01 : Produit et Équip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3276720"/>
            <a:ext cx="1067040" cy="1143000"/>
          </a:xfrm>
          <a:prstGeom prst="leftRight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ffff66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819520"/>
            <a:ext cx="2361960" cy="2514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ment obtenir le produit visé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utilisant les services disponi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1828800"/>
            <a:ext cx="236196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ègles de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5334120"/>
            <a:ext cx="236196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6151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4724280"/>
            <a:ext cx="23619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 60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 6113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 61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IEC 615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00348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5295600" y="194292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472428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6989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gramme de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1828800"/>
            <a:ext cx="236196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 des Équip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819520"/>
            <a:ext cx="2361960" cy="19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ent établir les services attendu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 assurant la sécurité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9144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ocation des 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 - Contexte et Objectifs S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77724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 - Rappel ANSI-ISA S88.01 /  IEC61512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- Origine du P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962520"/>
            <a:ext cx="7772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- Le PFC (ANSI-ISA S88.02 / IEC 61512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8006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-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la Recette Générale à la Recette de Contrô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14600" y="21337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40160" y="34164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52760" y="45720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57913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7844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733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5146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752480"/>
            <a:ext cx="171792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ette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003480"/>
            <a:ext cx="171792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cette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216320"/>
            <a:ext cx="171792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cette Maî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435640"/>
            <a:ext cx="17208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cett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63840" y="1752480"/>
            <a:ext cx="510084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cription  du Procéd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dép. Site et Équip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5920" y="3048120"/>
            <a:ext cx="5205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m RG - Adaptation au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able pour la Pla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191120"/>
            <a:ext cx="52578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ation à  la Cellule Procé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 en 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9800" y="5410080"/>
            <a:ext cx="529272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écute un Ba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 les Équipements sélectionn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modèle physique S88.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119400"/>
            <a:ext cx="3429000" cy="40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lule Procé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65440" y="363708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5789520"/>
            <a:ext cx="353880" cy="306360"/>
          </a:xfrm>
          <a:custGeom>
            <a:avLst/>
            <a:gdLst/>
            <a:ahLst/>
            <a:rect l="l" t="t" r="r" b="b"/>
            <a:pathLst>
              <a:path w="223" h="193">
                <a:moveTo>
                  <a:pt x="22" y="156"/>
                </a:moveTo>
                <a:lnTo>
                  <a:pt x="22" y="192"/>
                </a:lnTo>
                <a:lnTo>
                  <a:pt x="222" y="192"/>
                </a:lnTo>
                <a:lnTo>
                  <a:pt x="222" y="22"/>
                </a:lnTo>
                <a:lnTo>
                  <a:pt x="145" y="22"/>
                </a:lnTo>
                <a:lnTo>
                  <a:pt x="116" y="22"/>
                </a:lnTo>
                <a:lnTo>
                  <a:pt x="87" y="0"/>
                </a:lnTo>
                <a:lnTo>
                  <a:pt x="116" y="22"/>
                </a:lnTo>
                <a:lnTo>
                  <a:pt x="87" y="43"/>
                </a:lnTo>
                <a:lnTo>
                  <a:pt x="116" y="22"/>
                </a:lnTo>
                <a:lnTo>
                  <a:pt x="87" y="22"/>
                </a:lnTo>
                <a:lnTo>
                  <a:pt x="145" y="22"/>
                </a:lnTo>
                <a:lnTo>
                  <a:pt x="222" y="22"/>
                </a:lnTo>
                <a:lnTo>
                  <a:pt x="222" y="192"/>
                </a:lnTo>
                <a:lnTo>
                  <a:pt x="22" y="192"/>
                </a:lnTo>
                <a:lnTo>
                  <a:pt x="22" y="156"/>
                </a:lnTo>
                <a:lnTo>
                  <a:pt x="22" y="127"/>
                </a:lnTo>
                <a:lnTo>
                  <a:pt x="22" y="112"/>
                </a:lnTo>
                <a:lnTo>
                  <a:pt x="43" y="112"/>
                </a:lnTo>
                <a:lnTo>
                  <a:pt x="0" y="112"/>
                </a:lnTo>
                <a:lnTo>
                  <a:pt x="22" y="112"/>
                </a:lnTo>
                <a:lnTo>
                  <a:pt x="22" y="98"/>
                </a:lnTo>
                <a:lnTo>
                  <a:pt x="22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1800" y="3524400"/>
            <a:ext cx="83880" cy="382320"/>
          </a:xfrm>
          <a:custGeom>
            <a:avLst/>
            <a:gdLst/>
            <a:ahLst/>
            <a:rect l="l" t="t" r="r" b="b"/>
            <a:pathLst>
              <a:path w="53" h="241">
                <a:moveTo>
                  <a:pt x="26" y="58"/>
                </a:moveTo>
                <a:lnTo>
                  <a:pt x="26" y="182"/>
                </a:lnTo>
                <a:lnTo>
                  <a:pt x="26" y="211"/>
                </a:lnTo>
                <a:lnTo>
                  <a:pt x="0" y="240"/>
                </a:lnTo>
                <a:lnTo>
                  <a:pt x="26" y="211"/>
                </a:lnTo>
                <a:lnTo>
                  <a:pt x="52" y="240"/>
                </a:lnTo>
                <a:lnTo>
                  <a:pt x="26" y="211"/>
                </a:lnTo>
                <a:lnTo>
                  <a:pt x="26" y="240"/>
                </a:lnTo>
                <a:lnTo>
                  <a:pt x="26" y="182"/>
                </a:lnTo>
                <a:lnTo>
                  <a:pt x="26" y="58"/>
                </a:lnTo>
                <a:lnTo>
                  <a:pt x="26" y="29"/>
                </a:lnTo>
                <a:lnTo>
                  <a:pt x="26" y="15"/>
                </a:lnTo>
                <a:lnTo>
                  <a:pt x="52" y="15"/>
                </a:lnTo>
                <a:lnTo>
                  <a:pt x="0" y="15"/>
                </a:lnTo>
                <a:lnTo>
                  <a:pt x="26" y="15"/>
                </a:lnTo>
                <a:lnTo>
                  <a:pt x="26" y="0"/>
                </a:lnTo>
                <a:lnTo>
                  <a:pt x="26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1800" y="4340160"/>
            <a:ext cx="83880" cy="351000"/>
          </a:xfrm>
          <a:custGeom>
            <a:avLst/>
            <a:gdLst/>
            <a:ahLst/>
            <a:rect l="l" t="t" r="r" b="b"/>
            <a:pathLst>
              <a:path w="53" h="221">
                <a:moveTo>
                  <a:pt x="26" y="53"/>
                </a:moveTo>
                <a:lnTo>
                  <a:pt x="26" y="167"/>
                </a:lnTo>
                <a:lnTo>
                  <a:pt x="26" y="193"/>
                </a:lnTo>
                <a:lnTo>
                  <a:pt x="0" y="220"/>
                </a:lnTo>
                <a:lnTo>
                  <a:pt x="26" y="193"/>
                </a:lnTo>
                <a:lnTo>
                  <a:pt x="52" y="220"/>
                </a:lnTo>
                <a:lnTo>
                  <a:pt x="26" y="193"/>
                </a:lnTo>
                <a:lnTo>
                  <a:pt x="26" y="220"/>
                </a:lnTo>
                <a:lnTo>
                  <a:pt x="26" y="167"/>
                </a:lnTo>
                <a:lnTo>
                  <a:pt x="26" y="53"/>
                </a:lnTo>
                <a:lnTo>
                  <a:pt x="26" y="27"/>
                </a:lnTo>
                <a:lnTo>
                  <a:pt x="26" y="14"/>
                </a:lnTo>
                <a:lnTo>
                  <a:pt x="52" y="14"/>
                </a:lnTo>
                <a:lnTo>
                  <a:pt x="0" y="14"/>
                </a:lnTo>
                <a:lnTo>
                  <a:pt x="26" y="14"/>
                </a:lnTo>
                <a:lnTo>
                  <a:pt x="26" y="0"/>
                </a:lnTo>
                <a:lnTo>
                  <a:pt x="26" y="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1800" y="5126040"/>
            <a:ext cx="83880" cy="382680"/>
          </a:xfrm>
          <a:custGeom>
            <a:avLst/>
            <a:gdLst/>
            <a:ahLst/>
            <a:rect l="l" t="t" r="r" b="b"/>
            <a:pathLst>
              <a:path w="53" h="241">
                <a:moveTo>
                  <a:pt x="26" y="58"/>
                </a:moveTo>
                <a:lnTo>
                  <a:pt x="26" y="182"/>
                </a:lnTo>
                <a:lnTo>
                  <a:pt x="26" y="211"/>
                </a:lnTo>
                <a:lnTo>
                  <a:pt x="0" y="240"/>
                </a:lnTo>
                <a:lnTo>
                  <a:pt x="26" y="211"/>
                </a:lnTo>
                <a:lnTo>
                  <a:pt x="52" y="240"/>
                </a:lnTo>
                <a:lnTo>
                  <a:pt x="26" y="211"/>
                </a:lnTo>
                <a:lnTo>
                  <a:pt x="26" y="240"/>
                </a:lnTo>
                <a:lnTo>
                  <a:pt x="26" y="182"/>
                </a:lnTo>
                <a:lnTo>
                  <a:pt x="26" y="58"/>
                </a:lnTo>
                <a:lnTo>
                  <a:pt x="26" y="29"/>
                </a:lnTo>
                <a:lnTo>
                  <a:pt x="26" y="15"/>
                </a:lnTo>
                <a:lnTo>
                  <a:pt x="52" y="15"/>
                </a:lnTo>
                <a:lnTo>
                  <a:pt x="0" y="15"/>
                </a:lnTo>
                <a:lnTo>
                  <a:pt x="26" y="15"/>
                </a:lnTo>
                <a:lnTo>
                  <a:pt x="26" y="0"/>
                </a:lnTo>
                <a:lnTo>
                  <a:pt x="26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89200" y="439416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89200" y="523080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6680" y="577368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46920" y="4952880"/>
            <a:ext cx="353880" cy="306360"/>
          </a:xfrm>
          <a:custGeom>
            <a:avLst/>
            <a:gdLst/>
            <a:ahLst/>
            <a:rect l="l" t="t" r="r" b="b"/>
            <a:pathLst>
              <a:path w="223" h="193">
                <a:moveTo>
                  <a:pt x="22" y="156"/>
                </a:moveTo>
                <a:lnTo>
                  <a:pt x="22" y="192"/>
                </a:lnTo>
                <a:lnTo>
                  <a:pt x="222" y="192"/>
                </a:lnTo>
                <a:lnTo>
                  <a:pt x="222" y="22"/>
                </a:lnTo>
                <a:lnTo>
                  <a:pt x="145" y="22"/>
                </a:lnTo>
                <a:lnTo>
                  <a:pt x="116" y="22"/>
                </a:lnTo>
                <a:lnTo>
                  <a:pt x="87" y="0"/>
                </a:lnTo>
                <a:lnTo>
                  <a:pt x="116" y="22"/>
                </a:lnTo>
                <a:lnTo>
                  <a:pt x="87" y="43"/>
                </a:lnTo>
                <a:lnTo>
                  <a:pt x="116" y="22"/>
                </a:lnTo>
                <a:lnTo>
                  <a:pt x="87" y="22"/>
                </a:lnTo>
                <a:lnTo>
                  <a:pt x="145" y="22"/>
                </a:lnTo>
                <a:lnTo>
                  <a:pt x="222" y="22"/>
                </a:lnTo>
                <a:lnTo>
                  <a:pt x="222" y="192"/>
                </a:lnTo>
                <a:lnTo>
                  <a:pt x="22" y="192"/>
                </a:lnTo>
                <a:lnTo>
                  <a:pt x="22" y="156"/>
                </a:lnTo>
                <a:lnTo>
                  <a:pt x="22" y="127"/>
                </a:lnTo>
                <a:lnTo>
                  <a:pt x="22" y="112"/>
                </a:lnTo>
                <a:lnTo>
                  <a:pt x="43" y="112"/>
                </a:lnTo>
                <a:lnTo>
                  <a:pt x="0" y="112"/>
                </a:lnTo>
                <a:lnTo>
                  <a:pt x="22" y="112"/>
                </a:lnTo>
                <a:lnTo>
                  <a:pt x="22" y="98"/>
                </a:lnTo>
                <a:lnTo>
                  <a:pt x="22" y="1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14840" y="503568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914640"/>
            <a:ext cx="3429000" cy="405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700520"/>
            <a:ext cx="3429000" cy="40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ule E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5521320"/>
            <a:ext cx="3429000" cy="404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ul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1219320"/>
            <a:ext cx="3429000" cy="280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tre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65440" y="152388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133720"/>
            <a:ext cx="152280" cy="304560"/>
          </a:xfrm>
          <a:custGeom>
            <a:avLst/>
            <a:gdLst/>
            <a:ahLst/>
            <a:rect l="l" t="t" r="r" b="b"/>
            <a:pathLst>
              <a:path w="53" h="221">
                <a:moveTo>
                  <a:pt x="26" y="53"/>
                </a:moveTo>
                <a:lnTo>
                  <a:pt x="26" y="167"/>
                </a:lnTo>
                <a:lnTo>
                  <a:pt x="26" y="193"/>
                </a:lnTo>
                <a:lnTo>
                  <a:pt x="0" y="220"/>
                </a:lnTo>
                <a:lnTo>
                  <a:pt x="26" y="193"/>
                </a:lnTo>
                <a:lnTo>
                  <a:pt x="52" y="220"/>
                </a:lnTo>
                <a:lnTo>
                  <a:pt x="26" y="193"/>
                </a:lnTo>
                <a:lnTo>
                  <a:pt x="26" y="220"/>
                </a:lnTo>
                <a:lnTo>
                  <a:pt x="26" y="167"/>
                </a:lnTo>
                <a:lnTo>
                  <a:pt x="26" y="53"/>
                </a:lnTo>
                <a:lnTo>
                  <a:pt x="26" y="27"/>
                </a:lnTo>
                <a:lnTo>
                  <a:pt x="26" y="14"/>
                </a:lnTo>
                <a:lnTo>
                  <a:pt x="52" y="14"/>
                </a:lnTo>
                <a:lnTo>
                  <a:pt x="0" y="14"/>
                </a:lnTo>
                <a:lnTo>
                  <a:pt x="26" y="14"/>
                </a:lnTo>
                <a:lnTo>
                  <a:pt x="26" y="0"/>
                </a:lnTo>
                <a:lnTo>
                  <a:pt x="26" y="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1800" y="2717640"/>
            <a:ext cx="83880" cy="382680"/>
          </a:xfrm>
          <a:custGeom>
            <a:avLst/>
            <a:gdLst/>
            <a:ahLst/>
            <a:rect l="l" t="t" r="r" b="b"/>
            <a:pathLst>
              <a:path w="53" h="241">
                <a:moveTo>
                  <a:pt x="26" y="58"/>
                </a:moveTo>
                <a:lnTo>
                  <a:pt x="26" y="182"/>
                </a:lnTo>
                <a:lnTo>
                  <a:pt x="26" y="211"/>
                </a:lnTo>
                <a:lnTo>
                  <a:pt x="0" y="240"/>
                </a:lnTo>
                <a:lnTo>
                  <a:pt x="26" y="211"/>
                </a:lnTo>
                <a:lnTo>
                  <a:pt x="52" y="240"/>
                </a:lnTo>
                <a:lnTo>
                  <a:pt x="26" y="211"/>
                </a:lnTo>
                <a:lnTo>
                  <a:pt x="26" y="240"/>
                </a:lnTo>
                <a:lnTo>
                  <a:pt x="26" y="182"/>
                </a:lnTo>
                <a:lnTo>
                  <a:pt x="26" y="58"/>
                </a:lnTo>
                <a:lnTo>
                  <a:pt x="26" y="29"/>
                </a:lnTo>
                <a:lnTo>
                  <a:pt x="26" y="15"/>
                </a:lnTo>
                <a:lnTo>
                  <a:pt x="52" y="15"/>
                </a:lnTo>
                <a:lnTo>
                  <a:pt x="0" y="15"/>
                </a:lnTo>
                <a:lnTo>
                  <a:pt x="26" y="15"/>
                </a:lnTo>
                <a:lnTo>
                  <a:pt x="26" y="0"/>
                </a:lnTo>
                <a:lnTo>
                  <a:pt x="26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89200" y="213660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89200" y="2798640"/>
            <a:ext cx="139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eut conten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1828800"/>
            <a:ext cx="3429000" cy="281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2438280"/>
            <a:ext cx="3429000" cy="281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1523880"/>
            <a:ext cx="152280" cy="304920"/>
          </a:xfrm>
          <a:custGeom>
            <a:avLst/>
            <a:gdLst/>
            <a:ahLst/>
            <a:rect l="l" t="t" r="r" b="b"/>
            <a:pathLst>
              <a:path w="53" h="221">
                <a:moveTo>
                  <a:pt x="26" y="53"/>
                </a:moveTo>
                <a:lnTo>
                  <a:pt x="26" y="167"/>
                </a:lnTo>
                <a:lnTo>
                  <a:pt x="26" y="193"/>
                </a:lnTo>
                <a:lnTo>
                  <a:pt x="0" y="220"/>
                </a:lnTo>
                <a:lnTo>
                  <a:pt x="26" y="193"/>
                </a:lnTo>
                <a:lnTo>
                  <a:pt x="52" y="220"/>
                </a:lnTo>
                <a:lnTo>
                  <a:pt x="26" y="193"/>
                </a:lnTo>
                <a:lnTo>
                  <a:pt x="26" y="220"/>
                </a:lnTo>
                <a:lnTo>
                  <a:pt x="26" y="167"/>
                </a:lnTo>
                <a:lnTo>
                  <a:pt x="26" y="53"/>
                </a:lnTo>
                <a:lnTo>
                  <a:pt x="26" y="27"/>
                </a:lnTo>
                <a:lnTo>
                  <a:pt x="26" y="14"/>
                </a:lnTo>
                <a:lnTo>
                  <a:pt x="52" y="14"/>
                </a:lnTo>
                <a:lnTo>
                  <a:pt x="0" y="14"/>
                </a:lnTo>
                <a:lnTo>
                  <a:pt x="26" y="14"/>
                </a:lnTo>
                <a:lnTo>
                  <a:pt x="26" y="0"/>
                </a:lnTo>
                <a:lnTo>
                  <a:pt x="26" y="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121932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33720" y="373392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50680" y="1868400"/>
            <a:ext cx="19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5760" y="4267080"/>
            <a:ext cx="19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u Procédé au Modèle Procéd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429000" y="914400"/>
            <a:ext cx="1956960" cy="909720"/>
            <a:chOff x="3429000" y="914400"/>
            <a:chExt cx="1956960" cy="909720"/>
          </a:xfrm>
        </p:grpSpPr>
        <p:sp>
          <p:nvSpPr>
            <p:cNvPr id="137" name=""/>
            <p:cNvSpPr/>
            <p:nvPr/>
          </p:nvSpPr>
          <p:spPr>
            <a:xfrm>
              <a:off x="3482640" y="914400"/>
              <a:ext cx="1849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èle Phys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914400"/>
              <a:ext cx="19569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72200" y="914400"/>
            <a:ext cx="2355480" cy="909720"/>
            <a:chOff x="6172200" y="914400"/>
            <a:chExt cx="2355480" cy="909720"/>
          </a:xfrm>
        </p:grpSpPr>
        <p:sp>
          <p:nvSpPr>
            <p:cNvPr id="140" name=""/>
            <p:cNvSpPr/>
            <p:nvPr/>
          </p:nvSpPr>
          <p:spPr>
            <a:xfrm>
              <a:off x="6249240" y="914400"/>
              <a:ext cx="22003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èle Procéd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2200" y="914400"/>
              <a:ext cx="23554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29000" y="1569960"/>
            <a:ext cx="1956960" cy="674640"/>
            <a:chOff x="3429000" y="1569960"/>
            <a:chExt cx="1956960" cy="674640"/>
          </a:xfrm>
        </p:grpSpPr>
        <p:sp>
          <p:nvSpPr>
            <p:cNvPr id="143" name=""/>
            <p:cNvSpPr/>
            <p:nvPr/>
          </p:nvSpPr>
          <p:spPr>
            <a:xfrm>
              <a:off x="3482640" y="1569960"/>
              <a:ext cx="1849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1569960"/>
              <a:ext cx="19569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172200" y="1569960"/>
            <a:ext cx="2355480" cy="674640"/>
            <a:chOff x="6172200" y="1569960"/>
            <a:chExt cx="2355480" cy="674640"/>
          </a:xfrm>
        </p:grpSpPr>
        <p:sp>
          <p:nvSpPr>
            <p:cNvPr id="146" name=""/>
            <p:cNvSpPr/>
            <p:nvPr/>
          </p:nvSpPr>
          <p:spPr>
            <a:xfrm>
              <a:off x="6249240" y="1569960"/>
              <a:ext cx="2200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nctionnalité Procéd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1569960"/>
              <a:ext cx="23554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85800" y="919080"/>
            <a:ext cx="1956960" cy="909720"/>
            <a:chOff x="685800" y="919080"/>
            <a:chExt cx="1956960" cy="909720"/>
          </a:xfrm>
        </p:grpSpPr>
        <p:sp>
          <p:nvSpPr>
            <p:cNvPr id="149" name=""/>
            <p:cNvSpPr/>
            <p:nvPr/>
          </p:nvSpPr>
          <p:spPr>
            <a:xfrm>
              <a:off x="739440" y="919080"/>
              <a:ext cx="18496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èl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éd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19080"/>
              <a:ext cx="19569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5800" y="1574640"/>
            <a:ext cx="1956960" cy="675000"/>
            <a:chOff x="685800" y="1574640"/>
            <a:chExt cx="1956960" cy="675000"/>
          </a:xfrm>
        </p:grpSpPr>
        <p:sp>
          <p:nvSpPr>
            <p:cNvPr id="152" name=""/>
            <p:cNvSpPr/>
            <p:nvPr/>
          </p:nvSpPr>
          <p:spPr>
            <a:xfrm>
              <a:off x="739440" y="1574640"/>
              <a:ext cx="184968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s Procédur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1574640"/>
              <a:ext cx="195696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" y="2209680"/>
            <a:ext cx="7841880" cy="3885120"/>
            <a:chOff x="685800" y="2209680"/>
            <a:chExt cx="7841880" cy="3885120"/>
          </a:xfrm>
        </p:grpSpPr>
        <p:grpSp>
          <p:nvGrpSpPr>
            <p:cNvPr id="155" name=""/>
            <p:cNvGrpSpPr/>
            <p:nvPr/>
          </p:nvGrpSpPr>
          <p:grpSpPr>
            <a:xfrm>
              <a:off x="3429000" y="2254320"/>
              <a:ext cx="1956960" cy="754200"/>
              <a:chOff x="3429000" y="2254320"/>
              <a:chExt cx="1956960" cy="754200"/>
            </a:xfrm>
          </p:grpSpPr>
          <p:sp>
            <p:nvSpPr>
              <p:cNvPr id="156" name=""/>
              <p:cNvSpPr/>
              <p:nvPr/>
            </p:nvSpPr>
            <p:spPr>
              <a:xfrm>
                <a:off x="3482640" y="2254320"/>
                <a:ext cx="1849680" cy="75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llule Procéd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29000" y="2254320"/>
                <a:ext cx="1956960" cy="754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172200" y="2209680"/>
              <a:ext cx="2355480" cy="754200"/>
              <a:chOff x="6172200" y="2209680"/>
              <a:chExt cx="2355480" cy="754200"/>
            </a:xfrm>
          </p:grpSpPr>
          <p:sp>
            <p:nvSpPr>
              <p:cNvPr id="159" name=""/>
              <p:cNvSpPr/>
              <p:nvPr/>
            </p:nvSpPr>
            <p:spPr>
              <a:xfrm>
                <a:off x="6249240" y="2209680"/>
                <a:ext cx="2200320" cy="75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éd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72200" y="2209680"/>
                <a:ext cx="2355480" cy="754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429000" y="3008880"/>
              <a:ext cx="1956960" cy="2331360"/>
              <a:chOff x="3429000" y="3008880"/>
              <a:chExt cx="1956960" cy="2331360"/>
            </a:xfrm>
          </p:grpSpPr>
          <p:sp>
            <p:nvSpPr>
              <p:cNvPr id="162" name=""/>
              <p:cNvSpPr/>
              <p:nvPr/>
            </p:nvSpPr>
            <p:spPr>
              <a:xfrm>
                <a:off x="3482640" y="3008880"/>
                <a:ext cx="1849680" cy="2331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it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29000" y="3008880"/>
                <a:ext cx="1956960" cy="2331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172200" y="2964240"/>
              <a:ext cx="2355480" cy="751680"/>
              <a:chOff x="6172200" y="2964240"/>
              <a:chExt cx="2355480" cy="751680"/>
            </a:xfrm>
          </p:grpSpPr>
          <p:sp>
            <p:nvSpPr>
              <p:cNvPr id="165" name=""/>
              <p:cNvSpPr/>
              <p:nvPr/>
            </p:nvSpPr>
            <p:spPr>
              <a:xfrm>
                <a:off x="6249240" y="2964240"/>
                <a:ext cx="2200320" cy="751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tape Procéd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72200" y="2964240"/>
                <a:ext cx="2355480" cy="75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172200" y="3708000"/>
              <a:ext cx="2355480" cy="752040"/>
              <a:chOff x="6172200" y="3708000"/>
              <a:chExt cx="2355480" cy="752040"/>
            </a:xfrm>
          </p:grpSpPr>
          <p:sp>
            <p:nvSpPr>
              <p:cNvPr id="168" name=""/>
              <p:cNvSpPr/>
              <p:nvPr/>
            </p:nvSpPr>
            <p:spPr>
              <a:xfrm>
                <a:off x="6249240" y="3708000"/>
                <a:ext cx="2200320" cy="75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ération Procéd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72200" y="3708000"/>
                <a:ext cx="2355480" cy="75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172200" y="4460760"/>
              <a:ext cx="2355480" cy="1634040"/>
              <a:chOff x="6172200" y="4460760"/>
              <a:chExt cx="2355480" cy="1634040"/>
            </a:xfrm>
          </p:grpSpPr>
          <p:sp>
            <p:nvSpPr>
              <p:cNvPr id="171" name=""/>
              <p:cNvSpPr/>
              <p:nvPr/>
            </p:nvSpPr>
            <p:spPr>
              <a:xfrm>
                <a:off x="6249240" y="4460760"/>
                <a:ext cx="2200320" cy="163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on Procéd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72200" y="4460760"/>
                <a:ext cx="2355480" cy="163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429000" y="5341320"/>
              <a:ext cx="1956960" cy="751680"/>
              <a:chOff x="3429000" y="5341320"/>
              <a:chExt cx="1956960" cy="751680"/>
            </a:xfrm>
          </p:grpSpPr>
          <p:sp>
            <p:nvSpPr>
              <p:cNvPr id="174" name=""/>
              <p:cNvSpPr/>
              <p:nvPr/>
            </p:nvSpPr>
            <p:spPr>
              <a:xfrm>
                <a:off x="3482640" y="5341320"/>
                <a:ext cx="1849680" cy="751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dule Equip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29000" y="5341320"/>
                <a:ext cx="1956960" cy="75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85800" y="2260800"/>
              <a:ext cx="1956960" cy="753480"/>
              <a:chOff x="685800" y="2260800"/>
              <a:chExt cx="1956960" cy="753480"/>
            </a:xfrm>
          </p:grpSpPr>
          <p:sp>
            <p:nvSpPr>
              <p:cNvPr id="177" name=""/>
              <p:cNvSpPr/>
              <p:nvPr/>
            </p:nvSpPr>
            <p:spPr>
              <a:xfrm>
                <a:off x="739440" y="2260800"/>
                <a:ext cx="1849680" cy="75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éd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5800" y="2260800"/>
                <a:ext cx="1956960" cy="753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85800" y="3015000"/>
              <a:ext cx="1956960" cy="751680"/>
              <a:chOff x="685800" y="3015000"/>
              <a:chExt cx="1956960" cy="75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739440" y="3015000"/>
                <a:ext cx="1849680" cy="751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édure unit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5800" y="3015000"/>
                <a:ext cx="1956960" cy="751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85800" y="3767040"/>
              <a:ext cx="1956960" cy="752040"/>
              <a:chOff x="685800" y="3767040"/>
              <a:chExt cx="1956960" cy="752040"/>
            </a:xfrm>
          </p:grpSpPr>
          <p:sp>
            <p:nvSpPr>
              <p:cNvPr id="183" name=""/>
              <p:cNvSpPr/>
              <p:nvPr/>
            </p:nvSpPr>
            <p:spPr>
              <a:xfrm>
                <a:off x="739440" y="3767040"/>
                <a:ext cx="1849680" cy="75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ér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5800" y="3767040"/>
                <a:ext cx="1956960" cy="752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85800" y="4527720"/>
              <a:ext cx="1956960" cy="1497600"/>
              <a:chOff x="685800" y="4527720"/>
              <a:chExt cx="1956960" cy="1497600"/>
            </a:xfrm>
          </p:grpSpPr>
          <p:sp>
            <p:nvSpPr>
              <p:cNvPr id="186" name=""/>
              <p:cNvSpPr/>
              <p:nvPr/>
            </p:nvSpPr>
            <p:spPr>
              <a:xfrm>
                <a:off x="739440" y="4527720"/>
                <a:ext cx="1849680" cy="149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5800" y="4527720"/>
                <a:ext cx="1956960" cy="1497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666880" y="250308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6880" y="318816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6880" y="397116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10080" y="2405520"/>
              <a:ext cx="762120" cy="390960"/>
            </a:xfrm>
            <a:prstGeom prst="rightArrow">
              <a:avLst>
                <a:gd name="adj1" fmla="val 50000"/>
                <a:gd name="adj2" fmla="val 48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10080" y="309024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1880" y="3971160"/>
              <a:ext cx="761760" cy="391320"/>
            </a:xfrm>
            <a:prstGeom prst="rightArrow">
              <a:avLst>
                <a:gd name="adj1" fmla="val 50000"/>
                <a:gd name="adj2" fmla="val 48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6880" y="5635080"/>
              <a:ext cx="762120" cy="390960"/>
            </a:xfrm>
            <a:prstGeom prst="rightArrow">
              <a:avLst>
                <a:gd name="adj1" fmla="val 50000"/>
                <a:gd name="adj2" fmla="val 487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10080" y="543888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6880" y="465624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656240"/>
              <a:ext cx="762120" cy="391320"/>
            </a:xfrm>
            <a:prstGeom prst="rightArrow">
              <a:avLst>
                <a:gd name="adj1" fmla="val 50000"/>
                <a:gd name="adj2" fmla="val 4868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4:49:17Z</dcterms:created>
  <dc:creator>Jean Vieille</dc:creator>
  <dc:description/>
  <dc:language>en-US</dc:language>
  <cp:lastModifiedBy>Jean Vieille</cp:lastModifiedBy>
  <dcterms:modified xsi:type="dcterms:W3CDTF">1999-11-29T11:16:10Z</dcterms:modified>
  <cp:revision>28</cp:revision>
  <dc:subject/>
  <dc:title>La norme S88.02 : un langage pour le contrôle des procédés Batchs</dc:title>
</cp:coreProperties>
</file>