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706-8E2A-41F2-B69D-65DA6E3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769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587-92D3-42D4-AE2B-A304448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E0C-458B-42F6-983F-C00387E9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8E8-FDF5-4BBE-9DF0-79D42E63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E12-C6E2-4414-B2BE-24F00F34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3E0-A565-472A-9BAD-2DD69DF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411-CE91-41C4-B709-9358478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1C7-9D4A-43A7-9F26-0BA8AC1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F6D-A5AE-4A30-9500-36B8A63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A0C-162A-4071-80BC-7ED5645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AEE-1DB9-431B-98CD-370F68D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455-57F0-4909-9AA1-699789E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Vie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BF du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2 octob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C1F114-BDB3-48F8-80B1-683BB32C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BF_Logo" descr=""/>
          <p:cNvPicPr/>
          <p:nvPr/>
        </p:nvPicPr>
        <p:blipFill>
          <a:blip r:embed="rId2"/>
          <a:stretch/>
        </p:blipFill>
        <p:spPr>
          <a:xfrm>
            <a:off x="30240" y="355680"/>
            <a:ext cx="10364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ésurrection EBF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BF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union FBF du 12/10/99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0B8-1C1E-4802-A1F9-1C8670D00B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 »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and information flows in management systems compared in 4 actual chemical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88.01 production information management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of Recipes General=&gt;Site=&gt;Master=&gt;Control rec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G disb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E8A-56D7-467D-BE36-8C64A4B5D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cheduling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ipe Management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larify the functions, information and data flow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to automatically generate control recipes and execution recipes from the results of scheduling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firm the concept regarding recipe laye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rify the relation between recipe management and information used in schedul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rify functions of schedul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scheduling software available in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information necessary for control recipe and execution re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314-6259-4A4E-8A8E-77FF33C94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 Handling in Re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ollect and analyze the so-called :exceptions” and abnorma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” often seen in batch processes and consider how to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corporate them in respective level of rec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exceptions and abnormal conditions in actual projects (case stu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actual HAZOP results (case stu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egorize the above and define the research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the conventional handling methods and Sp88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adoption in normal recipe manage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eld-test by applying certain recipe management software in target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and evaluate the applic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FA4-6194-40DE-8E45-4CF551F49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tch Control Standardization and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translate SP88 (S88.01) into Japanese for the later “JIS”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 Industrial Standard) efforts, and also make a standard library of unit-specific sequence control proced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 ANSI/ISA S88.01 into 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a typical process based on P&amp;ID according to S88.01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st S88.01 defined “Units” (=unit operations in batch proc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standardized measurement and control systems for each “Un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ke up standard library of unit-specific sequence contro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 the specification requirements to integrated development environment for batch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A9-B78A-40E3-93CF-8C1E2C8848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WBF/EBF cooperat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»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contact at all---Ha, WBF?  What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/28/9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cal meeting with Bill W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BF ’9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o JBF attendees, JBF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BF ’9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JBF attendees, two technical papers, JBF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/28/9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BF session inviting Dave Em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BF Newslett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Japan Batch Forum Update” article in each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BF ’9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ven JBF attendees, three technical papers, JBF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nd closer cooperatio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32F-C5B9-44ED-ACD7-08E3853AA0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BF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TCI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WG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Tch Control Information Manufacturing Engineering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bjecti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finir l'intégration du "Contrôle Batch" et du MES (Manufacturing Execution Syst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flexion actuellement couverte par le comité ISA SP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 était dirigé par le Dr Guido Carlo-Stella disparu en fin de l'année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Situation actuelle in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97E-6895-4E85-802F-E939701EC2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 Modelling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G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bject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èmes de la norme S88.02 en cours de publ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igé par Niels Haxthausen, un des "piliers" du comité SP8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Semble déman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76C-113C-4411-AA17-2577D2F0B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88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.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tens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WG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tension de la norme S88 aux procédés discrets et contin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igé par Francis Lov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Toujours a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CE9-6DBA-4E5C-BEAA-181E45F9AF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BF «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IMUG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WG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bjecti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dier l'impact de l‘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mentation intelligente" sur le control des procédés Batc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rigé par Ruben G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Semble déman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42C-B398-4966-B304-12FC9F57A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ésurrection EB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ggéré Niel Haxthausen au prin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ité WBF pour la résurection de l’ E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ll Wray (Ax Chair WBF, Chair S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ish G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m Fisher (Chair WBF, rédacteur S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ynn Craig (Ex Chair WBF, Chair S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ckael Saucier (Ex Chair WBF, Fondate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3BE-C48C-4B37-8089-26F52C4D1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at EB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uido Carlo Stella (</a:t>
            </a:r>
            <a:r>
              <a:rPr b="0" lang="fr-FR" sz="2800" spc="-1" strike="noStrike">
                <a:solidFill>
                  <a:srgbClr val="000000"/>
                </a:solidFill>
                <a:latin typeface="Bookshelf Symbol 2"/>
                <a:ea typeface="Bookshelf Symbol 2"/>
              </a:rPr>
              <a:t>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els Haxthau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y Ray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is Lo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 répondent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’activités visibles de l’extéri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G = rencontres de bar entre cop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E9A-92A6-4F2C-A735-8FC049B3EE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ggestions du com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tat de la participation effective des membres EBF aux conférences W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prise de l’ « actif » EBF par le WBf (liste des me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férence annuelle en autom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pport direct de la logistique par l’administration WBF dans un premier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31A-674B-4974-8A97-8A32C6647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sition FB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position de soutien pour la con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ggestion de la Côte d’Azur comme lieu de la prochaine con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lontaires pour a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ande d’une définition plus précise de la position des groupes locaux / EBF-W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ande d’homogénéisation des groupes de travail (n’existent pas au WB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536-5B80-40F2-BD6F-58A7DD5E87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ù en est-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laration d’intention du WBF le 3/08/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union EBF vers le 17/09/99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3 personnes (uk, ir, ge, nl, d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cisions sur la confé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s suggestions ignorées (non comuniquées par Ni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cad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ter Iles Smith (Yokogawa) comme président de la con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ick Taylor (FRCO) gère la liaison administrative WBF-E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act pris avec PIS le 20, mais sans grande ré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de nouvelles depuis. Processus 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CF3-03C0-4119-8D2F-A95D3E082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roupes de trav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pes actifs au sein de l’EBF et du J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connexion entre 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de rapports aux conférences W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retombées sur le développement des normes S88 et S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EE6-7584-4066-99C3-2B33E6082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 »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ze the present status of batch processes. 320 questionnaires, 105 repl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line of the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quent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ulator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-machin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cation of th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duction planning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blems related to instrumentation systems and new functions which plants required to be aquipped with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port issued – WG disb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63A-C855-4A7E-A590-9BCB858CEF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BF « 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 »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ent status and problems in Batch Pla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emical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rumentation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less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ign procedure for Batch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used at each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uter Aided Design of Batch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ort issued – WG disb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D23-4CE2-426B-85C6-5199BEB77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22:07Z</dcterms:created>
  <dc:creator>Gregory A. Noll</dc:creator>
  <dc:description/>
  <dc:language>en-US</dc:language>
  <cp:lastModifiedBy>Jean Vieille</cp:lastModifiedBy>
  <dcterms:modified xsi:type="dcterms:W3CDTF">1999-10-11T16:46:49Z</dcterms:modified>
  <cp:revision>21</cp:revision>
  <dc:subject/>
  <dc:title>No Slide Title</dc:title>
</cp:coreProperties>
</file>